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E831-F1C4-402C-BFAF-8EF2C8CD5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B3A-6E9F-44FD-A75D-0ACFB1CA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89D-497A-41D0-808D-E6BB3BFE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65FD-A1F3-43CE-86BA-FB4A335E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7B3E-268B-4F61-8505-B09A8B464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1F1-3809-49B1-B148-22843C0B3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3BE-E2DE-4B98-855B-192C4F9E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185C-3C1D-4C6B-9E0B-F63B29AA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047F-02B5-42FC-8AF8-AF359D3E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1A1E-F435-47BE-B84B-B8B29E51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F760-1DD4-4818-A852-F8EBAC82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10D-4785-48BD-A83C-CC731C08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363C-BA29-4429-8EDF-B4BEC86626D7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462360" y="85867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8555040"/>
            <a:ext cx="5251320" cy="360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ording to Law 23, director may adjust score if a mandatory Pass damages non-offe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ide, and he deems that the offender could have known this at the time of the irregularit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23880" y="2603520"/>
            <a:ext cx="444600" cy="291960"/>
          </a:xfrm>
          <a:prstGeom prst="octagon">
            <a:avLst>
              <a:gd name="adj" fmla="val 2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838080"/>
            <a:ext cx="444600" cy="29232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838080"/>
            <a:ext cx="1676520" cy="38124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advertent call correc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ithout pause for thought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28560" y="144792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295280"/>
            <a:ext cx="1523880" cy="38124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’s partn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de a subsequent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440" y="12193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99480" y="16765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76560" y="1295280"/>
            <a:ext cx="976320" cy="3049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s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560" y="120636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5320" y="1600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907880" y="152388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4120" y="1295280"/>
            <a:ext cx="106668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stands with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981080"/>
            <a:ext cx="106668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57400" y="2616120"/>
            <a:ext cx="1357200" cy="2793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ther changes of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447920"/>
            <a:ext cx="1524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1447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95680" y="16002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10080" y="22096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2971800"/>
            <a:ext cx="1434960" cy="5461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ntended his call 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at offender ’s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67280" y="3429000"/>
            <a:ext cx="151776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LHO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draw his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3822840"/>
            <a:ext cx="1523880" cy="36828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oe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cept 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4197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is cancel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160" y="373392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160" y="29718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520" y="289548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99680" y="406404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02920" y="327672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84000" y="356868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84000" y="417816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9520" y="3200400"/>
            <a:ext cx="3081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65160" y="3505320"/>
            <a:ext cx="334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363920" y="3200400"/>
            <a:ext cx="6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95680" y="3505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3962520"/>
            <a:ext cx="1511280" cy="52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00800" y="4584600"/>
            <a:ext cx="685800" cy="216000"/>
          </a:xfrm>
          <a:custGeom>
            <a:avLst/>
            <a:gdLst>
              <a:gd name="textAreaLeft" fmla="*/ 0 w 685800"/>
              <a:gd name="textAreaRight" fmla="*/ 686160 w 6858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3048120"/>
            <a:ext cx="1523880" cy="52056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s offender ’s LH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ed before attention 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drawn to the infrac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3276720"/>
            <a:ext cx="6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909880" y="3809880"/>
            <a:ext cx="14479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ithout penal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967280" y="2971800"/>
            <a:ext cx="152388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 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4876920"/>
            <a:ext cx="1523880" cy="3045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as 1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call leg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257800"/>
            <a:ext cx="596880" cy="291960"/>
          </a:xfrm>
          <a:prstGeom prst="octagon">
            <a:avLst>
              <a:gd name="adj" fmla="val 2207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92880" y="5257800"/>
            <a:ext cx="596880" cy="291960"/>
          </a:xfrm>
          <a:prstGeom prst="octagon">
            <a:avLst>
              <a:gd name="adj" fmla="val 2416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6172200"/>
            <a:ext cx="1600200" cy="36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ust pa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when next it is his tur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79132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2680" y="51688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3160" y="4800600"/>
            <a:ext cx="280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5280" y="5016600"/>
            <a:ext cx="37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90480" y="5245200"/>
            <a:ext cx="321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5118120"/>
            <a:ext cx="1282680" cy="29196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offend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62320" y="60706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52880" y="6159600"/>
            <a:ext cx="1524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idding procee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495288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9132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7074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352680" y="600696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70740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51688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57800" y="5168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8320" y="4952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5181480"/>
            <a:ext cx="0" cy="97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6781680"/>
            <a:ext cx="609840" cy="216000"/>
          </a:xfrm>
          <a:custGeom>
            <a:avLst/>
            <a:gdLst>
              <a:gd name="textAreaLeft" fmla="*/ 0 w 609840"/>
              <a:gd name="textAreaRight" fmla="*/ 610200 w 60984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91120" y="6692760"/>
            <a:ext cx="7617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95680" y="669276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6311880"/>
            <a:ext cx="228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655308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74720" y="6159600"/>
            <a:ext cx="1511280" cy="39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applic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law preva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6540480"/>
            <a:ext cx="160020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2880" y="6540480"/>
            <a:ext cx="152424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72262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76360" y="76834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7636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7315200"/>
            <a:ext cx="15177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ing side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 no score gr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an average min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7848720"/>
            <a:ext cx="1517760" cy="533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n-offending 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receives the sco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achieved at ta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370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5268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191120" y="7467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7696080"/>
            <a:ext cx="2653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7149960"/>
            <a:ext cx="2728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7238880"/>
            <a:ext cx="152388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7772400"/>
            <a:ext cx="15238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08240" y="8242200"/>
            <a:ext cx="596880" cy="216000"/>
          </a:xfrm>
          <a:custGeom>
            <a:avLst/>
            <a:gdLst>
              <a:gd name="textAreaLeft" fmla="*/ 0 w 596880"/>
              <a:gd name="textAreaRight" fmla="*/ 597240 w 59688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8153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7620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90920" y="7238880"/>
            <a:ext cx="1600200" cy="381240"/>
          </a:xfrm>
          <a:prstGeom prst="roundRect">
            <a:avLst>
              <a:gd name="adj" fmla="val 12412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of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becomes a defen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777240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i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have a lead pen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362320" y="6324480"/>
            <a:ext cx="0" cy="221004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905120"/>
            <a:ext cx="15238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743200" y="1752480"/>
            <a:ext cx="151128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Offender ’s partner ma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not use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from the withdrawn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0760" y="2362320"/>
            <a:ext cx="685800" cy="215640"/>
          </a:xfrm>
          <a:custGeom>
            <a:avLst/>
            <a:gdLst>
              <a:gd name="textAreaLeft" fmla="*/ 0 w 685800"/>
              <a:gd name="textAreaRight" fmla="*/ 686160 w 6858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441" y="0"/>
                </a:lnTo>
                <a:lnTo>
                  <a:pt x="21600" y="10800"/>
                </a:lnTo>
                <a:lnTo>
                  <a:pt x="1644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w 16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8120" y="4648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00200" y="1676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38280" y="20574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2286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9907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7558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91320" y="4495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3276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91320" y="38098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93720" y="35812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93720" y="4191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438280"/>
            <a:ext cx="2057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666880" y="2666880"/>
            <a:ext cx="3810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66880" y="2438280"/>
            <a:ext cx="0" cy="22860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95680" y="762120"/>
            <a:ext cx="18925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The director must first dec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if case 1 or case 2 appl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81280" y="5651640"/>
            <a:ext cx="152388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 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s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l st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2880" y="5651640"/>
            <a:ext cx="1517760" cy="368280"/>
          </a:xfrm>
          <a:prstGeom prst="octagon">
            <a:avLst>
              <a:gd name="adj" fmla="val 25829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Make an other c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(including 2</a:t>
            </a:r>
            <a:r>
              <a:rPr b="0" lang="fr-CA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fr-CA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5562720"/>
            <a:ext cx="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4038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-44280" bIns="-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582912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Arial"/>
              </a:rPr>
              <a:t>Law 25: Legal and Illegal Changes of C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3T05:29:55Z</dcterms:created>
  <dc:creator>Laval Dubreuil</dc:creator>
  <dc:description/>
  <dc:language>en-US</dc:language>
  <cp:lastModifiedBy>Per Nordland</cp:lastModifiedBy>
  <dcterms:modified xsi:type="dcterms:W3CDTF">2002-07-14T21:50:26Z</dcterms:modified>
  <cp:revision>3</cp:revision>
  <dc:subject/>
  <dc:title>Présentation PowerPoint</dc:title>
</cp:coreProperties>
</file>