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D32B-AA0B-43D5-A074-55C166EC5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DF8-AFC8-476D-BB11-42CDC159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E05B-18CD-41E5-8901-992AB0288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DFDD-886C-4FFC-B8B3-F5832A4A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21C5-5273-439D-801D-91319615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ADF0-9367-4AA2-BEFB-031B04AF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C5FD-38E2-498C-B940-BB3D772E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689E-6B3C-457C-A9AE-4B6D09C4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7E6-AC4F-496D-8E10-14AEDB0C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CFD-D3E5-488E-B05A-2B95C1C2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A6E0-F91D-455D-9F92-491AD6C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19AD-E36A-4DEC-BA60-BE91AE4B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E21B-DB7C-4344-8B33-C2AAC9A0C85F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8.html#law26" TargetMode="External"/><Relationship Id="rId2" Type="http://schemas.openxmlformats.org/officeDocument/2006/relationships/hyperlink" Target="http://www.acbl.org/info/laws97/node8.html#law25" TargetMode="External"/><Relationship Id="rId3" Type="http://schemas.openxmlformats.org/officeDocument/2006/relationships/hyperlink" Target="http://www.acbl.org/info/laws97/node8.html#law25" TargetMode="External"/><Relationship Id="rId4" Type="http://schemas.openxmlformats.org/officeDocument/2006/relationships/hyperlink" Target="http://www.acbl.org/info/laws97/node8.html#law23" TargetMode="External"/><Relationship Id="rId5" Type="http://schemas.openxmlformats.org/officeDocument/2006/relationships/hyperlink" Target="http://www.acbl.org/info/laws97/node8.html#law26" TargetMode="External"/><Relationship Id="rId6" Type="http://schemas.openxmlformats.org/officeDocument/2006/relationships/slide" Target=""/><Relationship Id="rId7" Type="http://schemas.openxmlformats.org/officeDocument/2006/relationships/hyperlink" Target="http://www.acbl.org/info/laws97/node7.html#law16" TargetMode="External"/><Relationship Id="rId8" Type="http://schemas.openxmlformats.org/officeDocument/2006/relationships/hyperlink" Target="http://www.acbl.org/info/laws97/node8.html#law31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acbl.org/info/laws97/node9.html#law50" TargetMode="External"/><Relationship Id="rId2" Type="http://schemas.openxmlformats.org/officeDocument/2006/relationships/hyperlink" Target="http://www.acbl.org/info/laws97/node7.html#law16" TargetMode="External"/><Relationship Id="rId3" Type="http://schemas.openxmlformats.org/officeDocument/2006/relationships/hyperlink" Target="http://www.acbl.org/info/laws97/node9.html#law43" TargetMode="External"/><Relationship Id="rId4" Type="http://schemas.openxmlformats.org/officeDocument/2006/relationships/hyperlink" Target="http://www.acbl.org/info/laws97/node7.html#law16" TargetMode="External"/><Relationship Id="rId5" Type="http://schemas.openxmlformats.org/officeDocument/2006/relationships/hyperlink" Target="http://www.acbl.org/info/laws97/node7.html#law12" TargetMode="External"/><Relationship Id="rId6" Type="http://schemas.openxmlformats.org/officeDocument/2006/relationships/hyperlink" Target="http://www.acbl.org/info/laws97/node7.html#law12" TargetMode="External"/><Relationship Id="rId7" Type="http://schemas.openxmlformats.org/officeDocument/2006/relationships/hyperlink" Target="http://www.acbl.org/info/laws97/node9.html#law62" TargetMode="Externa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228600"/>
            <a:ext cx="58291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5829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9625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35120" y="5270400"/>
            <a:ext cx="596880" cy="228600"/>
          </a:xfrm>
          <a:prstGeom prst="octagon">
            <a:avLst>
              <a:gd name="adj" fmla="val 2760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7040" y="3289320"/>
            <a:ext cx="3346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371600" y="41403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39751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768760"/>
            <a:ext cx="1143000" cy="29196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3759120"/>
            <a:ext cx="114300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R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3759120"/>
            <a:ext cx="113652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962520" y="3759120"/>
            <a:ext cx="106668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8240" y="4673520"/>
            <a:ext cx="10605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79840" y="4673520"/>
            <a:ext cx="1434960" cy="216000"/>
          </a:xfrm>
          <a:prstGeom prst="octagon">
            <a:avLst>
              <a:gd name="adj" fmla="val 1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HO now bid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71600" y="45086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727600"/>
            <a:ext cx="1289160" cy="9018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denomi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 the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t any legal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30560" y="5727600"/>
            <a:ext cx="1206360" cy="914400"/>
          </a:xfrm>
          <a:prstGeom prst="octagon">
            <a:avLst>
              <a:gd name="adj" fmla="val 14926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 bid in 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denominati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ass, X or X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810252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890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89000" y="7937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6781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6756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429000" y="6794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160" y="5181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4127400"/>
            <a:ext cx="10666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reviously call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58760" y="405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58960" y="1536840"/>
            <a:ext cx="1663560" cy="37440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 ca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fter the out of turn bi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35120" y="175896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3880" y="17524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120" y="1447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146320"/>
            <a:ext cx="1663920" cy="3808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out of turn bid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600" y="236844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36280" y="25146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93360" y="23623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600" y="20574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2755800"/>
            <a:ext cx="15238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uction reverts to play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os turn it was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76520" y="1917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1463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120" y="19051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2755800"/>
            <a:ext cx="137160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28932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62320" y="3365640"/>
            <a:ext cx="4442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365640"/>
            <a:ext cx="44460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4280040"/>
            <a:ext cx="609840" cy="22860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.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8240" y="6121440"/>
            <a:ext cx="11368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peat his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6870600"/>
            <a:ext cx="11430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no restri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70200" y="6870600"/>
            <a:ext cx="12826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 nex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240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428004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70400" y="6121440"/>
            <a:ext cx="120672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, when h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to call,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y legal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264280" y="6870600"/>
            <a:ext cx="12128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ust pass when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is his turn to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1760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1616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29000" y="4508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71600" y="48895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29000" y="4889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71600" y="41274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9092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397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720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3594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448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82744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76520" y="2527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29084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14800" y="290844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3060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9092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32893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8840" y="42800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1280" y="4495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43400" y="48132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 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5086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2744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62120" y="8458200"/>
            <a:ext cx="525780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23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7391520"/>
            <a:ext cx="0" cy="10666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5270400"/>
            <a:ext cx="13716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the out of turn call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nventionnal Pass 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371600" y="56516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35880" y="54100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371240" y="565164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200400" y="1523880"/>
            <a:ext cx="1295280" cy="38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64280" y="7480440"/>
            <a:ext cx="1212840" cy="36828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64280" y="8013600"/>
            <a:ext cx="1212840" cy="330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43600" y="7861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43600" y="6642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7099200"/>
            <a:ext cx="304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82744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740412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74041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133720" y="542304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19520" y="519444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1952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7080" y="519444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1952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2670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709920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44560" y="774720"/>
            <a:ext cx="1663560" cy="520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id an </a:t>
            </a: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pponen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, wh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urn it was, call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rotation bid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5080" y="685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2900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572000" y="8089920"/>
            <a:ext cx="596880" cy="216000"/>
          </a:xfrm>
          <a:custGeom>
            <a:avLst/>
            <a:gdLst>
              <a:gd name="textAreaLeft" fmla="*/ 360 w 596880"/>
              <a:gd name="textAreaRight" fmla="*/ 59760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49" y="0"/>
                </a:lnTo>
                <a:lnTo>
                  <a:pt x="21600" y="10800"/>
                </a:lnTo>
                <a:lnTo>
                  <a:pt x="1534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181480" y="82422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7652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120" y="12952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762120"/>
            <a:ext cx="129528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ut of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768240"/>
            <a:ext cx="12952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no penalt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76920" y="1523880"/>
            <a:ext cx="143496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out of turn b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257800" y="214632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2070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1295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514600" y="1066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513880" y="10666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24120" y="8794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82948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Law 31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: Bid 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(or conventionnal pass)</a:t>
            </a: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 Out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14440" y="8337600"/>
            <a:ext cx="142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343240" y="8337600"/>
            <a:ext cx="2171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8240" y="2673360"/>
            <a:ext cx="1670040" cy="5270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named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nex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55760" y="2108160"/>
            <a:ext cx="974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82840" y="4737240"/>
            <a:ext cx="2660760" cy="3682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ow many tricks were won by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including revoke and subsequent tricks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4560" y="4446720"/>
            <a:ext cx="3110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3056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28480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2520" y="542304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42900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60960" y="5867280"/>
            <a:ext cx="0" cy="212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44760" y="6458040"/>
            <a:ext cx="749160" cy="215640"/>
          </a:xfrm>
          <a:custGeom>
            <a:avLst/>
            <a:gdLst>
              <a:gd name="textAreaLeft" fmla="*/ 0 w 749160"/>
              <a:gd name="textAreaRight" fmla="*/ 749520 w 74916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Law 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798840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130560" y="8007480"/>
            <a:ext cx="520560" cy="444240"/>
          </a:xfrm>
          <a:prstGeom prst="octagon">
            <a:avLst>
              <a:gd name="adj" fmla="val 25801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338800" y="5546880"/>
            <a:ext cx="1081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92720" y="6464160"/>
            <a:ext cx="24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21320" y="6469200"/>
            <a:ext cx="0" cy="13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1480" y="619776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562360" y="66549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320" y="72388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827600" y="6216480"/>
            <a:ext cx="1359000" cy="412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CA" sz="1000" spc="-1" strike="noStrike">
                <a:solidFill>
                  <a:srgbClr val="000000"/>
                </a:solidFill>
                <a:latin typeface="Arial"/>
              </a:rPr>
              <a:t>Offender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(not partn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on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2900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83240" y="5262480"/>
            <a:ext cx="0" cy="1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12280" y="19940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26880" y="4648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571640" y="612144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71640" y="68580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000" y="76201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8240" y="3435480"/>
            <a:ext cx="1670040" cy="5205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either member o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r accepted a claim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8240" y="2082960"/>
            <a:ext cx="1670040" cy="27936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revoke on 1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8240" y="4203720"/>
            <a:ext cx="1670040" cy="216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 is not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978280" y="2057400"/>
            <a:ext cx="151128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re all 4 hands b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 the boar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56200" y="3124080"/>
            <a:ext cx="14349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e may not choos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 possib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ggested by the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71800" y="267984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8240" y="4406760"/>
            <a:ext cx="1670040" cy="39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ust corr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revo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8240" y="5029200"/>
            <a:ext cx="1670040" cy="469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s played after 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ay be replac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12280" y="3340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12280" y="2590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68400" y="19810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3662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440800" y="22352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440800" y="36450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40800" y="2882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736080" y="24382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84000" y="23493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584000" y="39495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84000" y="3187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479480" y="21970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95280" y="7785000"/>
            <a:ext cx="1752840" cy="749520"/>
          </a:xfrm>
          <a:prstGeom prst="rightArrow">
            <a:avLst>
              <a:gd name="adj1" fmla="val 50000"/>
              <a:gd name="adj2" fmla="val 5803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umber of tricks transferred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o 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2887560"/>
            <a:ext cx="0" cy="77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056200" y="2057400"/>
            <a:ext cx="14349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must b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56200" y="2654280"/>
            <a:ext cx="1434960" cy="3175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 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n play 2 legal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00600" y="259092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62120" y="6242040"/>
            <a:ext cx="1593720" cy="59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ll cards exposed 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ing side a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jor penalty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523880" y="5499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388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12640" y="621036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35520" y="243828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048120" y="367020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782964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8240" y="5715000"/>
            <a:ext cx="1670040" cy="30492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 i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12640" y="563868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4720" y="7067520"/>
            <a:ext cx="1587600" cy="552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exposed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3880" y="6851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7130880"/>
            <a:ext cx="749520" cy="216000"/>
          </a:xfrm>
          <a:custGeom>
            <a:avLst/>
            <a:gdLst>
              <a:gd name="textAreaLeft" fmla="*/ 0 w 749520"/>
              <a:gd name="textAreaRight" fmla="*/ 749880 w 74952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733920" y="2438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4340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 stands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276720" y="4038480"/>
            <a:ext cx="15112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t may no lon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276720" y="3809880"/>
            <a:ext cx="15112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 is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791320" y="7835760"/>
            <a:ext cx="6300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21120" y="304812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2209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2209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3880" y="2374920"/>
            <a:ext cx="1800" cy="29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23880" y="397512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2360" y="4127400"/>
            <a:ext cx="782640" cy="216000"/>
          </a:xfrm>
          <a:custGeom>
            <a:avLst/>
            <a:gdLst>
              <a:gd name="textAreaLeft" fmla="*/ 0 w 782640"/>
              <a:gd name="textAreaRight" fmla="*/ 783000 w 7826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Law 43B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780080" y="42163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429000" y="525780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0960" y="51055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260960" y="5257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8480" y="458460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62720" y="762012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120" y="1460520"/>
            <a:ext cx="1676160" cy="38088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a member of 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 called on the next de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523880" y="1841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2400" y="13842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43828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523880" y="32004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715000" y="29718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120" y="838080"/>
            <a:ext cx="1676160" cy="381240"/>
          </a:xfrm>
          <a:prstGeom prst="roundRect">
            <a:avLst>
              <a:gd name="adj" fmla="val 12468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attention drawn af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round has end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38280" y="9907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3160" y="7621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3880" y="121932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84000" y="18288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599840" y="12193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40800" y="16002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61600" y="990720"/>
            <a:ext cx="414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38280" y="28954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38280" y="365760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10080" y="3733920"/>
            <a:ext cx="762120" cy="215640"/>
          </a:xfrm>
          <a:custGeom>
            <a:avLst/>
            <a:gdLst>
              <a:gd name="textAreaLeft" fmla="*/ 0 w 762120"/>
              <a:gd name="textAreaRight" fmla="*/ 762480 w 7621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71500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800600" y="838080"/>
            <a:ext cx="166356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penalty is assessed 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revoke by the s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r in the same suit 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or failure to play any faced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, including dummy ’s.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62320" y="72453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362320" y="655956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92280" y="8564400"/>
            <a:ext cx="5632200" cy="42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* Director shall assign an adjusted score (see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Law </a:t>
            </a:r>
            <a:r>
              <a:rPr b="0" lang="fr-CA" sz="1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12C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 when he deems that after any establish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voke, including those not subject to penalty, the non offending side is insufficiently compensa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83808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71800" y="1447920"/>
            <a:ext cx="151776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ricks stand as play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 revoke penalty 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00600" y="6934320"/>
            <a:ext cx="1523880" cy="672840"/>
          </a:xfrm>
          <a:prstGeom prst="roundRect">
            <a:avLst>
              <a:gd name="adj" fmla="val 1238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 made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ubsequent trick with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rd that could have b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layed to the revoke tric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4419720" y="7238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419720" y="72388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66294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89200" y="8794800"/>
            <a:ext cx="391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582912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Laws 62 to 64</a:t>
            </a: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: The Revo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2T21:43:16Z</dcterms:created>
  <dc:creator>Infocentre</dc:creator>
  <dc:description/>
  <dc:language>en-US</dc:language>
  <cp:lastModifiedBy>Per Nordland</cp:lastModifiedBy>
  <dcterms:modified xsi:type="dcterms:W3CDTF">2002-07-14T21:50:09Z</dcterms:modified>
  <cp:revision>13</cp:revision>
  <dc:subject/>
  <dc:title>Aucun titre de diapositiv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es documents\Laval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