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233.xml.rels" ContentType="application/vnd.openxmlformats-package.relationships+xml"/>
  <Override PartName="/ppt/slides/_rels/slide228.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251.xml.rels" ContentType="application/vnd.openxmlformats-package.relationships+xml"/>
  <Override PartName="/ppt/slides/_rels/slide130.xml.rels" ContentType="application/vnd.openxmlformats-package.relationships+xml"/>
  <Override PartName="/ppt/slides/_rels/slide11.xml.rels" ContentType="application/vnd.openxmlformats-package.relationships+xml"/>
  <Override PartName="/ppt/slides/_rels/slide62.xml.rels" ContentType="application/vnd.openxmlformats-package.relationships+xml"/>
  <Override PartName="/ppt/slides/_rels/slide183.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14.xml.rels" ContentType="application/vnd.openxmlformats-package.relationships+xml"/>
  <Override PartName="/ppt/slides/_rels/slide46.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152.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0.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131.xml.rels" ContentType="application/vnd.openxmlformats-package.relationships+xml"/>
  <Override PartName="/ppt/slides/_rels/slide127.xml.rels" ContentType="application/vnd.openxmlformats-package.relationships+xml"/>
  <Override PartName="/ppt/slides/_rels/slide60.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59.xml.rels" ContentType="application/vnd.openxmlformats-package.relationships+xml"/>
  <Override PartName="/ppt/slides/_rels/slide125.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250.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77.xml.rels" ContentType="application/vnd.openxmlformats-package.relationships+xml"/>
  <Override PartName="/ppt/slides/_rels/slide102.xml.rels" ContentType="application/vnd.openxmlformats-package.relationships+xml"/>
  <Override PartName="/ppt/slides/_rels/slide259.xml.rels" ContentType="application/vnd.openxmlformats-package.relationships+xml"/>
  <Override PartName="/ppt/slides/_rels/slide79.xml.rels" ContentType="application/vnd.openxmlformats-package.relationships+xml"/>
  <Override PartName="/ppt/slides/_rels/slide75.xml.rels" ContentType="application/vnd.openxmlformats-package.relationships+xml"/>
  <Override PartName="/ppt/slides/_rels/slide80.xml.rels" ContentType="application/vnd.openxmlformats-package.relationships+xml"/>
  <Override PartName="/ppt/slides/_rels/slide108.xml.rels" ContentType="application/vnd.openxmlformats-package.relationships+xml"/>
  <Override PartName="/ppt/slides/_rels/slide113.xml.rels" ContentType="application/vnd.openxmlformats-package.relationships+xml"/>
  <Override PartName="/ppt/slides/_rels/slide255.xml.rels" ContentType="application/vnd.openxmlformats-package.relationships+xml"/>
  <Override PartName="/ppt/slides/_rels/slide260.xml.rels" ContentType="application/vnd.openxmlformats-package.relationships+xml"/>
  <Override PartName="/ppt/slides/_rels/slide67.xml.rels" ContentType="application/vnd.openxmlformats-package.relationships+xml"/>
  <Override PartName="/ppt/slides/_rels/slide247.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262.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60.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24.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78.xml.rels" ContentType="application/vnd.openxmlformats-package.relationships+xml"/>
  <Override PartName="/ppt/slides/_rels/slide258.xml.rels" ContentType="application/vnd.openxmlformats-package.relationships+xml"/>
  <Override PartName="/ppt/slides/_rels/slide14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245.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3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82.xml.rels" ContentType="application/vnd.openxmlformats-package.relationships+xml"/>
  <Override PartName="/ppt/slides/_rels/slide203.xml.rels" ContentType="application/vnd.openxmlformats-package.relationships+xml"/>
  <Override PartName="/ppt/slides/_rels/slide132.xml.rels" ContentType="application/vnd.openxmlformats-package.relationships+xml"/>
  <Override PartName="/ppt/slides/_rels/slide63.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43.xml.rels" ContentType="application/vnd.openxmlformats-package.relationships+xml"/>
  <Override PartName="/ppt/slides/_rels/slide97.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54.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3.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3.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2.xml.rels" ContentType="application/vnd.openxmlformats-package.relationships+xml"/>
  <Override PartName="/ppt/slides/_rels/slide120.xml.rels" ContentType="application/vnd.openxmlformats-package.relationships+xml"/>
  <Override PartName="/ppt/slides/_rels/slide212.xml.rels" ContentType="application/vnd.openxmlformats-package.relationships+xml"/>
  <Override PartName="/ppt/slides/_rels/slide1.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09.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0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252.xml.rels" ContentType="application/vnd.openxmlformats-package.relationships+xml"/>
  <Override PartName="/ppt/slides/_rels/slide171.xml.rels" ContentType="application/vnd.openxmlformats-package.relationships+xml"/>
  <Override PartName="/ppt/slides/_rels/slide170.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_rels/slide142.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139.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205.xml.rels" ContentType="application/vnd.openxmlformats-package.relationships+xml"/>
  <Override PartName="/ppt/slides/_rels/slide184.xml.rels" ContentType="application/vnd.openxmlformats-package.relationships+xml"/>
  <Override PartName="/ppt/slides/_rels/slide210.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159.xml.rels" ContentType="application/vnd.openxmlformats-package.relationships+xml"/>
  <Override PartName="/ppt/slides/_rels/slide185.xml.rels" ContentType="application/vnd.openxmlformats-package.relationships+xml"/>
  <Override PartName="/ppt/slides/_rels/slide190.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_rels/slide206.xml.rels" ContentType="application/vnd.openxmlformats-package.relationships+xml"/>
  <Override PartName="/ppt/slides/_rels/slide36.xml.rels" ContentType="application/vnd.openxmlformats-package.relationships+xml"/>
  <Override PartName="/ppt/slides/_rels/slide4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172.xml.rels" ContentType="application/vnd.openxmlformats-package.relationships+xml"/>
  <Override PartName="/ppt/slides/_rels/slide177.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8.xml.rels" ContentType="application/vnd.openxmlformats-package.relationships+xml"/>
  <Override PartName="/ppt/slides/_rels/slide238.xml.rels" ContentType="application/vnd.openxmlformats-package.relationships+xml"/>
  <Override PartName="/ppt/slides/_rels/slide243.xml.rels" ContentType="application/vnd.openxmlformats-package.relationships+xml"/>
  <Override PartName="/ppt/slides/_rels/slide51.xml.rels" ContentType="application/vnd.openxmlformats-package.relationships+xml"/>
  <Override PartName="/ppt/slides/_rels/slide179.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6.xml.rels" ContentType="application/vnd.openxmlformats-package.relationships+xml"/>
  <Override PartName="/ppt/slides/_rels/slide31.xml.rels" ContentType="application/vnd.openxmlformats-package.relationships+xml"/>
  <Override PartName="/ppt/slides/_rels/slide218.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242.xml" ContentType="application/vnd.openxmlformats-officedocument.presentationml.slide+xml"/>
  <Override PartName="/ppt/slides/slide6.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241.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245.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240.xml" ContentType="application/vnd.openxmlformats-officedocument.presentationml.slide+xml"/>
  <Override PartName="/ppt/slides/slide4.xml" ContentType="application/vnd.openxmlformats-officedocument.presentationml.slide+xml"/>
  <Override PartName="/ppt/slides/slide244.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19.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90.xml" ContentType="application/vnd.openxmlformats-officedocument.presentationml.slide+xml"/>
  <Override PartName="/ppt/slides/slide12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260.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91.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261.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118.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262.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70.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101.xml" ContentType="application/vnd.openxmlformats-officedocument.presentationml.slide+xml"/>
  <Override PartName="/ppt/slides/slide100.xml" ContentType="application/vnd.openxmlformats-officedocument.presentationml.slide+xml"/>
  <Override PartName="/ppt/slides/slide66.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166.xml" ContentType="application/vnd.openxmlformats-officedocument.presentationml.slide+xml"/>
  <Override PartName="/ppt/slides/slide204.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206.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7.xml" ContentType="application/vnd.openxmlformats-officedocument.presentationml.slide+xml"/>
  <Override PartName="/ppt/slides/slide42.xml" ContentType="application/vnd.openxmlformats-officedocument.presentationml.slide+xml"/>
  <Override PartName="/ppt/slides/slide208.xml" ContentType="application/vnd.openxmlformats-officedocument.presentationml.slide+xml"/>
  <Override PartName="/ppt/slides/slide43.xml" ContentType="application/vnd.openxmlformats-officedocument.presentationml.slide+xml"/>
  <Override PartName="/ppt/slides/slide209.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6.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7.xml" ContentType="application/vnd.openxmlformats-officedocument.presentationml.slide+xml"/>
  <Override PartName="/ppt/slides/slide52.xml" ContentType="application/vnd.openxmlformats-officedocument.presentationml.slide+xml"/>
  <Override PartName="/ppt/slides/slide218.xml" ContentType="application/vnd.openxmlformats-officedocument.presentationml.slide+xml"/>
  <Override PartName="/ppt/slides/slide53.xml" ContentType="application/vnd.openxmlformats-officedocument.presentationml.slide+xml"/>
  <Override PartName="/ppt/slides/slide219.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226.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Override PartName="/ppt/slides/slide193.xml" ContentType="application/vnd.openxmlformats-officedocument.presentationml.slide+xml"/>
  <Override PartName="/ppt/slides/slide231.xml" ContentType="application/vnd.openxmlformats-officedocument.presentationml.slide+xml"/>
  <Override PartName="/ppt/slides/slide194.xml" ContentType="application/vnd.openxmlformats-officedocument.presentationml.slide+xml"/>
  <Override PartName="/ppt/slides/slide232.xml" ContentType="application/vnd.openxmlformats-officedocument.presentationml.slide+xml"/>
  <Override PartName="/ppt/slides/slide195.xml" ContentType="application/vnd.openxmlformats-officedocument.presentationml.slide+xml"/>
  <Override PartName="/ppt/slides/slide233.xml" ContentType="application/vnd.openxmlformats-officedocument.presentationml.slide+xml"/>
  <Override PartName="/ppt/slides/slide196.xml" ContentType="application/vnd.openxmlformats-officedocument.presentationml.slide+xml"/>
  <Override PartName="/ppt/slides/slide234.xml" ContentType="application/vnd.openxmlformats-officedocument.presentationml.slide+xml"/>
  <Override PartName="/ppt/slides/slide197.xml" ContentType="application/vnd.openxmlformats-officedocument.presentationml.slide+xml"/>
  <Override PartName="/ppt/slides/slide235.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6.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7.xml" ContentType="application/vnd.openxmlformats-officedocument.presentationml.slide+xml"/>
  <Override PartName="/ppt/slides/slide72.xml" ContentType="application/vnd.openxmlformats-officedocument.presentationml.slide+xml"/>
  <Override PartName="/ppt/slides/slide238.xml" ContentType="application/vnd.openxmlformats-officedocument.presentationml.slide+xml"/>
  <Override PartName="/ppt/slides/slide73.xml" ContentType="application/vnd.openxmlformats-officedocument.presentationml.slide+xml"/>
  <Override PartName="/ppt/slides/slide239.xml" ContentType="application/vnd.openxmlformats-officedocument.presentationml.slide+xml"/>
  <Override PartName="/ppt/slides/slide80.xml" ContentType="application/vnd.openxmlformats-officedocument.presentationml.slide+xml"/>
  <Override PartName="/ppt/slides/slide246.xml" ContentType="application/vnd.openxmlformats-officedocument.presentationml.slide+xml"/>
  <Override PartName="/ppt/slides/slide81.xml" ContentType="application/vnd.openxmlformats-officedocument.presentationml.slide+xml"/>
  <Override PartName="/ppt/slides/slide247.xml" ContentType="application/vnd.openxmlformats-officedocument.presentationml.slide+xml"/>
  <Override PartName="/ppt/slides/slide82.xml" ContentType="application/vnd.openxmlformats-officedocument.presentationml.slide+xml"/>
  <Override PartName="/ppt/slides/slide248.xml" ContentType="application/vnd.openxmlformats-officedocument.presentationml.slide+xml"/>
  <Override PartName="/ppt/slides/slide83.xml" ContentType="application/vnd.openxmlformats-officedocument.presentationml.slide+xml"/>
  <Override PartName="/ppt/slides/slide249.xml" ContentType="application/vnd.openxmlformats-officedocument.presentationml.slide+xml"/>
  <Override PartName="/ppt/slides/slide250.xml" ContentType="application/vnd.openxmlformats-officedocument.presentationml.slide+xml"/>
  <Override PartName="/ppt/slides/slide251.xml" ContentType="application/vnd.openxmlformats-officedocument.presentationml.slide+xml"/>
  <Override PartName="/ppt/slides/slide252.xml" ContentType="application/vnd.openxmlformats-officedocument.presentationml.slide+xml"/>
  <Override PartName="/ppt/slides/slide253.xml" ContentType="application/vnd.openxmlformats-officedocument.presentationml.slide+xml"/>
  <Override PartName="/ppt/slides/slide2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000000"/>
                </a:solidFill>
                <a:latin typeface="Arial"/>
              </a:rPr>
              <a:t>Page </a:t>
            </a:r>
            <a:fld id="{42E4089D-EC27-4CF9-A399-73CA96D966AB}"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50" name="PlaceHolder 1"/>
          <p:cNvSpPr>
            <a:spLocks noGrp="1"/>
          </p:cNvSpPr>
          <p:nvPr>
            <p:ph type="sldImg"/>
          </p:nvPr>
        </p:nvSpPr>
        <p:spPr>
          <a:xfrm>
            <a:off x="961920" y="691920"/>
            <a:ext cx="493416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move the slide</a:t>
            </a:r>
            <a:endParaRPr b="1" i="1" lang="en-US" sz="2800" spc="-1" strike="noStrike">
              <a:solidFill>
                <a:srgbClr val="8080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577" name="PlaceHolder 2"/>
          <p:cNvSpPr>
            <a:spLocks noGrp="1"/>
          </p:cNvSpPr>
          <p:nvPr>
            <p:ph type="sldImg"/>
          </p:nvPr>
        </p:nvSpPr>
        <p:spPr>
          <a:xfrm>
            <a:off x="961920" y="692280"/>
            <a:ext cx="4934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DE90F6-85A9-4E8A-9AB8-5989F7EFEF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4" name="PlaceHolder 2"/>
          <p:cNvSpPr>
            <a:spLocks noGrp="1"/>
          </p:cNvSpPr>
          <p:nvPr>
            <p:ph/>
          </p:nvPr>
        </p:nvSpPr>
        <p:spPr>
          <a:xfrm>
            <a:off x="1072800" y="198108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4AECCB-133A-4815-BF9D-6E4F646639A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7"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29CDF3-4A7C-44B6-9045-68BE9569B20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42" name="PlaceHolder 2"/>
          <p:cNvSpPr>
            <a:spLocks noGrp="1"/>
          </p:cNvSpPr>
          <p:nvPr>
            <p:ph/>
          </p:nvPr>
        </p:nvSpPr>
        <p:spPr>
          <a:xfrm>
            <a:off x="107280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3"/>
          <p:cNvSpPr>
            <a:spLocks noGrp="1"/>
          </p:cNvSpPr>
          <p:nvPr>
            <p:ph/>
          </p:nvPr>
        </p:nvSpPr>
        <p:spPr>
          <a:xfrm>
            <a:off x="369648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4"/>
          <p:cNvSpPr>
            <a:spLocks noGrp="1"/>
          </p:cNvSpPr>
          <p:nvPr>
            <p:ph/>
          </p:nvPr>
        </p:nvSpPr>
        <p:spPr>
          <a:xfrm>
            <a:off x="6320160" y="198108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5" name="PlaceHolder 5"/>
          <p:cNvSpPr>
            <a:spLocks noGrp="1"/>
          </p:cNvSpPr>
          <p:nvPr>
            <p:ph/>
          </p:nvPr>
        </p:nvSpPr>
        <p:spPr>
          <a:xfrm>
            <a:off x="107280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 name="PlaceHolder 6"/>
          <p:cNvSpPr>
            <a:spLocks noGrp="1"/>
          </p:cNvSpPr>
          <p:nvPr>
            <p:ph/>
          </p:nvPr>
        </p:nvSpPr>
        <p:spPr>
          <a:xfrm>
            <a:off x="369648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7"/>
          <p:cNvSpPr>
            <a:spLocks noGrp="1"/>
          </p:cNvSpPr>
          <p:nvPr>
            <p:ph/>
          </p:nvPr>
        </p:nvSpPr>
        <p:spPr>
          <a:xfrm>
            <a:off x="6320160" y="4130640"/>
            <a:ext cx="24984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5DC97E-44DB-4B77-93DE-F6A25AFCD0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3" name="PlaceHolder 2"/>
          <p:cNvSpPr>
            <a:spLocks noGrp="1"/>
          </p:cNvSpPr>
          <p:nvPr>
            <p:ph type="subTitle"/>
          </p:nvPr>
        </p:nvSpPr>
        <p:spPr>
          <a:xfrm>
            <a:off x="1072800" y="1981080"/>
            <a:ext cx="775980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49BF9C-84EA-44EF-8FEF-4353CEF4928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138B59-CC42-4D00-BB8A-EEF50C82B3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17"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5E1DCC-488B-4AEF-A947-E14405A8BB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EA9FE8-1196-44ED-995E-54B05A587E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980720" y="609120"/>
            <a:ext cx="68518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97188A-77E4-4C54-9C92-F9E5F4CD4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2"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490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0728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7EDB5A-3795-4A81-9795-4E406F06A3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26" name="PlaceHolder 2"/>
          <p:cNvSpPr>
            <a:spLocks noGrp="1"/>
          </p:cNvSpPr>
          <p:nvPr>
            <p:ph/>
          </p:nvPr>
        </p:nvSpPr>
        <p:spPr>
          <a:xfrm>
            <a:off x="1072800" y="1981080"/>
            <a:ext cx="378648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4"/>
          <p:cNvSpPr>
            <a:spLocks noGrp="1"/>
          </p:cNvSpPr>
          <p:nvPr>
            <p:ph/>
          </p:nvPr>
        </p:nvSpPr>
        <p:spPr>
          <a:xfrm>
            <a:off x="5049000" y="413064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747E434-E818-47BF-9D26-55C0A7B90F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808000"/>
              </a:solidFill>
              <a:latin typeface="Arial"/>
            </a:endParaRPr>
          </a:p>
        </p:txBody>
      </p:sp>
      <p:sp>
        <p:nvSpPr>
          <p:cNvPr id="30" name="PlaceHolder 2"/>
          <p:cNvSpPr>
            <a:spLocks noGrp="1"/>
          </p:cNvSpPr>
          <p:nvPr>
            <p:ph/>
          </p:nvPr>
        </p:nvSpPr>
        <p:spPr>
          <a:xfrm>
            <a:off x="10728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5049000" y="1981080"/>
            <a:ext cx="378648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1072800" y="4130640"/>
            <a:ext cx="775980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E8FF90-0165-4151-A223-3A6CB04320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
          <p:cNvSpPr/>
          <p:nvPr/>
        </p:nvSpPr>
        <p:spPr>
          <a:xfrm>
            <a:off x="1079640" y="615960"/>
            <a:ext cx="7746840" cy="1130400"/>
          </a:xfrm>
          <a:prstGeom prst="roundRect">
            <a:avLst>
              <a:gd name="adj" fmla="val 12495"/>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808000"/>
                </a:solidFill>
                <a:latin typeface="Arial"/>
              </a:rPr>
              <a:t>Click to edit the title text format</a:t>
            </a:r>
            <a:endParaRPr b="1" i="1" lang="en-US" sz="2800" spc="-1" strike="noStrike">
              <a:solidFill>
                <a:srgbClr val="808000"/>
              </a:solidFill>
              <a:latin typeface="Arial"/>
            </a:endParaRPr>
          </a:p>
        </p:txBody>
      </p:sp>
      <p:sp>
        <p:nvSpPr>
          <p:cNvPr id="2" name="PlaceHolder 2"/>
          <p:cNvSpPr>
            <a:spLocks noGrp="1"/>
          </p:cNvSpPr>
          <p:nvPr>
            <p:ph type="body"/>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
          <p:cNvSpPr/>
          <p:nvPr/>
        </p:nvSpPr>
        <p:spPr>
          <a:xfrm>
            <a:off x="5014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4953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01480" y="6629400"/>
            <a:ext cx="890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9410760" y="1149480"/>
            <a:ext cx="0" cy="547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8839080" y="1143000"/>
            <a:ext cx="56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8172360" y="6556320"/>
            <a:ext cx="148428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BF1998</a:t>
            </a:r>
            <a:endParaRPr b="0" lang="en-US" sz="1400" spc="-1" strike="noStrike">
              <a:solidFill>
                <a:srgbClr val="000000"/>
              </a:solidFill>
              <a:latin typeface="Times New Roman"/>
            </a:endParaRPr>
          </a:p>
        </p:txBody>
      </p:sp>
      <p:pic>
        <p:nvPicPr>
          <p:cNvPr id="9" name="NBF2" descr=""/>
          <p:cNvPicPr/>
          <p:nvPr/>
        </p:nvPicPr>
        <p:blipFill>
          <a:blip r:embed="rId2"/>
          <a:stretch/>
        </p:blipFill>
        <p:spPr>
          <a:xfrm>
            <a:off x="1073160" y="609480"/>
            <a:ext cx="911160" cy="1219320"/>
          </a:xfrm>
          <a:prstGeom prst="rect">
            <a:avLst/>
          </a:prstGeom>
          <a:ln w="0">
            <a:noFill/>
          </a:ln>
        </p:spPr>
      </p:pic>
      <p:sp>
        <p:nvSpPr>
          <p:cNvPr id="10" name="PlaceHolder 3"/>
          <p:cNvSpPr>
            <a:spLocks noGrp="1"/>
          </p:cNvSpPr>
          <p:nvPr>
            <p:ph type="ftr" idx="1"/>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Øyvind Ludvigsen</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5CBF2-32A7-4483-BDE7-89A907E59D75}" type="slidenum">
              <a:rPr b="1" lang="nb-NO"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FORORD TIL DEN NORSKE UTGAVEN</a:t>
            </a:r>
            <a:endParaRPr b="1" i="1" lang="en-US" sz="2800" spc="-1" strike="noStrike">
              <a:solidFill>
                <a:srgbClr val="808000"/>
              </a:solidFill>
              <a:latin typeface="Arial"/>
            </a:endParaRPr>
          </a:p>
        </p:txBody>
      </p:sp>
      <p:sp>
        <p:nvSpPr>
          <p:cNvPr id="53" name="PlaceHolder 2"/>
          <p:cNvSpPr>
            <a:spLocks noGrp="1"/>
          </p:cNvSpPr>
          <p:nvPr>
            <p:ph/>
          </p:nvPr>
        </p:nvSpPr>
        <p:spPr>
          <a:xfrm>
            <a:off x="1072800" y="1904760"/>
            <a:ext cx="7759800" cy="4343400"/>
          </a:xfrm>
          <a:prstGeom prst="rect">
            <a:avLst/>
          </a:prstGeom>
          <a:noFill/>
          <a:ln w="0">
            <a:noFill/>
          </a:ln>
        </p:spPr>
        <p:txBody>
          <a:bodyPr lIns="90360" rIns="90360" tIns="44280" bIns="44280" anchor="t">
            <a:normAutofit/>
          </a:bodyPr>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KAN"   </a:t>
            </a:r>
            <a:r>
              <a:rPr b="1" lang="nb-NO" sz="1800" spc="-1" strike="noStrike">
                <a:solidFill>
                  <a:srgbClr val="000000"/>
                </a:solidFill>
                <a:latin typeface="Arial"/>
              </a:rPr>
              <a:t>Det er på ingen måte en feil å </a:t>
            </a:r>
            <a:r>
              <a:rPr b="1" lang="nb-NO" sz="1800" spc="-1" strike="noStrike" u="sng">
                <a:solidFill>
                  <a:srgbClr val="000000"/>
                </a:solidFill>
                <a:uFillTx/>
                <a:latin typeface="Arial"/>
              </a:rPr>
              <a:t>unnlate</a:t>
            </a:r>
            <a:r>
              <a:rPr b="1" lang="nb-NO" sz="1800" spc="-1" strike="noStrike">
                <a:solidFill>
                  <a:srgbClr val="000000"/>
                </a:solidFill>
                <a:latin typeface="Arial"/>
              </a:rPr>
              <a:t> å gjøre det. En ren beskrivelse av hvordan en spiller "gjør" et eller annet </a:t>
            </a:r>
            <a:r>
              <a:rPr b="1" i="1" lang="nb-NO" sz="1800" spc="-1" strike="noStrike">
                <a:solidFill>
                  <a:srgbClr val="000000"/>
                </a:solidFill>
                <a:latin typeface="Arial"/>
              </a:rPr>
              <a:t>("blindemann legger sine kort foran seg")</a:t>
            </a:r>
            <a:r>
              <a:rPr b="1" lang="nb-NO" sz="1800" spc="-1" strike="noStrike">
                <a:solidFill>
                  <a:srgbClr val="000000"/>
                </a:solidFill>
                <a:latin typeface="Arial"/>
              </a:rPr>
              <a:t> fastslår den korrekte fremgangsmåten uten å antyde at en avvikelse fra fremgangsmåten medfører straff</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ØR" </a:t>
            </a:r>
            <a:r>
              <a:rPr b="1" lang="nb-NO" sz="1800" spc="-1" strike="noStrike">
                <a:solidFill>
                  <a:srgbClr val="000000"/>
                </a:solidFill>
                <a:latin typeface="Arial"/>
              </a:rPr>
              <a:t>Det vil det være et </a:t>
            </a:r>
            <a:r>
              <a:rPr b="1" lang="nb-NO" sz="1800" spc="-1" strike="noStrike" u="sng">
                <a:solidFill>
                  <a:srgbClr val="000000"/>
                </a:solidFill>
                <a:uFillTx/>
                <a:latin typeface="Arial"/>
              </a:rPr>
              <a:t>brudd</a:t>
            </a:r>
            <a:r>
              <a:rPr b="1" lang="nb-NO" sz="1800" spc="-1" strike="noStrike">
                <a:solidFill>
                  <a:srgbClr val="000000"/>
                </a:solidFill>
                <a:latin typeface="Arial"/>
              </a:rPr>
              <a:t> på loven dersom han unnlater å gjøre det, og et slikt lovbrudd kan føre til tap av rettigheter, men bare sjelden vil det medføre andre straffetiltak</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250"/>
              </a:spcBef>
              <a:spcAft>
                <a:spcPts val="6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SKAL" </a:t>
            </a:r>
            <a:r>
              <a:rPr b="1" lang="nb-NO" sz="1800" spc="-1" strike="noStrike">
                <a:solidFill>
                  <a:srgbClr val="000000"/>
                </a:solidFill>
                <a:latin typeface="Arial"/>
              </a:rPr>
              <a:t>gjøre et eller annet </a:t>
            </a:r>
            <a:r>
              <a:rPr b="1" i="1" lang="nb-NO" sz="1800" spc="-1" strike="noStrike">
                <a:solidFill>
                  <a:srgbClr val="000000"/>
                </a:solidFill>
                <a:latin typeface="Arial"/>
              </a:rPr>
              <a:t>("ingen av spillerne skal foreta seg noe før turneringslederen har forklart")</a:t>
            </a:r>
            <a:r>
              <a:rPr b="1" lang="nb-NO" sz="1800" spc="-1" strike="noStrike">
                <a:solidFill>
                  <a:srgbClr val="000000"/>
                </a:solidFill>
                <a:latin typeface="Arial"/>
              </a:rPr>
              <a:t>, vil brudd på denne paragraf som regel bli </a:t>
            </a:r>
            <a:r>
              <a:rPr b="1" lang="nb-NO" sz="1800" spc="-1" strike="noStrike" u="sng">
                <a:solidFill>
                  <a:srgbClr val="000000"/>
                </a:solidFill>
                <a:uFillTx/>
                <a:latin typeface="Arial"/>
              </a:rPr>
              <a:t>straffet</a:t>
            </a:r>
            <a:r>
              <a:rPr b="1" lang="nb-NO" sz="1800" spc="-1" strike="noStrike">
                <a:solidFill>
                  <a:srgbClr val="000000"/>
                </a:solidFill>
                <a:latin typeface="Arial"/>
              </a:rPr>
              <a:t>.</a:t>
            </a:r>
            <a:r>
              <a:rPr b="1" lang="nb-NO" sz="2000" spc="-1" strike="noStrike">
                <a:solidFill>
                  <a:srgbClr val="000000"/>
                </a:solidFill>
                <a:latin typeface="Arial"/>
              </a:rPr>
              <a:t> </a:t>
            </a:r>
            <a:endParaRPr b="1" lang="en-US" sz="2000" spc="-1" strike="noStrike">
              <a:solidFill>
                <a:srgbClr val="000000"/>
              </a:solidFill>
              <a:latin typeface="Arial"/>
            </a:endParaRPr>
          </a:p>
          <a:p>
            <a:pPr lvl="1" marL="685800" indent="-228600">
              <a:lnSpc>
                <a:spcPct val="90000"/>
              </a:lnSpc>
              <a:spcBef>
                <a:spcPts val="1125"/>
              </a:spcBef>
              <a:spcAft>
                <a:spcPts val="56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MÅ"  </a:t>
            </a:r>
            <a:r>
              <a:rPr b="1" lang="nb-NO" sz="1800" spc="-1" strike="noStrike">
                <a:solidFill>
                  <a:srgbClr val="000000"/>
                </a:solidFill>
                <a:latin typeface="Arial"/>
              </a:rPr>
              <a:t>En feil på dette punkt blir betraktet som meget </a:t>
            </a:r>
            <a:r>
              <a:rPr b="1" lang="nb-NO" sz="1800" spc="-1" strike="noStrike" u="sng">
                <a:solidFill>
                  <a:srgbClr val="000000"/>
                </a:solidFill>
                <a:uFillTx/>
                <a:latin typeface="Arial"/>
              </a:rPr>
              <a:t>alvorlig</a:t>
            </a: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eksj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pasning som foretas av TL for at meldingsforløpet eller spille skal fortsette så normalt som mulig etter at det har skjedd en uregelmessigh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rigert score</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core som tildeles én eller begge sider i stedet for det resultat som faktisk ble oppnådd på given etter en uregelmessigh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Når en spiller har passet utenfor tur (og meldingen er annullert fordi muligheten til å godta meldingen ikke er benyttet - se §29), skjer følgende:</a:t>
            </a:r>
            <a:br>
              <a:rPr sz="2000"/>
            </a:br>
            <a:r>
              <a:rPr b="1" lang="nb-NO" sz="2000" spc="-1" strike="noStrike">
                <a:solidFill>
                  <a:srgbClr val="000000"/>
                </a:solidFill>
                <a:latin typeface="Arial"/>
              </a:rPr>
              <a:t> </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NO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passet utenfor tur før noen av spillerne har avgitt bud, må den feilende som straff passe neste gang han er i tur til å mel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DET E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H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av spillerne har avgitt bud og det blir passet utenfor tur når det er HMs tur til å melde, må den feilende som straff passe neste gang han er i tur til å melde </a:t>
            </a:r>
            <a:r>
              <a:rPr b="0" i="1" lang="nb-NO" sz="1800" spc="-1" strike="noStrike">
                <a:solidFill>
                  <a:srgbClr val="000000"/>
                </a:solidFill>
                <a:latin typeface="Arial"/>
              </a:rPr>
              <a:t>(hvis denne passen utenfor tur var en konvensjon som refererte til en spesifikk farge eller flere farger, kan utspillsstraff som beskrevet i §26 komme til anvendelse)</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MAKKER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A DEN FEILENDE MÅ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må den feilende som har passet utenfor tur - når det er makkers tur til å melde - som straff passe resten av meldingsforløpet.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A DEN FEILENDES MAKKER KAN GJØ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eilendes makker kan avgi ethvert tilstrekkelig bud eller passe, men ikke doble eller redoble i den aktuelle melderunde. §72B1 kan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VM'S TUR TIL Å MEL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spiller har avgitt bud, og det meldes pass utenfor tur når det er den feilendes VM som skal melde, blir passen betraktet som en forandring av melding og §25 kommer til anvendelse.</a:t>
            </a:r>
            <a:endParaRPr b="1" lang="en-US" sz="1800" spc="-1" strike="noStrike">
              <a:solidFill>
                <a:srgbClr val="000000"/>
              </a:solidFill>
              <a:latin typeface="Arial"/>
            </a:endParaRPr>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0. PASS UTENFOR TUR</a:t>
            </a:r>
            <a:endParaRPr b="1" i="1" lang="en-US" sz="2800" spc="-1" strike="noStrike">
              <a:solidFill>
                <a:srgbClr val="808000"/>
              </a:solidFill>
              <a:latin typeface="Arial"/>
            </a:endParaRPr>
          </a:p>
        </p:txBody>
      </p:sp>
      <p:sp>
        <p:nvSpPr>
          <p:cNvPr id="2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PASSEN ER KONVENSJONE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pass som avgis utenfor tur er konvensjonell, kommer §31 til anvendelse og ikke §30. En pass er konvensjonell dersom den ifølge spesiell avtale lover mer enn en nærmere angitt styrke, eller hvis den kunstig lover eller benekter verdier utenfor den fargen som sist er blitt nevnt.</a:t>
            </a:r>
            <a:endParaRPr b="1" lang="en-US" sz="1800" spc="-1" strike="noStrike">
              <a:solidFill>
                <a:srgbClr val="000000"/>
              </a:solidFill>
              <a:latin typeface="Arial"/>
            </a:endParaRPr>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en spiller har avgitt et bud utenfor tur, og budet er annullert (fordi muligheten til å godta budet ikke er blitt benyttet - se §29), skjer følgend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har avgitt et bud (eller en konvensjonell pass på makkers melding - i så fall kommer pkt. A2 nedenfor til anvendelse)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passer, må den feilende gjenta den melding som ble avgitt utenfor tur, og hvis det er en lovlig melding, blir det ingen straff.</a:t>
            </a:r>
            <a:endParaRPr b="1" lang="en-US" sz="1800" spc="-1" strike="noStrike">
              <a:solidFill>
                <a:srgbClr val="000000"/>
              </a:solidFill>
              <a:latin typeface="Arial"/>
            </a:endParaRPr>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PASSER IK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motstander avgir et lovlig* bud, en dobling eller redobling, kan den feilende avgi en hvilken som helst lovlig melding (også pass). Når denne meld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HM avgir en ulovlig melding, blir det straffet på normal måte.</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MELDINGEN GJENTAR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gjentar den samme benevnelse som meldingen utenfor tur var avgitt i, må den feilendes makker som straff passe neste gang det er hans tur til å melde </a:t>
            </a:r>
            <a:r>
              <a:rPr b="0" i="1" lang="nb-NO" sz="1800" spc="-1" strike="noStrike">
                <a:solidFill>
                  <a:srgbClr val="000000"/>
                </a:solidFill>
                <a:latin typeface="Arial"/>
              </a:rPr>
              <a:t>(se §23 om pass som skader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MELDINGEN GJENTAR IKKE SAMME BENEVN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kke gjentar den samme benevnelse som meldingen utenfor tur var avgitt i, kan utspillsstraff ifølge §26 komme til anvendelse, og som straff må den feilendes makker passe resten av meldingsforløpet </a:t>
            </a:r>
            <a:r>
              <a:rPr b="0" i="1" lang="nb-NO" sz="1800" spc="-1" strike="noStrike">
                <a:solidFill>
                  <a:srgbClr val="000000"/>
                </a:solidFill>
                <a:latin typeface="Arial"/>
              </a:rPr>
              <a:t>(se også §23 om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1. BUD UTENFOR TUR</a:t>
            </a:r>
            <a:endParaRPr b="1" i="1" lang="en-US" sz="2800" spc="-1" strike="noStrike">
              <a:solidFill>
                <a:srgbClr val="808000"/>
              </a:solidFill>
              <a:latin typeface="Arial"/>
            </a:endParaRPr>
          </a:p>
        </p:txBody>
      </p:sp>
      <p:sp>
        <p:nvSpPr>
          <p:cNvPr id="2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T ER MAKKERS ELLER V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 avgir et bud når det er makkers tur til å melde, eller VMs tur til å melde og den feilende ikke har meldt tidligere*, må den feilendes makker som straff passe resten av meldingsforløpet </a:t>
            </a:r>
            <a:r>
              <a:rPr b="0" lang="nb-NO" sz="1800" spc="-1" strike="noStrike">
                <a:solidFill>
                  <a:srgbClr val="000000"/>
                </a:solidFill>
                <a:latin typeface="Arial"/>
              </a:rPr>
              <a:t>(se også §23 om pass som skader den ikke-feilende side)</a:t>
            </a:r>
            <a:r>
              <a:rPr b="1" lang="nb-NO" sz="1800" spc="-1" strike="noStrike">
                <a:solidFill>
                  <a:srgbClr val="000000"/>
                </a:solidFill>
                <a:latin typeface="Arial"/>
              </a:rPr>
              <a:t>. Utspillsstraff ifølge §26 kan også komme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n spiller senere i meldingsforløpet avgir bud når det er VMs tur til å melde, blir det betraktet som forandring av melding (§25).</a:t>
            </a:r>
            <a:endParaRPr b="1" lang="en-US" sz="14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n av motstanderne som står i tur til å melde, kan godta en dobling eller redobling utenfor tur (se §29), bortsett fra at en ukorrekt dobling eller redobling aldri kan bli godtatt </a:t>
            </a:r>
            <a:r>
              <a:rPr b="0" i="1" lang="nb-NO" sz="2000" spc="-1" strike="noStrike">
                <a:solidFill>
                  <a:srgbClr val="000000"/>
                </a:solidFill>
                <a:latin typeface="Arial"/>
              </a:rPr>
              <a:t>(dersom den motstander som står nærmest for tur, likevel melder etter slik melding - se §35A)</a:t>
            </a:r>
            <a:r>
              <a:rPr b="1" lang="nb-NO" sz="2000" spc="-1" strike="noStrike">
                <a:solidFill>
                  <a:srgbClr val="000000"/>
                </a:solidFill>
                <a:latin typeface="Arial"/>
              </a:rPr>
              <a:t>. Hvis den uregelmessige melding ikke blir godtatt, blir den annullert, og utspillsstraff ifølge §26B kan komme til anvendelse.</a:t>
            </a:r>
            <a:endParaRPr b="1" lang="en-US" sz="20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MAKKERS TUR TIL Å MEL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obling eller redobling utenfor tur er blitt avgitt på den feilendes makkers tur til å melde, skal den feilendes makker som straff passe resten av meldingsforløpet </a:t>
            </a:r>
            <a:r>
              <a:rPr b="0" i="1" lang="nb-NO" sz="1800" spc="-1" strike="noStrike">
                <a:solidFill>
                  <a:srgbClr val="000000"/>
                </a:solidFill>
                <a:latin typeface="Arial"/>
              </a:rPr>
              <a:t>(se også §23 når det gjelder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2. DOBLING ELLER REDOBLING UTENFOR TUR</a:t>
            </a:r>
            <a:endParaRPr b="1" i="1" lang="en-US" sz="2800" spc="-1" strike="noStrike">
              <a:solidFill>
                <a:srgbClr val="808000"/>
              </a:solidFill>
              <a:latin typeface="Arial"/>
            </a:endParaRPr>
          </a:p>
        </p:txBody>
      </p:sp>
      <p:sp>
        <p:nvSpPr>
          <p:cNvPr id="2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ER HM'S TUR TIL Å MEL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dobling eller redobling utenfor tur er avgitt når det er den feilendes HMs tur til å melde,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M PAS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passer, må den feilende gjenta sin dobling eller redobling som er avgitt utenfor tur, og det blir ingen straff hvis ikke doblingen eller redoblingen er ukorrekt - i så fall kommer §3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M AVGIR ET BU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s HM avgir et bud, kan den feilende i rett tur avgi en hvilken som helst lovlig melding, og som straff må den feilendes makker passe resten av meldingsforløpet </a:t>
            </a:r>
            <a:r>
              <a:rPr b="0" i="1" lang="nb-NO" sz="1800" spc="-1" strike="noStrike">
                <a:solidFill>
                  <a:srgbClr val="000000"/>
                </a:solidFill>
                <a:latin typeface="Arial"/>
              </a:rPr>
              <a:t>(se også §23 når det gjelder pass som skader den ikke-feilende sid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3. SAMTIDIGE MELDINGER</a:t>
            </a:r>
            <a:endParaRPr b="1" i="1" lang="en-US" sz="2800" spc="-1" strike="noStrike">
              <a:solidFill>
                <a:srgbClr val="808000"/>
              </a:solidFill>
              <a:latin typeface="Arial"/>
            </a:endParaRPr>
          </a:p>
        </p:txBody>
      </p:sp>
      <p:sp>
        <p:nvSpPr>
          <p:cNvPr id="2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En melding som avgis samtidig med en melding fra den spiller som stod i tur til å melde, betraktes som en påfølgende melding.</a:t>
            </a:r>
            <a:endParaRPr b="1" lang="en-US" sz="20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3"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rtsto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 52 kortene som bridge spilles med</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La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eller flere par som spiller i forskjellig retning ved forskjellige bord, men for en felles score. (Et lag kan bestå av flere enn fire medlemmer, men bare fire spiller samtidig.)</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kker</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man spiller sammen med mot de to andre spillere ved bordet.</a:t>
            </a:r>
            <a:endParaRPr b="1" lang="en-US" sz="1800" spc="-1" strike="noStrike">
              <a:solidFill>
                <a:srgbClr val="000000"/>
              </a:solidFill>
              <a:latin typeface="Arial"/>
            </a:endParaRPr>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4. RETTEN TIL Å MELDE TAPES IKKE</a:t>
            </a:r>
            <a:endParaRPr b="1" i="1" lang="en-US" sz="2800" spc="-1" strike="noStrike">
              <a:solidFill>
                <a:srgbClr val="808000"/>
              </a:solidFill>
              <a:latin typeface="Arial"/>
            </a:endParaRPr>
          </a:p>
        </p:txBody>
      </p:sp>
      <p:sp>
        <p:nvSpPr>
          <p:cNvPr id="2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melding blir fulgt av tre passer, og en av passene ble avgitt utenfor tur, blir ikke meldingsforløpet avsluttet, hvis en av spillerne derved blir berøvet sin rett til å melde i den aktuelle melderunde. Meldingene går tilbake til den spiller som gikk glipp av sin tur. Alle påfølgende passer blir annullert, og meldingene fortsetter som om det ikke hadde skjedd noen uregelmessighet.</a:t>
            </a:r>
            <a:endParaRPr b="1" lang="en-US" sz="20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Når det er avgitt en ukorrekt melding som spesifisert nedenfor, og den feilendes VM melder før det er fastsatt en straff, blir det ingen straff for den ukorrekte meldingen </a:t>
            </a:r>
            <a:r>
              <a:rPr b="0" i="1" lang="nb-NO" sz="2000" spc="-1" strike="noStrike">
                <a:solidFill>
                  <a:srgbClr val="000000"/>
                </a:solidFill>
                <a:latin typeface="Arial"/>
              </a:rPr>
              <a:t>(utspillsstraff ifølge §26 kommer ikke til anvendelse)</a:t>
            </a:r>
            <a:r>
              <a:rPr b="1" lang="nb-NO" sz="2000" spc="-1" strike="noStrike">
                <a:solidFill>
                  <a:srgbClr val="000000"/>
                </a:solidFill>
                <a:latin typeface="Arial"/>
              </a:rPr>
              <a:t>, dessuten gjelder:</a:t>
            </a:r>
            <a:endParaRPr b="1" lang="en-US" sz="20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 ELLER RE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dobling eller redobling som ikke er tillatt ifølge §19, blir denne melding og alle påfølgende meldinger annullert. Meldingen går tilbake til den spiller som står for tur til å melde, og meldingsforløpet fortsetter som om det ikke har skjedd noen uregelmessighet.</a:t>
            </a:r>
            <a:endParaRPr b="1" lang="en-US" sz="18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FRA SPILLER SOM ER PÅLAGT Å PAS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om ifølge lovene er tvunget til å passe, melder noe annet enn pass, blir denne meldingen og alle påfølgende lovlige meldinger stående. Men hvis den feilende var tvunget til å passe resten av meldingsforløpet, må han fremdeles passe ved alle påfølgende anlednin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UD PÅ MER ENN SYV TRE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t bud på mer enn syv trekk, blir denne melding og alle påfølgende meldinger annullert. Den feilende må erstatte sin melding med pass, og meldingene fortsetter som om det ikke har skjedd noen uregelmessighet.</a:t>
            </a:r>
            <a:endParaRPr b="1" lang="en-US" sz="1800" spc="-1" strike="noStrike">
              <a:solidFill>
                <a:srgbClr val="000000"/>
              </a:solidFill>
              <a:latin typeface="Arial"/>
            </a:endParaRPr>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5. GODTAGELSE AV UKORREKT MELDING</a:t>
            </a:r>
            <a:endParaRPr b="1" i="1" lang="en-US" sz="2800" spc="-1" strike="noStrike">
              <a:solidFill>
                <a:srgbClr val="808000"/>
              </a:solidFill>
              <a:latin typeface="Arial"/>
            </a:endParaRPr>
          </a:p>
        </p:txBody>
      </p:sp>
      <p:sp>
        <p:nvSpPr>
          <p:cNvPr id="2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MELDING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ukorrekte melding var en melding etter meldingsforløpets avsluttende pass, blir denne melding og alle påfølgende meldinger annullert uten straff.</a:t>
            </a:r>
            <a:endParaRPr b="1" lang="en-US" sz="18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6. UKORREKT DOBLING ELLER REDOBLING</a:t>
            </a:r>
            <a:endParaRPr b="1" i="1" lang="en-US" sz="2800" spc="-1" strike="noStrike">
              <a:solidFill>
                <a:srgbClr val="808000"/>
              </a:solidFill>
              <a:latin typeface="Arial"/>
            </a:endParaRPr>
          </a:p>
        </p:txBody>
      </p:sp>
      <p:sp>
        <p:nvSpPr>
          <p:cNvPr id="2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nhver dobling eller redobling som ikke er tillatt ifølge §19, blir annullert. Den feilende må erstatte meldingen med en lovlig melding, og som straff må den feilendes makker passe resten av meldingsforløpe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0" i="1" lang="nb-NO" sz="2000" spc="-1" strike="noStrike">
                <a:solidFill>
                  <a:srgbClr val="000000"/>
                </a:solidFill>
                <a:latin typeface="Arial"/>
              </a:rPr>
              <a:t> </a:t>
            </a:r>
            <a:r>
              <a:rPr b="0" i="1" lang="nb-NO" sz="2000" spc="-1" strike="noStrike">
                <a:solidFill>
                  <a:srgbClr val="000000"/>
                </a:solidFill>
                <a:latin typeface="Arial"/>
              </a:rPr>
              <a:t>(Hvis meldingen er avgitt utenfor tur - se §32. Hvis den feilendes VM melder - se §35A.)</a:t>
            </a:r>
            <a:endParaRPr b="1" lang="en-US" sz="20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7. MELDING SOM BRYTER PÅBUD OM Å PASSE</a:t>
            </a:r>
            <a:endParaRPr b="1" i="1" lang="en-US" sz="2800" spc="-1" strike="noStrike">
              <a:solidFill>
                <a:srgbClr val="808000"/>
              </a:solidFill>
              <a:latin typeface="Arial"/>
            </a:endParaRPr>
          </a:p>
        </p:txBody>
      </p:sp>
      <p:sp>
        <p:nvSpPr>
          <p:cNvPr id="2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Et bud, en dobling eller redobling fra en spiller som ifølge lovene er pålagt å passe, blir annullert. Som straff må begge spillerne på den feilende side passe resten av meldingsforløpet </a:t>
            </a:r>
            <a:r>
              <a:rPr b="0" i="1" lang="nb-NO" sz="2000" spc="-1" strike="noStrike">
                <a:solidFill>
                  <a:srgbClr val="000000"/>
                </a:solidFill>
                <a:latin typeface="Arial"/>
              </a:rPr>
              <a:t>(se også §23 om pass som skader den ikke-feilende side)</a:t>
            </a:r>
            <a:r>
              <a:rPr b="0" lang="nb-NO" sz="2000" spc="-1" strike="noStrike">
                <a:solidFill>
                  <a:srgbClr val="000000"/>
                </a:solidFill>
                <a:latin typeface="Arial"/>
              </a:rPr>
              <a:t>.</a:t>
            </a:r>
            <a:r>
              <a:rPr b="1" lang="nb-NO" sz="2000" spc="-1" strike="noStrike">
                <a:solidFill>
                  <a:srgbClr val="000000"/>
                </a:solidFill>
                <a:latin typeface="Arial"/>
              </a:rPr>
              <a:t> Utspillsstraff ifølge §26 kan komme til anvendelse. </a:t>
            </a:r>
            <a:r>
              <a:rPr b="1" i="1" lang="nb-NO" sz="2000" spc="-1" strike="noStrike">
                <a:solidFill>
                  <a:srgbClr val="000000"/>
                </a:solidFill>
                <a:latin typeface="Arial"/>
              </a:rPr>
              <a:t>(Hvis den feilendes VM melder - se §35B.)</a:t>
            </a:r>
            <a:endParaRPr b="1" lang="en-US" sz="2000" spc="-1" strike="noStrike">
              <a:solidFill>
                <a:srgbClr val="000000"/>
              </a:solidFill>
              <a:latin typeface="Arial"/>
            </a:endParaRPr>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8. BUD PÅ MER ENN SYV TREKK</a:t>
            </a:r>
            <a:endParaRPr b="1" i="1" lang="en-US" sz="2800" spc="-1" strike="noStrike">
              <a:solidFill>
                <a:srgbClr val="808000"/>
              </a:solidFill>
              <a:latin typeface="Arial"/>
            </a:endParaRPr>
          </a:p>
        </p:txBody>
      </p:sp>
      <p:sp>
        <p:nvSpPr>
          <p:cNvPr id="2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Det er aldri tillatt å spille eller score kontrakter på mer enn syv trekk. Bud på mer enn syv trekk blir annullert, og som straff må begge spillerne på den feilende side passe resten av meldingsforløpet</a:t>
            </a:r>
            <a:r>
              <a:rPr b="1" i="1" lang="nb-NO" sz="2000" spc="-1" strike="noStrike">
                <a:solidFill>
                  <a:srgbClr val="000000"/>
                </a:solidFill>
                <a:latin typeface="Arial"/>
              </a:rPr>
              <a:t> </a:t>
            </a:r>
            <a:r>
              <a:rPr b="0" i="1" lang="nb-NO" sz="2000" spc="-1" strike="noStrike">
                <a:solidFill>
                  <a:srgbClr val="000000"/>
                </a:solidFill>
                <a:latin typeface="Arial"/>
              </a:rPr>
              <a:t>(se også §23 om pass som skader den ikke-feilende side)</a:t>
            </a:r>
            <a:r>
              <a:rPr b="1" lang="nb-NO" sz="2000" spc="-1" strike="noStrike">
                <a:solidFill>
                  <a:srgbClr val="000000"/>
                </a:solidFill>
                <a:latin typeface="Arial"/>
              </a:rPr>
              <a:t>. Utspillsstraff ifølge §26 kan komme til anvendelse. </a:t>
            </a:r>
            <a:r>
              <a:rPr b="0" i="1" lang="nb-NO" sz="2000" spc="-1" strike="noStrike">
                <a:solidFill>
                  <a:srgbClr val="000000"/>
                </a:solidFill>
                <a:latin typeface="Arial"/>
              </a:rPr>
              <a:t>(Hvis den feilendes VM melder - se §35C.)</a:t>
            </a:r>
            <a:endParaRPr b="1" lang="en-US" sz="20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9. MELDING ETTER AVSLUTTENDE PASS</a:t>
            </a:r>
            <a:endParaRPr b="1" i="1" lang="en-US" sz="2800" spc="-1" strike="noStrike">
              <a:solidFill>
                <a:srgbClr val="808000"/>
              </a:solidFill>
              <a:latin typeface="Arial"/>
            </a:endParaRPr>
          </a:p>
        </p:txBody>
      </p:sp>
      <p:sp>
        <p:nvSpPr>
          <p:cNvPr id="2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En melding som avgis etter meldingsforløpets avsluttende pass, blir annuller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Dessuten</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ASS ELLER MELDING AV SPILLEFØRERENS SI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pass fra en motspiller, eller en hvilken som helst melding fra den fremtidige spillefører eller blindemann, blir det ing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AV MOTSPIL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meldingen er et bud, en dobling eller redobling fra en motspiller, kan utspillsstraff ifølge §26 komme til anvendelse. </a:t>
            </a:r>
            <a:r>
              <a:rPr b="0" i="1" lang="nb-NO" sz="1800" spc="-1" strike="noStrike">
                <a:solidFill>
                  <a:srgbClr val="000000"/>
                </a:solidFill>
                <a:latin typeface="Arial"/>
              </a:rPr>
              <a:t>(Hvis den feilendes VM melder - se §35D.)</a:t>
            </a:r>
            <a:endParaRPr b="1" lang="en-US" sz="1800" spc="-1" strike="noStrike">
              <a:solidFill>
                <a:srgbClr val="000000"/>
              </a:solidFill>
              <a:latin typeface="Arial"/>
            </a:endParaRPr>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 TIL Å VELGE MELDING ELLER SPILLE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velge en hvilken som helst melding eller spillemåte. Dette omfatter også meldinger som er bevisst villedende - og meldinger eller spillemåter som avviker fra allment akseptert eller på forhånd meddelt bruk av konvensjoner, uten å meddele betydningen av dem på forhånd. En forutsetning er at slike meldinger eller spillemåter ikke er basert på makkeravtaler.</a:t>
            </a:r>
            <a:endParaRPr b="1" lang="en-US" sz="18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KJULTE MAKKERAVTALER ER FORBUD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 for at en spiller skal kunne avgi en melding eller foreta et spill som er basert på en spesiell makkeravtale, 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motstanderne har rimelig mulighet for å forstå mening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ll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at spillerens side har forklart bruken av slike meldinger eller spillemåter i samsvar med den ansvarlige organisasjons turneringsbestemmelser</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appe</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turneringsmappe som beskrevet i §2.</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De fire hendene slik de opprinnelig er gitt og plassert i en turneringsmappe for å spilles i en bestemt omgang.</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bud samt dobling, redobling eller pass.</a:t>
            </a:r>
            <a:endParaRPr b="1" lang="en-US" sz="1800" spc="-1" strike="noStrike">
              <a:solidFill>
                <a:srgbClr val="000000"/>
              </a:solidFill>
              <a:latin typeface="Arial"/>
            </a:endParaRPr>
          </a:p>
          <a:p>
            <a:pPr marL="268560" indent="-26856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eldingsforløp</a:t>
            </a:r>
            <a:endParaRPr b="1" lang="en-US" sz="24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remgangsmåten som bestemmer den endelige kontrakt gjennom en serie av meldinger.</a:t>
            </a:r>
            <a:endParaRPr b="1" lang="en-US" sz="1800" spc="-1" strike="noStrike">
              <a:solidFill>
                <a:srgbClr val="000000"/>
              </a:solidFill>
              <a:latin typeface="Arial"/>
            </a:endParaRPr>
          </a:p>
          <a:p>
            <a:pPr lvl="1" marL="644400" indent="-214560">
              <a:lnSpc>
                <a:spcPct val="90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vgitte meldinger.</a:t>
            </a:r>
            <a:endParaRPr b="1" lang="en-US" sz="18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ENS AVGJØRELS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bestemmer at en side er blitt skadelidende fordi dens motstandere har unnlatt å forklare den fulle betydning av en melding eller spillemåte, kan TL fastsette et justert resulta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STEMMELSER OM KONVENSJON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ansvarlige organisasjon** kan fastsette bestemmelser om bruken av melde- eller spillekonvensjoner. EBL kan dessuten fastsette bestemmelser om makkeravtaler </a:t>
            </a:r>
            <a:r>
              <a:rPr b="0" i="1" lang="nb-NO" sz="1800" spc="-1" strike="noStrike">
                <a:solidFill>
                  <a:srgbClr val="000000"/>
                </a:solidFill>
                <a:latin typeface="Arial"/>
              </a:rPr>
              <a:t>(selv om det ikke dreier seg om konvensjoner)</a:t>
            </a:r>
            <a:r>
              <a:rPr b="1" lang="nb-NO" sz="1800" spc="-1" strike="noStrike">
                <a:solidFill>
                  <a:srgbClr val="000000"/>
                </a:solidFill>
                <a:latin typeface="Arial"/>
              </a:rPr>
              <a:t> som tillater at makkerparets åpningsmeldinger på ett-trinnet kan gjøres med hender som mangler en konge eller mer på middels styrke. EBL kan delegere dette ansvare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d ansvarlig organisasjon menes normalt de nasjonale forbund. I Norge er dette NBF.</a:t>
            </a:r>
            <a:endParaRPr b="1" lang="en-US" sz="14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ge fastsettes tillatte melde- og spillekonvensjoner av NBF.</a:t>
            </a:r>
            <a:endParaRPr b="1" lang="en-US" sz="1400" spc="-1" strike="noStrike">
              <a:solidFill>
                <a:srgbClr val="000000"/>
              </a:solidFill>
              <a:latin typeface="Arial"/>
            </a:endParaRPr>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0. MAKKERAVTALER</a:t>
            </a:r>
            <a:endParaRPr b="1" i="1" lang="en-US" sz="2800" spc="-1" strike="noStrike">
              <a:solidFill>
                <a:srgbClr val="808000"/>
              </a:solidFill>
              <a:latin typeface="Arial"/>
            </a:endParaRPr>
          </a:p>
        </p:txBody>
      </p:sp>
      <p:sp>
        <p:nvSpPr>
          <p:cNvPr id="293"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YSTEMKORT</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Å PÅBY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lig organisasjon** kan påby bruk av systemkort, der makkerparene må sette opp en liste over sine konvensjoner og andre avtaler. Den kan også fastsette bestemmelser for bruken av systemkort, innbefattet krav om at begge spillere i et makkerpar bruker samme system </a:t>
            </a:r>
            <a:r>
              <a:rPr b="0" i="1" lang="nb-NO" sz="1800" spc="-1" strike="noStrike">
                <a:solidFill>
                  <a:srgbClr val="000000"/>
                </a:solidFill>
                <a:latin typeface="Arial"/>
              </a:rPr>
              <a:t>(slike bestemmelser må ikke legge bånd på stil og dømmekraft, bare på metoden)</a:t>
            </a:r>
            <a:r>
              <a:rPr b="0" lang="nb-NO" sz="1800" spc="-1" strike="noStrike">
                <a:solidFill>
                  <a:srgbClr val="000000"/>
                </a:solidFill>
                <a:latin typeface="Arial"/>
              </a:rPr>
              <a: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Med ansvarlig organisasjon menes normalt de nasjonale forbund. I Norge er dette NBF, som har påbudt at systemkort skal benyttes.</a:t>
            </a:r>
            <a:endParaRPr b="1" lang="en-US" sz="14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RUK AV MOTSTANDERNES SYSTEMKORT</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nder meldingsforløpet og spillet kan enhver spiller unntatt blindemann studere motstandernes systemkort hver gang spilleren er i tur til å melde eller spille. Men han kan ikke se i sitt eget systemkort*.</a:t>
            </a:r>
            <a:endParaRPr b="1" lang="en-US" sz="1800" spc="-1" strike="noStrike">
              <a:solidFill>
                <a:srgbClr val="000000"/>
              </a:solidFill>
              <a:latin typeface="Arial"/>
            </a:endParaRPr>
          </a:p>
          <a:p>
            <a:pPr lvl="1" marL="617040" indent="-205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Spilleren har ikke rett til å gjøre bruk av noe som helst hjelpemiddel for sin beregning eller spilleteknikk under meldings- eller spilleforløpet. Det er imidlertid tillatt å studere sitt eget forsvar mot sterkt kunstige systemer.</a:t>
            </a:r>
            <a:endParaRPr b="1" lang="en-US" sz="1400" spc="-1" strike="noStrike">
              <a:solidFill>
                <a:srgbClr val="000000"/>
              </a:solidFill>
              <a:latin typeface="Arial"/>
            </a:endParaRPr>
          </a:p>
        </p:txBody>
      </p:sp>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ÅPNINGSUTSPILLET LEGGES MED FREMSIDEN N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bud, en dobling eller redobling er blitt fulgt av tre passer i rett tur, legger motspilleren på den antatte spilleførers venstre side ned sit åpningsutspill med fremsiden ned*. Et åpningsutspill som ligger med fremsiden ned, kan trekkes tilbake bare etter instruks fra turneringslederen** etter at det har skjedd en uregelmessighet (se §47E2). Et kort som trekkes tilbake på denne måten, må settes tilbake på motspillerens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Ansvarlig organisasjon kan bestemme at åpningsutspillet skal legges med fremsiden opp. (NBF har bestemt at i Norge skal åpningsutspillet legges med fremsiden ned.)</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BF har bestemt at i Norge kan et åpningsutspill fra feil motstander, og som er lagt med fremsiden ned, settes tilbake på hånden uten å tilkalle turneringsleder og uten straff.</a:t>
            </a:r>
            <a:endParaRPr b="1" lang="en-US" sz="14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SFORLØPET OG ANDRE SPØRSMÅ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lagt på bordet, men før det blir snudd med fremsiden opp, kan utspillerens makker og den antatte spillefører begge forlange å få meldingsforløpet gjentatt, eller be om forklaring på meldinger fra motstanderne (se §20). Spilleføreren og hver av motspillerne kan første gang de skal spille et kort, be om å få gjentatt meldingsforløpet. Denne retten utgår når kortet er spilt. Motspillerne </a:t>
            </a:r>
            <a:r>
              <a:rPr b="0" i="1" lang="nb-NO" sz="1800" spc="-1" strike="noStrike">
                <a:solidFill>
                  <a:srgbClr val="000000"/>
                </a:solidFill>
                <a:latin typeface="Arial"/>
              </a:rPr>
              <a:t>(med forbehold om at §16 kan komme til anvendelse)</a:t>
            </a:r>
            <a:r>
              <a:rPr b="1" lang="nb-NO" sz="1800" spc="-1" strike="noStrike">
                <a:solidFill>
                  <a:srgbClr val="000000"/>
                </a:solidFill>
                <a:latin typeface="Arial"/>
              </a:rPr>
              <a:t> og spilleføreren beholder retten til å be om forklaringer gjennom hele spilleforløpet hver gang det er deres tur til å spille.</a:t>
            </a:r>
            <a:endParaRPr b="1" lang="en-US" sz="1800" spc="-1" strike="noStrike">
              <a:solidFill>
                <a:srgbClr val="000000"/>
              </a:solidFill>
              <a:latin typeface="Arial"/>
            </a:endParaRPr>
          </a:p>
        </p:txBody>
      </p:sp>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1. SPILLET BEGYNNER</a:t>
            </a:r>
            <a:endParaRPr b="1" i="1" lang="en-US" sz="2800" spc="-1" strike="noStrike">
              <a:solidFill>
                <a:srgbClr val="808000"/>
              </a:solidFill>
              <a:latin typeface="Arial"/>
            </a:endParaRPr>
          </a:p>
        </p:txBody>
      </p:sp>
      <p:sp>
        <p:nvSpPr>
          <p:cNvPr id="299"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ÅPNINGSUTSPILLET BLIR SNUD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spørreperioden blir åpningsutspillet snudd med fremsiden opp, og spille begynner. Blindemanns hånd legges ned på bordet. Etter at det er blitt for sent å få de foregående meldinger gjentatt </a:t>
            </a:r>
            <a:r>
              <a:rPr b="0" i="1" lang="nb-NO" sz="1800" spc="-1" strike="noStrike">
                <a:solidFill>
                  <a:srgbClr val="000000"/>
                </a:solidFill>
                <a:latin typeface="Arial"/>
              </a:rPr>
              <a:t>(se pkt. B ovenfor</a:t>
            </a:r>
            <a:r>
              <a:rPr b="1" lang="nb-NO" sz="1800" spc="-1" strike="noStrike">
                <a:solidFill>
                  <a:srgbClr val="000000"/>
                </a:solidFill>
                <a:latin typeface="Arial"/>
              </a:rPr>
              <a:t>), har spilleføreren og hver av motspillerne hver gang det er deres tur til å spille, rett til å få opplyst hva kontrakten er og hvorvidt den er doblet eller redoblet, men ikke av hvem.</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LINDEMANNS HÅND</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åpningsutspillet er snudd med fremsiden opp, legger blindemann sin hånd ned på bordet foran seg med fremsiden opp, sortert i farger og kortene etter rangering. Kortene legges i rekker som ligger med lengderetningen mot spilleføreren, med trumfen lengst til høyre for blindemann. Spillefører spiller både sin egen og blindemanns hånd.</a:t>
            </a:r>
            <a:endParaRPr b="1" lang="en-US" sz="1800" spc="-1" strike="noStrike">
              <a:solidFill>
                <a:srgbClr val="000000"/>
              </a:solidFill>
              <a:latin typeface="Arial"/>
            </a:endParaRPr>
          </a:p>
        </p:txBody>
      </p:sp>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ABSOLUTT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I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har rett til, i TLs nærvær, å gi informasjon om faktiske forhold eller om regelspørs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OLDE TELLING PÅ STIKK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holde telling på vunne og avgit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JELPE SPILLEFØRER MED SPILL AV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spille sine egne kort som spilleførerens hjelper og etter dennes instrukser </a:t>
            </a:r>
            <a:r>
              <a:rPr b="0" i="1" lang="nb-NO" sz="1800" spc="-1" strike="noStrike">
                <a:solidFill>
                  <a:srgbClr val="000000"/>
                </a:solidFill>
                <a:latin typeface="Arial"/>
              </a:rPr>
              <a:t>(hvis blindemann antyder eller foreslår et spill - se §45F)</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2. BLINDEMANNS RETTIGHETER</a:t>
            </a:r>
            <a:endParaRPr b="1" i="1" lang="en-US" sz="2800" spc="-1" strike="noStrike">
              <a:solidFill>
                <a:srgbClr val="808000"/>
              </a:solidFill>
              <a:latin typeface="Arial"/>
            </a:endParaRPr>
          </a:p>
        </p:txBody>
      </p:sp>
      <p:sp>
        <p:nvSpPr>
          <p:cNvPr id="3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EGRENSEDE RETT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lindemann har andre rettigheter. Disse er begrenset av bestemmelsene i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RE OM REVOK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 har unnlatt å følge farge til et stikk, kan blindemann spørre om han har et kort i den spilte fargen. Blindemann kan ikke spørre noen av motstanderne om det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ØKE Å FORHINDR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forsøke å forhindre at spilleføreren foretar en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TALE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påtale enhver uregelmessighet, men bare etter at spillet av hånden er avsluttet.</a:t>
            </a:r>
            <a:endParaRPr b="1" lang="en-US" sz="1800" spc="-1" strike="noStrike">
              <a:solidFill>
                <a:srgbClr val="000000"/>
              </a:solidFill>
              <a:latin typeface="Arial"/>
            </a:endParaRPr>
          </a:p>
        </p:txBody>
      </p:sp>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BEGRENSNINGER AV BLINDEMANNS AKTIVI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BEGREN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d mindre en annen spiller har gjort oppmerksom på en uregelmessighet, bør blindemann ikke ta initiativ til å tilkalle TL under spille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PÅTALE AV UREGELMESS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tale en uregelmessighet 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DELTAGELSE I ELLER KOMMENTAR TIL SPILLET</a:t>
            </a:r>
            <a:br>
              <a:rPr sz="1800"/>
            </a:br>
            <a:br>
              <a:rPr sz="1800"/>
            </a:br>
            <a:r>
              <a:rPr b="0" lang="nb-NO" sz="1800" spc="-1" strike="noStrike">
                <a:solidFill>
                  <a:srgbClr val="000000"/>
                </a:solidFill>
                <a:latin typeface="Arial"/>
              </a:rPr>
              <a:t>Blindemann må ikke delta i spillet. Han kan heller ikke komme med noen kommentarer om spillet til spillefører.</a:t>
            </a:r>
            <a:endParaRPr b="1" lang="en-US" sz="1800" spc="-1" strike="noStrike">
              <a:solidFill>
                <a:srgbClr val="000000"/>
              </a:solidFill>
              <a:latin typeface="Arial"/>
            </a:endParaRPr>
          </a:p>
        </p:txBody>
      </p:sp>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EGRENSNINGER SOM ER BELAGT MED SÆRSKIL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UTVEKSLING AV HE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utveksle hender med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FORLATE SIN PLASS FOR Å SE PÅ SPILLEFØR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forlate sin plass for å se på hvordan spilleføreren spiller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E EN MOTSPILLER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kan ikke på eget initiativ se på fremsiden av et kort på noen av motspillernes hender.</a:t>
            </a:r>
            <a:endParaRPr b="1" lang="en-US" sz="1800" spc="-1" strike="noStrike">
              <a:solidFill>
                <a:srgbClr val="000000"/>
              </a:solidFill>
              <a:latin typeface="Arial"/>
            </a:endParaRPr>
          </a:p>
        </p:txBody>
      </p:sp>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E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GENERELL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lindemann pådrar seg straff ifølge §90 for alle lovbrudd som er nevnt i pkt. A1 eller A2 ovenfo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90 omhandler disiplinærstraff.</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ÆRSKILTE STRAFFE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lindemann etter å ha forbrutt seg mot begrensningene som er nevnt under pkt. A2 ovenfo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ADVARER SPILLEFØREREN OM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dvarer spilleføreren mot å spille ut fra feil hånd, kan enhver av motspillerne som straff velge hvilken hånd spilleføreren skal spille ut fra.</a:t>
            </a:r>
            <a:endParaRPr b="1"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iddels</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aritmetiske middeltall mellom høyeste og laveste poeng som kan tildeles.</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pill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tander av (den antatte) spillefører.</a:t>
            </a:r>
            <a:endParaRPr b="1" lang="en-US" sz="1800" spc="-1" strike="noStrike">
              <a:solidFill>
                <a:srgbClr val="000000"/>
              </a:solidFill>
              <a:latin typeface="Arial"/>
            </a:endParaRPr>
          </a:p>
          <a:p>
            <a:pPr marL="277200" indent="-277200">
              <a:lnSpc>
                <a:spcPct val="90000"/>
              </a:lnSpc>
              <a:spcBef>
                <a:spcPts val="19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Motstander</a:t>
            </a:r>
            <a:endParaRPr b="1" lang="en-US" sz="24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tilhører den annen side: et medlem av det makkerpar man spiller mot.</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M: motstanderen til høyre for en selv.</a:t>
            </a:r>
            <a:endParaRPr b="1" lang="en-US" sz="1800" spc="-1" strike="noStrike">
              <a:solidFill>
                <a:srgbClr val="000000"/>
              </a:solidFill>
              <a:latin typeface="Arial"/>
            </a:endParaRPr>
          </a:p>
          <a:p>
            <a:pPr lvl="1" marL="664920" indent="-221400">
              <a:lnSpc>
                <a:spcPct val="90000"/>
              </a:lnSpc>
              <a:spcBef>
                <a:spcPts val="146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M: motstanderen til venstre for en selv.</a:t>
            </a:r>
            <a:endParaRPr b="1" lang="en-US" sz="1800" spc="-1" strike="noStrike">
              <a:solidFill>
                <a:srgbClr val="000000"/>
              </a:solidFill>
              <a:latin typeface="Arial"/>
            </a:endParaRPr>
          </a:p>
        </p:txBody>
      </p:sp>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3. BLINDEMANNS BEGRENSNINGER</a:t>
            </a:r>
            <a:endParaRPr b="1" i="1" lang="en-US" sz="2800" spc="-1" strike="noStrike">
              <a:solidFill>
                <a:srgbClr val="808000"/>
              </a:solidFill>
              <a:latin typeface="Arial"/>
            </a:endParaRPr>
          </a:p>
        </p:txBody>
      </p:sp>
      <p:sp>
        <p:nvSpPr>
          <p:cNvPr id="3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ØR SPILLEFØREREN OM HAN KAN HA BEGÅTT EN UREGELMESSIGHE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r den første som spør spilleføreren om et spill fra dennes hånd medfører revoke eller unnlatelse av å oppfylle en pålagt straff, så må spilleføreren erstatte sitt spill med et korrekt kort dersom det første var ulovlig, og straffebestemmelsene ifølge §64 kommer til anvendels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ÅPEKER EN UREGELMESSIGHET HOS EN MOTSPILLER</a:t>
            </a:r>
            <a:br>
              <a:rPr sz="1800"/>
            </a:br>
            <a:br>
              <a:rPr sz="1800"/>
            </a:br>
            <a:r>
              <a:rPr b="0" lang="nb-NO" sz="1800" spc="-1" strike="noStrike">
                <a:solidFill>
                  <a:srgbClr val="000000"/>
                </a:solidFill>
                <a:latin typeface="Arial"/>
              </a:rPr>
              <a:t>Hvis blindemann, etter å ha forbrutt seg mot begrensningene som er gitt under pkt. A2 ovenfor, er den første til å påpeke en uregelmessighet begått av en motstander, så skal det ikke idømmes noen straff. Men dersom motspillerne tjener direkte på lovbruddet, skal TL tildele justert score til begge sider for å gjenopprette rettferdighet.</a:t>
            </a:r>
            <a:endParaRPr b="1" lang="en-US" sz="1800" spc="-1" strike="noStrike">
              <a:solidFill>
                <a:srgbClr val="000000"/>
              </a:solidFill>
              <a:latin typeface="Arial"/>
            </a:endParaRPr>
          </a:p>
          <a:p>
            <a:pPr lvl="1" marL="66492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SPILL TIL E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har utspillet til et stikk, kan spille ut et hvilket som helst kort fra sin hånd </a:t>
            </a:r>
            <a:r>
              <a:rPr b="0" i="1" lang="nb-NO" sz="1800" spc="-1" strike="noStrike">
                <a:solidFill>
                  <a:srgbClr val="000000"/>
                </a:solidFill>
                <a:latin typeface="Arial"/>
              </a:rPr>
              <a:t>(med mindre spilleren er pålagt utspills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PÅFØLGENDE SPILL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utspillet spiller hver av de andre et kort i tur og orden, og de fire kortene som er spilt på denne måten, utgjør et stikk. </a:t>
            </a:r>
            <a:r>
              <a:rPr b="0" i="1" lang="nb-NO" sz="1800" spc="-1" strike="noStrike">
                <a:solidFill>
                  <a:srgbClr val="000000"/>
                </a:solidFill>
                <a:latin typeface="Arial"/>
              </a:rPr>
              <a:t>(Når det gjelder metoden å spille kortene og ordne stikkene på - se §65.)</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MÅ FØLGES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spilles til et stikk, må enhver spiller følge farge såfremt det er mulig. Dette er en plikt som går foran alle andre krav i lovene.</a:t>
            </a:r>
            <a:endParaRPr b="1" lang="en-US" sz="1800" spc="-1" strike="noStrike">
              <a:solidFill>
                <a:srgbClr val="000000"/>
              </a:solidFill>
              <a:latin typeface="Arial"/>
            </a:endParaRPr>
          </a:p>
        </p:txBody>
      </p:sp>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ÅR MAN IKKE KAN FØLGE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følge farge, kan denne spille et hvilket som helst kort </a:t>
            </a:r>
            <a:r>
              <a:rPr b="0" i="1" lang="nb-NO" sz="1800" spc="-1" strike="noStrike">
                <a:solidFill>
                  <a:srgbClr val="000000"/>
                </a:solidFill>
                <a:latin typeface="Arial"/>
              </a:rPr>
              <a:t>(med mindre spilleren er pålagt en begrensning etter en uregelmessighet begått av hans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TIKK SOM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nneholder trumf, vinnes av den spiller som har spilt den høyeste trum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STIKK SOM IKKE INNEHOLDER TRUM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ikk som ikke inneholder trumf, vinnes av den spiller som har spilt det høyeste kort i den utspilte farge.</a:t>
            </a:r>
            <a:endParaRPr b="1" lang="en-US" sz="18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4. SPILLETS AVVIKLING</a:t>
            </a:r>
            <a:endParaRPr b="1" i="1" lang="en-US" sz="2800" spc="-1" strike="noStrike">
              <a:solidFill>
                <a:srgbClr val="808000"/>
              </a:solidFill>
              <a:latin typeface="Arial"/>
            </a:endParaRPr>
          </a:p>
        </p:txBody>
      </p:sp>
      <p:sp>
        <p:nvSpPr>
          <p:cNvPr id="3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UTSPILL TIL DE ØVRIGE STIKK ETTER DET FØRS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som har vunnet et stikk, spiller ut til neste stikk.</a:t>
            </a:r>
            <a:endParaRPr b="1"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AV KORT FRA EN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unntatt blindemann spiller et kort ved å ta det ut av hånden og legge det på bordet rett foran seg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Åpningsutspillet blir først lagt med fremsiden ned.</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spiller et kort fra blindemann ved å angi kortet muntlig, og deretter plukker blindemann kortet opp og legger det på bordet med fremsiden opp. Om nødvendig kan spilleføreren selv plukke opp det ønskede kort. </a:t>
            </a:r>
            <a:r>
              <a:rPr b="0" i="1" lang="nb-NO" sz="1800" spc="-1" strike="noStrike">
                <a:solidFill>
                  <a:srgbClr val="000000"/>
                </a:solidFill>
                <a:latin typeface="Arial"/>
              </a:rPr>
              <a:t>(I blindemanns fravær kan spillefører be en av motstanderne eller en bakspiller om assistanse.)</a:t>
            </a:r>
            <a:endParaRPr b="1" lang="en-US" sz="18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VUNGENT SPILL AV KOR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MOTSPILLER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holdt et kort slik at det er mulig for hans makker å se fremsiden på det, må kortet spilles til det aktuelle stikk </a:t>
            </a:r>
            <a:r>
              <a:rPr b="0" i="1" lang="nb-NO" sz="1800" spc="-1" strike="noStrike">
                <a:solidFill>
                  <a:srgbClr val="000000"/>
                </a:solidFill>
                <a:latin typeface="Arial"/>
              </a:rPr>
              <a:t>(hvis motspilleren allerede har spilt et lovlig kort til det aktuelle stikk - se §45E)</a:t>
            </a:r>
            <a:r>
              <a:rPr b="0" lang="nb-NO" sz="1800" spc="-1" strike="noStrike">
                <a:solidFill>
                  <a:srgbClr val="000000"/>
                </a:solidFill>
                <a:latin typeface="Arial"/>
              </a:rPr>
              <a: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T AV SPILLEFØRERE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må spille et kort fra sin hånd hvis det er holdt med fremsiden opp, har berørt eller nesten berørt bordet, eller er holdt i en stilling som tyder på at det er blitt spil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 AV BLINDEMANNS KORT</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hos blindemann må spilles hvis spilleføreren med overlegg har berørt det - unntatt når det skjer for å ordne blindemanns kort, eller for å få tak i et kort som ligger over eller under et berørt kort.</a:t>
            </a:r>
            <a:endParaRPr b="1" lang="en-US" sz="18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EVNT ELLER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 AV ANGIT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må spilles dersom en spiller nevner det eller på annen måte angir at han har tenkt å spille d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KORRIGERING AV KORT SOM ER ANGITT 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uten straff forandre et spill som er angitt av vanvare, dersom det gjøres uten opphold for ettertanke. Men hvis en motstander i sin tur har spilt et lovlig kort før angivelsen ble endret, kan dette uten straff trekke tilbake kortet som ble spilt på denne måten, og erstatte det med et annet kort (se §4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eller lite straffekort kan måtte spilles ifølge §50.</a:t>
            </a:r>
            <a:endParaRPr b="1"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SOM ER FEILSPILT AV BLINDEMANN</a:t>
            </a:r>
            <a:br>
              <a:rPr sz="2400"/>
            </a:br>
            <a:br>
              <a:rPr sz="2400"/>
            </a:br>
            <a:r>
              <a:rPr b="1" lang="nb-NO" sz="1800" spc="-1" strike="noStrike">
                <a:solidFill>
                  <a:srgbClr val="000000"/>
                </a:solidFill>
                <a:latin typeface="Arial"/>
              </a:rPr>
              <a:t>Hvis blindemann plasserer et kort i spilt posisjon uten at det er nevnt av spilleføreren, må kortet trekkes tilbake hvis dette blir påpekt før begge sidene har spilt til neste stikk, og en motspiller kan uten straff trekke tilbake et kort som er spilt etter at feilen ble begått, men før den ble påpekt. Dersom HM forandrer sitt spill, kan også spillefører trekke tilbake kortet han spilte til stikket (se §16C2).</a:t>
            </a:r>
            <a:endParaRPr b="1" lang="en-US" sz="18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EM KORT I ETT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EMTE KORT SPILT AV EN MOT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spiller et femte kort til et stikk, blir det straffekort ifølge §50, med mindre turneringslederen dømmer kortet som utspill, og i så fall kommer §53 eller §56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EMTE KORT SPILT AV SPILLEFØ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spiller et femte kort til et stikk fra sin egen hånd eller blindemann, blir det ingen straff, med mindre turneringslederen dømmer kortet som utspilt, og i så fall kommer §55 til anvendels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5A: Hvis spilleføreren har spilt ut utenfor tur fra sin egen eller blindemanns hånd, kan hver av motspillerne godta utspillet som beskrevet i §53, eller kreve at det blir trukket tilbake.</a:t>
            </a:r>
            <a:endParaRPr b="1" lang="en-US" sz="14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5. SPILL AV KORTENE</a:t>
            </a:r>
            <a:endParaRPr b="1" i="1" lang="en-US" sz="2800" spc="-1" strike="noStrike">
              <a:solidFill>
                <a:srgbClr val="808000"/>
              </a:solidFill>
              <a:latin typeface="Arial"/>
            </a:endParaRPr>
          </a:p>
        </p:txBody>
      </p:sp>
      <p:sp>
        <p:nvSpPr>
          <p:cNvPr id="3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LINDEMANN ANGIR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lindemanns hånd er lagt med fremsiden opp, kan blindemann ikke berøre eller angi noe som helst kort (unntatt for å ordne kortene) uten etter instruks fra spilleføreren. Hvis blindemann gjør noe slikt, skal TL tilkalles med en gang. TL skal avgjøre om blindemanns handling faktisk var et forslag til spilleføreren. Dersom TL dømmer at det var slik, skal spillet fortsette og TL skal reservere seg rett til å fastsette et justert resultat hvis motspillerne blir påført skade ved det foreslåtte spil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SNUING AV KORT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gen av spillerne bør snu sitt kort med fremsiden ned før alle fire spillere har spilt til stikket.</a:t>
            </a:r>
            <a:endParaRPr b="1"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79"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a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sluttet del av en turnering som er omfattet av flere runder som er forhåndsbestemt av den arrangerende organisasjon.</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mgiv</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y giv for å erstatte en feilaktig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versti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vinner i tillegg til kontrakten.</a:t>
            </a:r>
            <a:endParaRPr b="1" lang="en-US" sz="1800" spc="-1" strike="noStrike">
              <a:solidFill>
                <a:srgbClr val="000000"/>
              </a:solidFill>
              <a:latin typeface="Arial"/>
            </a:endParaRPr>
          </a:p>
        </p:txBody>
      </p:sp>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 FOR ANGIVELSE AV KORT FRA BLINDEMAN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 angir et kort som skal spilles fra blindemann, bør han tydelig nevne både farge og rangering av det ønskede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ELLER FEILAKTIG ANGIV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felle spillefører gir en ufullstendig eller feilaktig angivelse av hvilket kort som skal spilles fra blindemann, kommer følgende begrensninger til anvendelse (</a:t>
            </a:r>
            <a:r>
              <a:rPr b="0" i="1" lang="nb-NO" sz="1800" spc="-1" strike="noStrike">
                <a:solidFill>
                  <a:srgbClr val="000000"/>
                </a:solidFill>
                <a:latin typeface="Arial"/>
              </a:rPr>
              <a:t>unntatt når spilleføreren helt uomtvistelig har hatt noe annet til hensikt)</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ULLSTENDIG ANGIVELSE AV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ved spill fra blindemann sier "høyt" eller bruker ord av tilsvarende betydning, betraktes det som om han har forlangt det høyeste kortet, men i fjerde hånd betraktes det som om han har bedt om det laveste vinnende kort i den angitte farge. Hvis spilleføreren gir blindemann beskjed om å vinne stikket, betraktes det som om han har angitt det laveste vinnende kort. Hvis spilleføreren sier "lavt" eller bruker ord av tilsvarende betydning, betraktes det som om han har angitt det laves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GIVELSE AV FARGE, MEN IKKE RANGE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farge, men ikke en rangering, betraktes det som om han har angitt det laveste kortet i fargen.</a:t>
            </a:r>
            <a:endParaRPr b="1" lang="en-US" sz="1800" spc="-1" strike="noStrike">
              <a:solidFill>
                <a:srgbClr val="000000"/>
              </a:solidFill>
              <a:latin typeface="Arial"/>
            </a:endParaRPr>
          </a:p>
        </p:txBody>
      </p:sp>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NGIVELSE AV RANGERING, MEN IKK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n rangering, men ikke en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VED 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betraktes som om spilleføreren fortsetter den fargen blindemann vant foregående stikk i, forutsatt at det finnes et kort av den angitte rangering i denne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alle andre tilfeller må spilleføreren fra blindemann spille et kort av den angitte rangering hvis det kan gjøres på lovlig måte. Men hvis det finnes to eller flere slike kort som kan spilles på lovlig måte, må spilleføreren angi hvilket som skal spilles.</a:t>
            </a:r>
            <a:endParaRPr b="1" lang="en-US" sz="1800" spc="-1" strike="noStrike">
              <a:solidFill>
                <a:srgbClr val="000000"/>
              </a:solidFill>
              <a:latin typeface="Arial"/>
            </a:endParaRPr>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6. UFULLSTENDIG ELLER FEILAKTIG ANGIVELSE AV KORT FRA BLINDEMANN</a:t>
            </a:r>
            <a:endParaRPr b="1" i="1" lang="en-US" sz="2800" spc="-1" strike="noStrike">
              <a:solidFill>
                <a:srgbClr val="808000"/>
              </a:solidFill>
              <a:latin typeface="Arial"/>
            </a:endParaRPr>
          </a:p>
        </p:txBody>
      </p:sp>
      <p:sp>
        <p:nvSpPr>
          <p:cNvPr id="3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DET ANGITTE KORT IKKE FINNES HOS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kort som ikke finnes hos blindemann, er angivelsen ugyldig og spilleføreren kan angi et hvilket som helst lovlig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NÅR HVERKEN FARGE ELLER RANGERING ER ANGI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angir et spill uten å nevne hverken farge eller rangering </a:t>
            </a:r>
            <a:r>
              <a:rPr b="0" i="1" lang="nb-NO" sz="1800" spc="-1" strike="noStrike">
                <a:solidFill>
                  <a:srgbClr val="000000"/>
                </a:solidFill>
                <a:latin typeface="Arial"/>
              </a:rPr>
              <a:t>(for eksempel ved å si: "spill hva som helst" eller bruker ord av tilsvarende betydning)</a:t>
            </a:r>
            <a:r>
              <a:rPr b="0" lang="nb-NO" sz="1800" spc="-1" strike="noStrike">
                <a:solidFill>
                  <a:srgbClr val="000000"/>
                </a:solidFill>
                <a:latin typeface="Arial"/>
              </a:rPr>
              <a:t>, kan hvem som helst av motspillerne angi et spill fra blindemann.</a:t>
            </a:r>
            <a:endParaRPr b="1" lang="en-US" sz="1800" spc="-1" strike="noStrike">
              <a:solidFill>
                <a:srgbClr val="000000"/>
              </a:solidFill>
              <a:latin typeface="Arial"/>
            </a:endParaRPr>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 Å OPPFYLLE EN 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oppfylle en straff </a:t>
            </a:r>
            <a:r>
              <a:rPr b="0" i="1" lang="nb-NO" sz="1800" spc="-1" strike="noStrike">
                <a:solidFill>
                  <a:srgbClr val="000000"/>
                </a:solidFill>
                <a:latin typeface="Arial"/>
              </a:rPr>
              <a:t>(men hvis en motspiller trekker et kort tilbake, kan det blir straffekort - se §49).</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 Å KORRIGERE ET ULOVLIG SPIL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for å korrigere et ulovlig eller samtidig spill. </a:t>
            </a:r>
            <a:r>
              <a:rPr b="0" i="1" lang="nb-NO" sz="1800" spc="-1" strike="noStrike">
                <a:solidFill>
                  <a:srgbClr val="000000"/>
                </a:solidFill>
                <a:latin typeface="Arial"/>
              </a:rPr>
              <a:t>(Se §58 om samtidig spill. For motspillernes vedkommende, se §49 om straffekor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OR Å FORANDRE EN ANGIVELSE GITT AV VANVAR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spilt, kan trekkes tilbake uten straff etter at en angivelse er forandret som tillatt ifølge §45C4b)**.</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5C4b) omhandler korrigering av kort som er angitt av vanvare.</a:t>
            </a:r>
            <a:endParaRPr b="1" lang="en-US" sz="1400" spc="-1" strike="noStrike">
              <a:solidFill>
                <a:srgbClr val="000000"/>
              </a:solidFill>
              <a:latin typeface="Arial"/>
            </a:endParaRPr>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EN MOTSTANDER HAR FORANDRET SITT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n motstander har forandret sitt spill, kan et spilt kort trekkes tilbake uten straff og erstattes med et annet ko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FORANDRING AV SPILL SOM ER BASERT PÅ FEIL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TSPILL UTENFOR TU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utspill utenfor tur kan trekkes tilbake uten straff dersom utspilleren har fått feilaktig informasjon fra en motstander om at det var hans tur til å spille ut (VM skal ikke akseptere utspillet).</a:t>
            </a:r>
            <a:endParaRPr b="1" lang="en-US" sz="1800" spc="-1" strike="noStrike">
              <a:solidFill>
                <a:srgbClr val="000000"/>
              </a:solidFill>
              <a:latin typeface="Arial"/>
            </a:endParaRPr>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ILBAKETREKNING AV SPIL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INGEN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trekke tilbake et kort han har spilt  som følge av en feilaktig forklaring på en melding eller spill fra en motstander og før det er gitt en korrigert forklaring, men bare hvis det ikke er gjort et påfølgende spill til stikket. Et åpningsutspill utenfor tur kan ikke trekkes tilbake dersom blindemann har vist no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NÅR ÉN ELLER FLERE HAR SPILT PÅ ETTERPÅ</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korrigerte et spill som beskrevet under pkt. a) ovenfor, kommer §40C til anvendelse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40C gir turneringslederen anledning til å fastsette et justert resultat ved manglende eller ufullstendig forklaring.</a:t>
            </a:r>
            <a:endParaRPr b="1" lang="en-US" sz="1400" spc="-1" strike="noStrike">
              <a:solidFill>
                <a:srgbClr val="000000"/>
              </a:solidFill>
              <a:latin typeface="Arial"/>
            </a:endParaRPr>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7. TILBAKETREKNING AV SPILT KORT</a:t>
            </a:r>
            <a:endParaRPr b="1" i="1" lang="en-US" sz="2800" spc="-1" strike="noStrike">
              <a:solidFill>
                <a:srgbClr val="808000"/>
              </a:solidFill>
              <a:latin typeface="Arial"/>
            </a:endParaRPr>
          </a:p>
        </p:txBody>
      </p:sp>
      <p:sp>
        <p:nvSpPr>
          <p:cNvPr id="3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ULOVLIG TILBAKETREK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d de unntagelser som er gitt i pkt. A-E ovenfor, kan intet kort trekkes tilbake når det først er spilt.</a:t>
            </a:r>
            <a:endParaRPr b="1" lang="en-US" sz="1800" spc="-1" strike="noStrike">
              <a:solidFill>
                <a:srgbClr val="000000"/>
              </a:solidFill>
              <a:latin typeface="Arial"/>
            </a:endParaRPr>
          </a:p>
        </p:txBody>
      </p:sp>
    </p:spTree>
  </p:cSld>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8. KORT FREMVIST AV SPILLEFØRER</a:t>
            </a:r>
            <a:endParaRPr b="1" i="1" lang="en-US" sz="2800" spc="-1" strike="noStrike">
              <a:solidFill>
                <a:srgbClr val="808000"/>
              </a:solidFill>
              <a:latin typeface="Arial"/>
            </a:endParaRPr>
          </a:p>
        </p:txBody>
      </p:sp>
      <p:sp>
        <p:nvSpPr>
          <p:cNvPr id="347"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EN VISER ET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blir ikke ilagt straff for å vise frem et kort, og intet kort på spilleførerens eller blindemanns hånd kan noensinne bli straffekort. Spilleføreren er ikke forpliktet til å spille et kort som faller ned ved et uhell.</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PILLEFØREREN SNUR SINE KORT</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TTER ET ÅPNINGSUTSPILL UTENFOR TUR</a:t>
            </a:r>
            <a:endParaRPr b="1" lang="en-US" sz="1800" spc="-1" strike="noStrike">
              <a:solidFill>
                <a:srgbClr val="000000"/>
              </a:solidFill>
              <a:latin typeface="Arial"/>
            </a:endParaRPr>
          </a:p>
          <a:p>
            <a:pPr lvl="1" marL="630720" indent="-21024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sine kort med fremsiden opp etter et åpningsutspill utenfor tur, kommer §54 til anvendelse**.</a:t>
            </a:r>
            <a:endParaRPr b="1" lang="en-US" sz="1800" spc="-1" strike="noStrike">
              <a:solidFill>
                <a:srgbClr val="000000"/>
              </a:solidFill>
              <a:latin typeface="Arial"/>
            </a:endParaRPr>
          </a:p>
          <a:p>
            <a:pPr lvl="1" marL="630720" indent="-210240">
              <a:lnSpc>
                <a:spcPct val="8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4A fastslår at spilleføreren nå blir blindemann.</a:t>
            </a:r>
            <a:endParaRPr b="1" lang="en-US" sz="14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 ALLE ANDRE TILFELLE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spilleføreren legger kortene med fremsiden opp på ethvert annet tidspunkt enn etter et åpningsutspill utenfor tur, kan det betraktes som om spilleføreren har gjort krav på eller en avståelse av stikk, og §68 kommer i så fall til anvendelse.</a:t>
            </a:r>
            <a:endParaRPr b="1" lang="en-US" sz="1800" spc="-1" strike="noStrike">
              <a:solidFill>
                <a:srgbClr val="000000"/>
              </a:solidFill>
              <a:latin typeface="Arial"/>
            </a:endParaRPr>
          </a:p>
        </p:txBody>
      </p:sp>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9. KORT FREMVIST AV EN MOTSPILLER</a:t>
            </a:r>
            <a:endParaRPr b="1" i="1" lang="en-US" sz="2800" spc="-1" strike="noStrike">
              <a:solidFill>
                <a:srgbClr val="808000"/>
              </a:solidFill>
              <a:latin typeface="Arial"/>
            </a:endParaRPr>
          </a:p>
        </p:txBody>
      </p:sp>
      <p:sp>
        <p:nvSpPr>
          <p:cNvPr id="3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legger et kort på bordet med fremsiden opp, holder et kort slik at hans makker kan ha vært i stand til å se fremsiden av det, eller nevner et gitt kort på hånden før han har rett til å gjøre det etter normalt spilleforløp eller ifølge loven, blir som straff ethvert slikt kort straffekort (§50). Men se også fotnoten* til §68 når det gjelder en motspiller som har avgitt en uttalelse om et ufullstendig stikk som fremdeles spilles.</a:t>
            </a:r>
            <a:br>
              <a:rPr sz="1800"/>
            </a:br>
            <a:br>
              <a:rPr sz="1800"/>
            </a:br>
            <a:r>
              <a:rPr b="0" lang="nb-NO" sz="1400" spc="-1" strike="noStrike">
                <a:solidFill>
                  <a:srgbClr val="000000"/>
                </a:solidFill>
                <a:latin typeface="Arial"/>
              </a:rPr>
              <a:t>*(fotnote til §68): 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1" name="PlaceHolder 2"/>
          <p:cNvSpPr>
            <a:spLocks noGrp="1"/>
          </p:cNvSpPr>
          <p:nvPr>
            <p:ph/>
          </p:nvPr>
        </p:nvSpPr>
        <p:spPr>
          <a:xfrm>
            <a:off x="990720" y="2209680"/>
            <a:ext cx="775944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ass</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som tilkjennegir at en spiller i denne tur ikke velger å avgi noe bud eller noen dobling eller redobling.</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oe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enhet som tildeles en deltager etter sammenligning med én eller flere andre scorer.</a:t>
            </a:r>
            <a:endParaRPr b="1" lang="en-US" sz="1800" spc="-1" strike="noStrike">
              <a:solidFill>
                <a:srgbClr val="000000"/>
              </a:solidFill>
              <a:latin typeface="Arial"/>
            </a:endParaRPr>
          </a:p>
          <a:p>
            <a:pPr marL="285840" indent="-285840">
              <a:lnSpc>
                <a:spcPct val="90000"/>
              </a:lnSpc>
              <a:spcBef>
                <a:spcPts val="25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sykisk melding</a:t>
            </a:r>
            <a:endParaRPr b="1" lang="en-US" sz="2400" spc="-1" strike="noStrike">
              <a:solidFill>
                <a:srgbClr val="000000"/>
              </a:solidFill>
              <a:latin typeface="Arial"/>
            </a:endParaRPr>
          </a:p>
          <a:p>
            <a:pPr lvl="1" marL="685800" indent="-228600">
              <a:lnSpc>
                <a:spcPct val="90000"/>
              </a:lnSpc>
              <a:spcBef>
                <a:spcPts val="1913"/>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overlagt og grov villedende melding i forhold til håndens styrke og/eller fargefordeling.</a:t>
            </a:r>
            <a:endParaRPr b="1" lang="en-US" sz="1800" spc="-1" strike="noStrike">
              <a:solidFill>
                <a:srgbClr val="000000"/>
              </a:solidFill>
              <a:latin typeface="Arial"/>
            </a:endParaRPr>
          </a:p>
        </p:txBody>
      </p:sp>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Et kort som er fremvist i utide (men ikke spilt ut - se §57) av en motspiller, blir straffekort med mindre TL treffer en annen avgjørelse. TL skal tildele justert score i stedet for de korrigeringer som er beskrevet nedenfor når han dømmer at §72B1 gjelder**.</a:t>
            </a:r>
            <a:br>
              <a:rPr sz="1800"/>
            </a:br>
            <a:br>
              <a:rPr sz="1800"/>
            </a:br>
            <a:r>
              <a:rPr b="0" lang="nb-NO" sz="1400" spc="-1" strike="noStrike">
                <a:solidFill>
                  <a:srgbClr val="000000"/>
                </a:solidFill>
                <a:latin typeface="Arial"/>
              </a:rPr>
              <a:t>**§72B1 sier at når den feilende på det tidspunkt uregelmessigheten ble begått kunne vite at den kunne skade den ikke-feilende side, kan han tildele justert scor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STRAFFEKORTET SKAL BLI LIGGENDE FREMVI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traffekort må bli liggende på bordet like foran spilleren det tilhører, med fremsiden opp - helt til det er spilt eller til det er valgt en annen straff.</a:t>
            </a:r>
            <a:endParaRPr b="1" lang="en-US" sz="1800" spc="-1" strike="noStrike">
              <a:solidFill>
                <a:srgbClr val="000000"/>
              </a:solidFill>
              <a:latin typeface="Arial"/>
            </a:endParaRPr>
          </a:p>
        </p:txBody>
      </p:sp>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ORT ELLER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 enkelt kort av lavere rangering enn honnør, og som er frem-vist av vanvare (for eksempel når man spiller to kort til et stikk, eller mister et kort ved et uhell), blir automatisk et lite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som rangerer som honnør, og ethvert kort som er fremvist ved forsettlig spill (for eksempel når man spiller utenfor tur, eller revokerer og deretter korrigerer det), blir et stort straffekort. Når en motspiller har to eller flere straffekort, blir alle slike kort store straffekort.</a:t>
            </a:r>
            <a:endParaRPr b="1" lang="en-US" sz="1800" spc="-1" strike="noStrike">
              <a:solidFill>
                <a:srgbClr val="000000"/>
              </a:solidFill>
              <a:latin typeface="Arial"/>
            </a:endParaRPr>
          </a:p>
        </p:txBody>
      </p:sp>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HANDLING AV LIT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har et lite straffekort, kan denne ikke spille noe kort av samme farge under honnørkorts rangering før straffekortet er spilt </a:t>
            </a:r>
            <a:r>
              <a:rPr b="0" i="1" lang="nb-NO" sz="1800" spc="-1" strike="noStrike">
                <a:solidFill>
                  <a:srgbClr val="000000"/>
                </a:solidFill>
                <a:latin typeface="Arial"/>
              </a:rPr>
              <a:t>(motspilleren har imidlertid rett til å spille et honnørkort i stedet)</a:t>
            </a:r>
            <a:r>
              <a:rPr b="1" lang="nb-NO" sz="1800" spc="-1" strike="noStrike">
                <a:solidFill>
                  <a:srgbClr val="000000"/>
                </a:solidFill>
                <a:latin typeface="Arial"/>
              </a:rPr>
              <a:t>. Den feilendes makker blir ikke ilagt utspillsstraff, men informasjon som erverves ved at makker får se straffekortet, er uvedkommende og urettmessig (se §16A).</a:t>
            </a:r>
            <a:endParaRPr b="1" lang="en-US" sz="1800" spc="-1" strike="noStrike">
              <a:solidFill>
                <a:srgbClr val="000000"/>
              </a:solidFill>
              <a:latin typeface="Arial"/>
            </a:endParaRPr>
          </a:p>
        </p:txBody>
      </p:sp>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BEHANDLING AV STORT STRAFFEKORT</a:t>
            </a:r>
            <a:br>
              <a:rPr sz="2400"/>
            </a:br>
            <a:r>
              <a:rPr b="1" lang="nb-NO" sz="1800" spc="-1" strike="noStrike">
                <a:solidFill>
                  <a:srgbClr val="000000"/>
                </a:solidFill>
                <a:latin typeface="Arial"/>
              </a:rPr>
              <a:t>Når en motspiller har et stort straffekort, kan både den feilende og hans makker pålegges begrensninger - den feilende hver gang denne skal spille, og den feilendes makker hver gang han skal spille ut.</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SKAL SPILLE</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stort straffekort må spilles ved første lovlige anledning, uansett om det dreier seg om utspill, følge farge, avkast eller å trumfe (påbudet om å spille straffekortet ved første lovlige anledning er lovlig informasjon for hans makker, derimot er all annen informasjon som måtte fremkomme av det viste kortet ulovlig). Hvis en motspiller har to eller flere straffekort som kan spilles på lovlig måte, kan spilleføreren bestemme hvilket som skal spilles. Forpliktelsen til å følge farge eller til å oppfylle en spillestraff går foran plikten til å spille et stort straffekort, men straffekortet må fortsatt bli liggende på bordet med fremsiden opp og spilles ved neste lovlige anledning.</a:t>
            </a:r>
            <a:endParaRPr b="1" lang="en-US" sz="1800" spc="-1" strike="noStrike">
              <a:solidFill>
                <a:srgbClr val="000000"/>
              </a:solidFill>
              <a:latin typeface="Arial"/>
            </a:endParaRPr>
          </a:p>
        </p:txBody>
      </p:sp>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N FEILENDES MAKKER SKAL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utspillet på et tidspunkt da hans makker har et stort straffekort, kan han ikke spille ut før spilleføreren har meddelt hvilken av mulighetene nedenfor som skal velges </a:t>
            </a:r>
            <a:r>
              <a:rPr b="0" i="1" lang="nb-NO" sz="1800" spc="-1" strike="noStrike">
                <a:solidFill>
                  <a:srgbClr val="000000"/>
                </a:solidFill>
                <a:latin typeface="Arial"/>
              </a:rPr>
              <a:t>(hvis motspilleren spiller ut i utide, blir han ilagt straff ifølge §49)</a:t>
            </a:r>
            <a:r>
              <a:rPr b="0"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Å FORLANGE ELLER FORBY UTSPILL I STRAFFEKORTETS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 kan forlange* at den feilendes makker spiller ut i samme farge som straffekortet, eller forby* utspill i denne fargen så lenge han har utspillet </a:t>
            </a:r>
            <a:r>
              <a:rPr b="0" i="1" lang="nb-NO" sz="1800" spc="-1" strike="noStrike">
                <a:solidFill>
                  <a:srgbClr val="000000"/>
                </a:solidFill>
                <a:latin typeface="Arial"/>
              </a:rPr>
              <a:t>(når det gjelder to eller flere straffekort - se §51)</a:t>
            </a:r>
            <a:r>
              <a:rPr b="0" lang="nb-NO" sz="1800" spc="-1" strike="noStrike">
                <a:solidFill>
                  <a:srgbClr val="000000"/>
                </a:solidFill>
                <a:latin typeface="Arial"/>
              </a:rPr>
              <a:t>. Hvis spilleføreren gjør bruk av sin rett til å bestemme utspillet, er straffekortet ikke lenger straffekort og tas opp.</a:t>
            </a:r>
            <a:endParaRPr b="1" lang="en-US" sz="1800" spc="-1" strike="noStrike">
              <a:solidFill>
                <a:srgbClr val="000000"/>
              </a:solidFill>
              <a:latin typeface="Arial"/>
            </a:endParaRPr>
          </a:p>
        </p:txBody>
      </p:sp>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0. BEHANDLING AV STRAFFEKORT</a:t>
            </a:r>
            <a:endParaRPr b="1" i="1" lang="en-US" sz="2800" spc="-1" strike="noStrike">
              <a:solidFill>
                <a:srgbClr val="808000"/>
              </a:solidFill>
              <a:latin typeface="Arial"/>
            </a:endParaRPr>
          </a:p>
        </p:txBody>
      </p:sp>
      <p:sp>
        <p:nvSpPr>
          <p:cNvPr id="3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ut, eller fordi spilleren er nødt til å følge farge - så kan han spille et hvilket som helst annet lovlig kor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INGEN BEGRENSNINGER AV UT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ikke gjør bruk av sin rett til å forlange eller forby utspill i straffekortets farge, kan motspilleren spille ut hvilket som helst kort, men straffekortet er fortsatt straffekort.</a:t>
            </a:r>
            <a:endParaRPr b="1" lang="en-US" sz="1800" spc="-1" strike="noStrike">
              <a:solidFill>
                <a:srgbClr val="000000"/>
              </a:solidFill>
              <a:latin typeface="Arial"/>
            </a:endParaRPr>
          </a:p>
        </p:txBody>
      </p:sp>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DET ER DEN FEILENDES TUR TIL Å SPILL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har to eller flere straffekort som kan spilles på lovlig måte, kan spilleføreren bestemme hvilket som skal spilles i denne tu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H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TRAFFEKORT I SAMM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FAR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to eller flere straffekort i samme farge, og spilleføreren forlanger at den feilendes makker skal spille ut denne fargen, blir alle kortene i denne fargen ikke lenger straffekort og tas opp. Motspilleren kan gjøre et hvilket som helst lovlig spill til stikket.</a:t>
            </a:r>
            <a:endParaRPr b="1" lang="en-US" sz="1800" spc="-1" strike="noStrike">
              <a:solidFill>
                <a:srgbClr val="000000"/>
              </a:solidFill>
              <a:latin typeface="Arial"/>
            </a:endParaRPr>
          </a:p>
        </p:txBody>
      </p:sp>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FORBYR UTSPILL I FARGEN</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forbyr utspill i straffekortets farge, kan motspilleren ta opp alle straffekort i denne fargen og gjør et hvilket som helst lovlig spill til stikket.</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TRAFFEKORT I MER ENN ÉN FAR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FORLANGER UTSPILL I ÉN AV FARGEN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lange* at motspillerens makker spiller ut i en av fargene som motspilleren har straffekort i, og som han angir (men i så fall kommer pkt. B1a) ovenfor til anvendelse).</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1. TO ELLER FLERE STRAFFEKORT</a:t>
            </a:r>
            <a:endParaRPr b="1" i="1" lang="en-US" sz="2800" spc="-1" strike="noStrike">
              <a:solidFill>
                <a:srgbClr val="808000"/>
              </a:solidFill>
              <a:latin typeface="Arial"/>
            </a:endParaRPr>
          </a:p>
        </p:txBody>
      </p:sp>
      <p:sp>
        <p:nvSpPr>
          <p:cNvPr id="3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a:t>
            </a:r>
            <a:r>
              <a:rPr b="1" lang="nb-NO" sz="1800" spc="-1" strike="noStrike">
                <a:solidFill>
                  <a:srgbClr val="000000"/>
                </a:solidFill>
                <a:latin typeface="Arial"/>
              </a:rPr>
              <a:t>	</a:t>
            </a:r>
            <a:r>
              <a:rPr b="1" lang="nb-NO" sz="1800" spc="-1" strike="noStrike">
                <a:solidFill>
                  <a:srgbClr val="000000"/>
                </a:solidFill>
                <a:latin typeface="Arial"/>
              </a:rPr>
              <a:t>SPILLEFØRER FORBYR UTSPILL I ÉN ELLER FLERE AV FAR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motspiller har straffekort i mer enn én farge, kan spilleføreren forby* motspillerens makker å spille ut i en eller flere av disse fargene. I så fall plukker motspilleren opp alle straffekort i enhver farge som er forbudt av spilleføreren, og gjør et hvilket som helst lovlig spill til stikk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spilleren ikke er i stand til å spille ut som det forlanges - se §59**.</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9: Hvis en spiller ikke er i stand til å gjøre et utspill eller spill som han er pålagt som straff, enten fordi han ikke har noe kort i den fargen som forlanges, eller bare har kort i en farge som er forbudt å spille, eller fordi spilleren er nødt til å følge farge - så kan han spille et hvilket som helst annet lovlig kort.</a:t>
            </a:r>
            <a:endParaRPr b="1" lang="en-US" sz="1400" spc="-1" strike="noStrike">
              <a:solidFill>
                <a:srgbClr val="000000"/>
              </a:solidFill>
              <a:latin typeface="Arial"/>
            </a:endParaRPr>
          </a:p>
        </p:txBody>
      </p:sp>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OTSPILLER UNNLATER Å SPILLE STRAFFE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unnlater å spille ut eller spille et stort straffekort slik det er fastsatt i §50, kan motspilleren ikke på eget initiativ trekke tilbake et annet kort som er spil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OTSPILLER SPILLER ET ANNET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TE SPILLET BLIR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KAN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har spilt ut eller spilt et annet kort på et tidspunkt da lovene forlanger at han skal spille et straffekort, kan spilleføreren godta et slikt utspill eller spill.</a:t>
            </a:r>
            <a:endParaRPr b="1"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3" name="PlaceHolder 2"/>
          <p:cNvSpPr>
            <a:spLocks noGrp="1"/>
          </p:cNvSpPr>
          <p:nvPr>
            <p:ph/>
          </p:nvPr>
        </p:nvSpPr>
        <p:spPr>
          <a:xfrm>
            <a:off x="577800" y="2209680"/>
            <a:ext cx="88329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Påspill</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man fra sin hånd legger til et stikk.</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dobling</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at en motstander har doblet. Redoblingen øker scoren på kontrakten enten den vinnes eller betes (se §§19 og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evok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 av et kort i en annen farge når en spiller er i stand til å følge farge, eller ikke rette seg etter en pålagt utspillsbegrensning (se §§61-64).</a:t>
            </a:r>
            <a:endParaRPr b="1" lang="en-US" sz="1800" spc="-1" strike="noStrike">
              <a:solidFill>
                <a:srgbClr val="000000"/>
              </a:solidFill>
              <a:latin typeface="Arial"/>
            </a:endParaRPr>
          </a:p>
        </p:txBody>
      </p:sp>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2. UNNLATELSE AV Å SPILLE UT ELLER SPILLE ET STRAFFEKORT</a:t>
            </a:r>
            <a:endParaRPr b="1" i="1" lang="en-US" sz="2800" spc="-1" strike="noStrike">
              <a:solidFill>
                <a:srgbClr val="808000"/>
              </a:solidFill>
              <a:latin typeface="Arial"/>
            </a:endParaRPr>
          </a:p>
        </p:txBody>
      </p:sp>
      <p:sp>
        <p:nvSpPr>
          <p:cNvPr id="3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SPILLEFØRER MÅ GODTA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etter et slikt utspill eller spill har gjort et påfølgende spill fra sin egen eller blindemanns hånd, må han godta utspillet ell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STRAFFEKORTET ER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pilte kort blir godtatt ifølge enten pkt. a) eller pkt. b) ovenfor, er det uspilte straffekortet fortsatt straffe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T BLIR IKKE GODTA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kan forlange at motspilleren bytter ut det ulovlig utspilte eller spilte kortet med straffekortet. Ethvert kort som er ulovlig spilt ut eller spilt av motspilleren som ledd i en slik uregelmessighet, blir et stort straffekort.</a:t>
            </a:r>
            <a:endParaRPr b="1" lang="en-US" sz="1800" spc="-1" strike="noStrike">
              <a:solidFill>
                <a:srgbClr val="000000"/>
              </a:solidFill>
              <a:latin typeface="Arial"/>
            </a:endParaRPr>
          </a:p>
        </p:txBody>
      </p:sp>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UTSPILL UTENFOR TUR BEHANDLES SOM KORRE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pill som er gjort utenfor tur med fremsiden opp kan behandles som korrekt. Det blir et korrekt utspill hvis spilleføreren eller noen av motspillerne (alt etter hvem som har foretatt utspill utenfor tur) godtar det (ved å gi klart uttrykk for det), eller hvis spilleren til venstre spiller på* til det ukorrekte utspillet, men se §47E1. (Hvis det ikke blir sagt at utspillet godtas, og heller ikke blir gjort noe påspill, skal TL dømme at utspillet gjøres fra riktig hånd.)</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se også pkt. C nedenfor.</a:t>
            </a:r>
            <a:endParaRPr b="1" lang="en-US" sz="1400" spc="-1" strike="noStrike">
              <a:solidFill>
                <a:srgbClr val="000000"/>
              </a:solidFill>
              <a:latin typeface="Arial"/>
            </a:endParaRPr>
          </a:p>
        </p:txBody>
      </p:sp>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3. GODTAGELSE AV UTSPILL UTENFOR TUR</a:t>
            </a:r>
            <a:endParaRPr b="1" i="1" lang="en-US" sz="2800" spc="-1" strike="noStrike">
              <a:solidFill>
                <a:srgbClr val="808000"/>
              </a:solidFill>
              <a:latin typeface="Arial"/>
            </a:endParaRPr>
          </a:p>
        </p:txBody>
      </p:sp>
      <p:sp>
        <p:nvSpPr>
          <p:cNvPr id="3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FEIL MOTSPILLER SPILLER KORT TIL UKORREKT UTSPILL FRA SPILLEFØREREN</a:t>
            </a:r>
            <a:endParaRPr b="1" lang="en-US" sz="24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motspiller til høyre for den hånd som utspillet utenfor tur kom fra, spiller på til det ukorrekte utspillet*, blir utspillet stående og §57 kommer til anvendelse.</a:t>
            </a:r>
            <a:br>
              <a:rPr sz="1800"/>
            </a:br>
            <a:r>
              <a:rPr b="0" lang="nb-NO" sz="1400" spc="-1" strike="noStrike">
                <a:solidFill>
                  <a:srgbClr val="000000"/>
                </a:solidFill>
                <a:latin typeface="Arial"/>
              </a:rPr>
              <a:t>*Men se også pkt. C nedenfor.</a:t>
            </a:r>
            <a:endParaRPr b="1" lang="en-US" sz="1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T UKORREKT UTSPILL BLIR FULGT AV ET KORREK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utspillet rettmessig var hos en motstander av spilleren som spilte ut utenfor tur, kan denne motstander gjøre sitt korrekte utspill til det irregulære stikket uten at denne spillers kort blir betraktet som spilt til det ukorrekte utspillet. I så fall blir det korrekte utspillet stående, og alle kort som på grunn av feiltagelse er spilt til stikket, kan trekkes tilbake uten straff. </a:t>
            </a:r>
            <a:r>
              <a:rPr b="0" lang="nb-NO" sz="1800" spc="-1" strike="noStrike">
                <a:solidFill>
                  <a:srgbClr val="000000"/>
                </a:solidFill>
                <a:latin typeface="CG Times"/>
              </a:rPr>
              <a:t>. </a:t>
            </a:r>
            <a:r>
              <a:rPr b="0" i="1" lang="nb-NO" sz="1800" spc="-1" strike="noStrike">
                <a:solidFill>
                  <a:srgbClr val="000000"/>
                </a:solidFill>
                <a:latin typeface="Arial"/>
              </a:rPr>
              <a:t>(§16C2 kommer til anvendelse for en motspiller.)</a:t>
            </a:r>
            <a:endParaRPr b="1" lang="en-US" sz="1800" spc="-1" strike="noStrike">
              <a:solidFill>
                <a:srgbClr val="000000"/>
              </a:solidFill>
              <a:latin typeface="Arial"/>
            </a:endParaRPr>
          </a:p>
        </p:txBody>
      </p:sp>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et åpningsutspill utenfor tur er gjort med billedsiden opp, og makkeren til den som spilte ut utenfor tur samtidig spiller ut med billedsiden ned, skal TL dømme at kortet som ble spilt ut med billedsiden ned settes tilbake på hånden, og det nedenstående kommer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 LEGGER SIN HÅND PÅ BORD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et åpningsutspill utenfor tur er lagt med fremsiden opp, kan spilleføreren legge sin hånd på bordet. Derved blir han blindemann, og blindemann blir spillefører. Hvis spilleføreren begynner å legge sin hånd på bordet og derved viser frem ett eller flere kort, må han legge hele hånden på bord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79"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PILLEFØRER GODTAR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åpningsutspill utenfor tur med fremsiden opp, kan spilleføreren godta det ukorrekte utspillet som beskrevet i §53, og blindemann legges på bordet i samsvar med §41.</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 SPILLER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 nummer to til stikket spilles fra spilleførerens hån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BLINDEMANN HAR SPILT KORT NUMMER TO</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spiller kort nummer to til stikket fra blindemann, kan blindemanns spilte kort ikke trekkes tilbake unntatt for å korrigere en revoke.</a:t>
            </a:r>
            <a:endParaRPr b="1" lang="en-US" sz="1800" spc="-1" strike="noStrike">
              <a:solidFill>
                <a:srgbClr val="000000"/>
              </a:solidFill>
              <a:latin typeface="Arial"/>
            </a:endParaRPr>
          </a:p>
        </p:txBody>
      </p:sp>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4. ÅPNINGSUTSPILL MED FREMSIDEN OPP UTENFOR TUR</a:t>
            </a:r>
            <a:endParaRPr b="1" i="1" lang="en-US" sz="2800" spc="-1" strike="noStrike">
              <a:solidFill>
                <a:srgbClr val="808000"/>
              </a:solidFill>
              <a:latin typeface="Arial"/>
            </a:endParaRPr>
          </a:p>
        </p:txBody>
      </p:sp>
      <p:sp>
        <p:nvSpPr>
          <p:cNvPr id="3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FØRER M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kan ha sett noen av blindemanns kort </a:t>
            </a:r>
            <a:r>
              <a:rPr b="0" i="1" lang="nb-NO" sz="1800" spc="-1" strike="noStrike">
                <a:solidFill>
                  <a:srgbClr val="000000"/>
                </a:solidFill>
                <a:latin typeface="Arial"/>
              </a:rPr>
              <a:t>(bortsett fra kort som blindemann måtte ha fremvist under meldingsforløpet og som kom inn under §24)</a:t>
            </a:r>
            <a:r>
              <a:rPr b="1" lang="nb-NO" sz="1800" spc="-1" strike="noStrike">
                <a:solidFill>
                  <a:srgbClr val="000000"/>
                </a:solidFill>
                <a:latin typeface="Arial"/>
              </a:rPr>
              <a:t>, må spilleføreren godta ut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FØRER NEKTER Å GODTA UT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spilleføreren forlanger at motspilleren skal trekke tilbake det utspill som er gjort med fremsiden opp, kommer §56 til anvendelse.</a:t>
            </a:r>
            <a:endParaRPr b="1" lang="en-US" sz="1800" spc="-1" strike="noStrike">
              <a:solidFill>
                <a:srgbClr val="000000"/>
              </a:solidFill>
              <a:latin typeface="Arial"/>
            </a:endParaRPr>
          </a:p>
        </p:txBody>
      </p:sp>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FØRERS UTSPILL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spilt ut utenfor tur fra sin egen eller blindemanns hånd, kan hver av motspillerne godta utspillet som beskrevet i §53, eller kreve at det blir trukket tilbake</a:t>
            </a:r>
            <a:r>
              <a:rPr b="0" lang="nb-NO" sz="1800" spc="-1" strike="noStrike">
                <a:solidFill>
                  <a:srgbClr val="000000"/>
                </a:solidFill>
                <a:latin typeface="CG Times"/>
              </a:rPr>
              <a:t>  </a:t>
            </a:r>
            <a:r>
              <a:rPr b="0" i="1" lang="nb-NO" sz="1800" spc="-1" strike="noStrike">
                <a:solidFill>
                  <a:srgbClr val="000000"/>
                </a:solidFill>
                <a:latin typeface="Arial"/>
              </a:rPr>
              <a:t>(etter en feilinformasjon, se §47E1)</a:t>
            </a:r>
            <a:r>
              <a:rPr b="1" i="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VED KRAV OM AT SPILLEFØRER SKAL TREKKE UTSPILLET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T ER EN MOTSPILLERS TUR TIL Å SPILLE U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sin egen eller blindemanns hånd på et tidspunkt da det var en motspillers tur til å spille ut, og en av motspillerne forlanger at spilleføreren skal trekke tilbake det ukorrekte utspill, setter spilleføreren uten straff det feilaktige utspilte kort tilbake på riktig hånd.</a:t>
            </a:r>
            <a:endParaRPr b="1" lang="en-US" sz="1800" spc="-1" strike="noStrike">
              <a:solidFill>
                <a:srgbClr val="000000"/>
              </a:solidFill>
              <a:latin typeface="Arial"/>
            </a:endParaRPr>
          </a:p>
        </p:txBody>
      </p:sp>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5. SPILLEFØRERS UTSPILL UTENFOR TUR</a:t>
            </a:r>
            <a:endParaRPr b="1" i="1" lang="en-US" sz="2800" spc="-1" strike="noStrike">
              <a:solidFill>
                <a:srgbClr val="808000"/>
              </a:solidFill>
              <a:latin typeface="Arial"/>
            </a:endParaRPr>
          </a:p>
        </p:txBody>
      </p:sp>
      <p:sp>
        <p:nvSpPr>
          <p:cNvPr id="3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UTSPILLET ER HOS SPILLEFØRER ELLER BLINDEMAN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føreren har spilt ut fra feil hånd på et tidspunkt da det skulle spilles ut fra egen eller blindemanns hånd, og en av motspillerne forlanger at utspillet skal trekkes tilbake, trekker spilleren tilbake det feilaktige utspilte kort. Spilleføreren må nå spille ut fra riktig hån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EN KAN ERVERVE INFORMA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fører tillemper en spillemåte som kan være basert på informasjon han har ervervet gjennom lovbruddet, kan turneringslederen tildele et justert resultat.</a:t>
            </a:r>
            <a:endParaRPr b="1" lang="en-US" sz="1800" spc="-1" strike="noStrike">
              <a:solidFill>
                <a:srgbClr val="000000"/>
              </a:solidFill>
              <a:latin typeface="Arial"/>
            </a:endParaRPr>
          </a:p>
        </p:txBody>
      </p:sp>
    </p:spTree>
  </p:cSld>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6. MOTSPILLERS UTSPILL UTENFOR TUR</a:t>
            </a:r>
            <a:endParaRPr b="1" i="1" lang="en-US" sz="2800" spc="-1" strike="noStrike">
              <a:solidFill>
                <a:srgbClr val="808000"/>
              </a:solidFill>
              <a:latin typeface="Arial"/>
            </a:endParaRPr>
          </a:p>
        </p:txBody>
      </p:sp>
      <p:sp>
        <p:nvSpPr>
          <p:cNvPr id="3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spilleføreren forlanger at en motspiller skal trekke tilbake et utspill som er lagt med fremsiden opp utenfor tur, blir det ulovlig utspilte kort et stort straffekort, og §50 kommer til anvendelse.</a:t>
            </a:r>
            <a:endParaRPr b="1" lang="en-US" sz="2000" spc="-1" strike="noStrike">
              <a:solidFill>
                <a:srgbClr val="000000"/>
              </a:solidFill>
              <a:latin typeface="Arial"/>
            </a:endParaRPr>
          </a:p>
        </p:txBody>
      </p:sp>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I UTIDE ELLER UTSPILL TIL NESTE STIKK</a:t>
            </a:r>
            <a:endParaRPr b="1" lang="en-US" sz="24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Når en motspiller spiller ut til neste stikk før hans makker har spilt til det foreliggende stikk. eller spiller utenfor tur før makker har spilt, blir kortet som er ukorrekt spilt ut eller spilt, et straffekort. Spilleføreren kan dessuten velge mellom følgende mulighet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VELGE HØY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høy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VELGE LAVESTE KORT</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lange at den feilendes makker spiller det laveste kort som denne har i den utspilte fargen, eller:</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3.</a:t>
            </a:r>
            <a:r>
              <a:rPr b="1" lang="nb-NO" sz="1600" spc="-1" strike="noStrike">
                <a:solidFill>
                  <a:srgbClr val="000000"/>
                </a:solidFill>
                <a:latin typeface="Arial"/>
              </a:rPr>
              <a:t>	</a:t>
            </a:r>
            <a:r>
              <a:rPr b="1" lang="nb-NO" sz="1600" spc="-1" strike="noStrike">
                <a:solidFill>
                  <a:srgbClr val="000000"/>
                </a:solidFill>
                <a:latin typeface="Arial"/>
              </a:rPr>
              <a:t>NEKTE SPILL AV EN ANNEN FARGE</a:t>
            </a:r>
            <a:endParaRPr b="1" lang="en-US" sz="1600" spc="-1" strike="noStrike">
              <a:solidFill>
                <a:srgbClr val="000000"/>
              </a:solidFill>
              <a:latin typeface="Arial"/>
            </a:endParaRPr>
          </a:p>
          <a:p>
            <a:pPr lvl="1" marL="678600" indent="-22608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by den feilendes makker å spille et kort i en annen farge som spilleføreren angir.</a:t>
            </a:r>
            <a:endParaRPr b="1"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Run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del av en omgang som spilles uten at spillerne forflytter seg.</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cor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 at trekkpoeng og bonus, eventuelt verdien av beter, som føres på resultatslippen i henhold til §77.</a:t>
            </a:r>
            <a:endParaRPr b="1" lang="en-US" sz="1800" spc="-1" strike="noStrike">
              <a:solidFill>
                <a:srgbClr val="000000"/>
              </a:solidFill>
              <a:latin typeface="Arial"/>
            </a:endParaRPr>
          </a:p>
          <a:p>
            <a:pPr marL="285840" indent="-28584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ide</a:t>
            </a:r>
            <a:endParaRPr b="1" lang="en-US" sz="2400" spc="-1" strike="noStrike">
              <a:solidFill>
                <a:srgbClr val="000000"/>
              </a:solidFill>
              <a:latin typeface="Arial"/>
            </a:endParaRPr>
          </a:p>
          <a:p>
            <a:pPr lvl="1" marL="685800" indent="-228600">
              <a:lnSpc>
                <a:spcPct val="90000"/>
              </a:lnSpc>
              <a:spcBef>
                <a:spcPts val="1800"/>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o spillere som utgjør et makkerpar overfor de andre to spillerne ved et bord.</a:t>
            </a:r>
            <a:endParaRPr b="1" lang="en-US" sz="1800" spc="-1" strike="noStrike">
              <a:solidFill>
                <a:srgbClr val="000000"/>
              </a:solidFill>
              <a:latin typeface="Arial"/>
            </a:endParaRPr>
          </a:p>
        </p:txBody>
      </p:sp>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7. MOTSPILLERS UTSPILL ELLER SPILL I UTIDE</a:t>
            </a:r>
            <a:endParaRPr b="1" i="1" lang="en-US" sz="2800" spc="-1" strike="noStrike">
              <a:solidFill>
                <a:srgbClr val="808000"/>
              </a:solidFill>
              <a:latin typeface="Arial"/>
            </a:endParaRPr>
          </a:p>
        </p:txBody>
      </p:sp>
      <p:sp>
        <p:nvSpPr>
          <p:cNvPr id="3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FEILENDES MAKKER IKKE KAN OPPFYLLE STRAFF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n feilendes makker ikke er i stand til å oppfylle den straff som spilleføreren har valgt, kan han spille et hvilket som helst annet kort som beskrevet i §59.</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FØRER HAR SPILT FRA BEGGE HENDER FØR UREGELMESSIGHETEN SKJEDD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otspiller får ikke straff for å spille før sin makker, hvis spilleføreren har spilt fra begge hender, eller hvis blindemann har spilt et kort eller på ulovlig måte har foreslått at det skal spilles. En singelton hos blindemann, eller ett av flere kort med tilstøtende rangering i samme farge, betraktes ikke som automatisk spilt.</a:t>
            </a:r>
            <a:endParaRPr b="1" lang="en-US" sz="1800" spc="-1" strike="noStrike">
              <a:solidFill>
                <a:srgbClr val="000000"/>
              </a:solidFill>
              <a:latin typeface="Arial"/>
            </a:endParaRPr>
          </a:p>
        </p:txBody>
      </p:sp>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AMTIDIG SPILL AV TO SPILL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utspill eller spill som foretas samtidig med et lovlig utspill eller spill fra en annen spiller, betraktes som å komme etter det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AMTIDIG SPILL AV KORT FRA SAMME HÅN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spiller ut eller spiller to eller flere kort samtidig, skj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ETT KORT ER SYN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bare ett kort er synlig, er dette krotet spilt. Alle andre kort plukkes opp uten straff.</a:t>
            </a:r>
            <a:endParaRPr b="1" lang="en-US" sz="1800" spc="-1" strike="noStrike">
              <a:solidFill>
                <a:srgbClr val="000000"/>
              </a:solidFill>
              <a:latin typeface="Arial"/>
            </a:endParaRPr>
          </a:p>
        </p:txBody>
      </p:sp>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8. SAMTIDIG UTSPILL ELLER SPILL</a:t>
            </a:r>
            <a:endParaRPr b="1" i="1" lang="en-US" sz="2800" spc="-1" strike="noStrike">
              <a:solidFill>
                <a:srgbClr val="808000"/>
              </a:solidFill>
              <a:latin typeface="Arial"/>
            </a:endParaRPr>
          </a:p>
        </p:txBody>
      </p:sp>
      <p:sp>
        <p:nvSpPr>
          <p:cNvPr id="3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LERE KORT ER SYNLI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er enn ett kort er synlig, velger spilleren hvilket kort han vil spille. Hvis han er motspiller, blir ethvert annet fremvist kort straffekort (se §50).</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3.</a:t>
            </a:r>
            <a:r>
              <a:rPr b="0" lang="nb-NO" sz="1800" spc="-1" strike="noStrike">
                <a:solidFill>
                  <a:srgbClr val="000000"/>
                </a:solidFill>
                <a:latin typeface="Arial"/>
              </a:rPr>
              <a:t>	</a:t>
            </a:r>
            <a:r>
              <a:rPr b="0" lang="nb-NO" sz="1800" spc="-1" strike="noStrike">
                <a:solidFill>
                  <a:srgbClr val="000000"/>
                </a:solidFill>
                <a:latin typeface="Arial"/>
              </a:rPr>
              <a:t>ET FREMVIST KORT BLIR TRUKKET TILBAKE</a:t>
            </a:r>
            <a:br>
              <a:rPr sz="1800"/>
            </a:br>
            <a:br>
              <a:rPr sz="1800"/>
            </a:br>
            <a:r>
              <a:rPr b="0" lang="nb-NO" sz="1800" spc="-1" strike="noStrike">
                <a:solidFill>
                  <a:srgbClr val="000000"/>
                </a:solidFill>
                <a:latin typeface="Arial"/>
              </a:rPr>
              <a:t>Etter at en spiller har trukket tilbake et fremvist kort, kan en motstander som har gjort et påfølgende påspill til dette kortet, trekke sitt kort tilbake og bytte det ut med et annet uten straff (se §16C**).</a:t>
            </a:r>
            <a:br>
              <a:rPr sz="1800"/>
            </a:br>
            <a:br>
              <a:rPr sz="1400"/>
            </a:b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NÅR FEILEN IKKE BLIR OPPDAG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samtidige spill ikke blir oppdaget før begge sider har spilt til neste stikk, kommer §67 til anvendelse.</a:t>
            </a:r>
            <a:endParaRPr b="1" lang="en-US" sz="1800" spc="-1" strike="noStrike">
              <a:solidFill>
                <a:srgbClr val="000000"/>
              </a:solidFill>
              <a:latin typeface="Arial"/>
            </a:endParaRPr>
          </a:p>
        </p:txBody>
      </p:sp>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9. PÅBUD OM UTSPILL ELLER SPILL SOM IKKE KAN ETTERKOMMES</a:t>
            </a:r>
            <a:endParaRPr b="1" i="1" lang="en-US" sz="2800" spc="-1" strike="noStrike">
              <a:solidFill>
                <a:srgbClr val="808000"/>
              </a:solidFill>
              <a:latin typeface="Arial"/>
            </a:endParaRPr>
          </a:p>
        </p:txBody>
      </p:sp>
      <p:sp>
        <p:nvSpPr>
          <p:cNvPr id="39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ikke er i stand til å gjøre et utspill eller påspill som han er pålagt som straff, enten fordi han ikke har noe kort i den fargen som forlanges, eller bare har kort i en farge som han er nektet å spille ut, eller fordi spilleren er nødt til å følge farge, kan han spille et hvilket som helst annet lovlig kort.</a:t>
            </a:r>
            <a:endParaRPr b="1" lang="en-US" sz="1800" spc="-1" strike="noStrike">
              <a:solidFill>
                <a:srgbClr val="000000"/>
              </a:solidFill>
              <a:latin typeface="Arial"/>
            </a:endParaRPr>
          </a:p>
        </p:txBody>
      </p:sp>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3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 ETTER EN UREGELMESS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TTEN TIL STRAFF FORSPI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fra den ikke-feilende side spiller etter at HM har spilt ut eller spilt på utenfor tur eller for tidlig, men før det er tildelt en straff, forspilles retten til å få ilagt en straff for feil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REGELMESSIGHETEN BLI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retten til å få ilagt straff er forspilt, blir det ulovlige spill behandlet som om det var skjedd i tur (men når det gjelder den spilleren som egentlig var i tur, kommer §53C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IDLIGERE BEGRENSNINGER PÅ GRUNN AV STRAFF STÅR FORTSATT VED MAK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side tidligere er blitt pålagt å spille et straffe-kort eller etterkomme en spillestraff, står pålegget fortsatt ved makt.</a:t>
            </a:r>
            <a:endParaRPr b="1" lang="en-US" sz="1800" spc="-1" strike="noStrike">
              <a:solidFill>
                <a:srgbClr val="000000"/>
              </a:solidFill>
              <a:latin typeface="Arial"/>
            </a:endParaRPr>
          </a:p>
        </p:txBody>
      </p:sp>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0. SPILL ETTER ULOVLIG SPILL</a:t>
            </a:r>
            <a:endParaRPr b="1" i="1" lang="en-US" sz="2800" spc="-1" strike="noStrike">
              <a:solidFill>
                <a:srgbClr val="808000"/>
              </a:solidFill>
              <a:latin typeface="Arial"/>
            </a:endParaRPr>
          </a:p>
        </p:txBody>
      </p:sp>
      <p:sp>
        <p:nvSpPr>
          <p:cNvPr id="4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MOTSPILLER SPILLER FØR SPILLEFØRER HAR GJORT ET PÅBUDT UT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otspiller spiller et kort etter at spilleføreren er blitt pålagt å trekke tilbake et utspill utenfor tur fra en av sine hender, men før spilleføreren har gjort utspillet fra den riktige hånd, blir motspillerens spilte kort straffekort (§5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N FEILENDE SIDE SPILLER FØR DET ER TILDELT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fra den feilende side spiller før det er tildelt straff, påvirker det ikke motstandernes rettigheter, og selve spille kan også bli gjenstand for straff.</a:t>
            </a:r>
            <a:endParaRPr b="1" lang="en-US" sz="18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1. UNNLATELSE AV Å FØLGE FARGE - FORESPØRSLER OM REVOKE</a:t>
            </a:r>
            <a:endParaRPr b="1" i="1" lang="en-US" sz="2800" spc="-1" strike="noStrike">
              <a:solidFill>
                <a:srgbClr val="808000"/>
              </a:solidFill>
              <a:latin typeface="Arial"/>
            </a:endParaRPr>
          </a:p>
        </p:txBody>
      </p:sp>
      <p:sp>
        <p:nvSpPr>
          <p:cNvPr id="4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REVOKE</a:t>
            </a:r>
            <a:br>
              <a:rPr sz="2400"/>
            </a:br>
            <a:r>
              <a:rPr b="1" lang="nb-NO" sz="1800" spc="-1" strike="noStrike">
                <a:solidFill>
                  <a:srgbClr val="000000"/>
                </a:solidFill>
                <a:latin typeface="Arial"/>
              </a:rPr>
              <a:t>Revoke inntrer når en spiller:</a:t>
            </a:r>
            <a:br>
              <a:rPr sz="1800"/>
            </a:br>
            <a:r>
              <a:rPr b="1" lang="nb-NO" sz="1800" spc="-1" strike="noStrike">
                <a:solidFill>
                  <a:srgbClr val="000000"/>
                </a:solidFill>
                <a:latin typeface="Arial"/>
              </a:rPr>
              <a:t>* unnlater å følge farge som beskrevet i §44C, eller </a:t>
            </a:r>
            <a:br>
              <a:rPr sz="1800"/>
            </a:br>
            <a:r>
              <a:rPr b="1" lang="nb-NO" sz="1800" spc="-1" strike="noStrike">
                <a:solidFill>
                  <a:srgbClr val="000000"/>
                </a:solidFill>
                <a:latin typeface="Arial"/>
              </a:rPr>
              <a:t>* unnlater å spille ut eller på et kort eller en farge som spilleren har, og som han er pålagt å spille enten i følge lovene, eller for å oppfylle en straff valgt av en motstander. </a:t>
            </a:r>
            <a:r>
              <a:rPr b="0" i="1" lang="nb-NO" sz="1800" spc="-1" strike="noStrike">
                <a:solidFill>
                  <a:srgbClr val="000000"/>
                </a:solidFill>
                <a:latin typeface="Arial"/>
              </a:rPr>
              <a:t>(Men, se også §59 når spilleren ikke er i stand til å etterkomme en straff.)</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EN TIL Å SPØRRE OM MULIG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føreren kan spørre en motspiller som ikke har fulgt farge, om vedkommende har et kort i den utspilte farge </a:t>
            </a:r>
            <a:r>
              <a:rPr b="0" i="1" lang="nb-NO" sz="1800" spc="-1" strike="noStrike">
                <a:solidFill>
                  <a:srgbClr val="000000"/>
                </a:solidFill>
                <a:latin typeface="Arial"/>
              </a:rPr>
              <a:t>(men en påstand om at det er begått revoke, gir ikke automatisk rett til å se på ferdigspilte stikk - se §66C)</a:t>
            </a:r>
            <a:r>
              <a:rPr b="1" lang="nb-NO" sz="1800" spc="-1" strike="noStrike">
                <a:solidFill>
                  <a:srgbClr val="000000"/>
                </a:solidFill>
                <a:latin typeface="Arial"/>
              </a:rPr>
              <a:t>. Blindemann kan spørre spilleføreren </a:t>
            </a:r>
            <a:r>
              <a:rPr b="0" i="1" lang="nb-NO" sz="1800" spc="-1" strike="noStrike">
                <a:solidFill>
                  <a:srgbClr val="000000"/>
                </a:solidFill>
                <a:latin typeface="Arial"/>
              </a:rPr>
              <a:t>(men se §43B2b)</a:t>
            </a:r>
            <a:r>
              <a:rPr b="1" i="1" lang="nb-NO" sz="1800" spc="-1" strike="noStrike">
                <a:solidFill>
                  <a:srgbClr val="000000"/>
                </a:solidFill>
                <a:latin typeface="Arial"/>
              </a:rPr>
              <a:t>.</a:t>
            </a:r>
            <a:r>
              <a:rPr b="1" lang="nb-NO" sz="1800" spc="-1" strike="noStrike">
                <a:solidFill>
                  <a:srgbClr val="000000"/>
                </a:solidFill>
                <a:latin typeface="Arial"/>
              </a:rPr>
              <a:t> Motspillerne kan spørre spilleføreren, men ikke hverandre.</a:t>
            </a:r>
            <a:endParaRPr b="1" lang="en-US" sz="1800" spc="-1" strike="noStrike">
              <a:solidFill>
                <a:srgbClr val="000000"/>
              </a:solidFill>
              <a:latin typeface="Arial"/>
            </a:endParaRPr>
          </a:p>
        </p:txBody>
      </p:sp>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 REVOKE MÅ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må korrigere en revoke hvis han blir klar over den før den er blitt etabl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REVO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revoken trekker spilleren tilbake det kortet som var spilt da han revokerte og følger farge (med et hvilket som hels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 kort som trekkes tilbake på denne måten, blir straffekort (§50) hvis det ble spilt fra en motspillers hånd, og ikke på forhånd var snudd med fremsiden opp.</a:t>
            </a:r>
            <a:endParaRPr b="1" lang="en-US" sz="1800" spc="-1" strike="noStrike">
              <a:solidFill>
                <a:srgbClr val="000000"/>
              </a:solidFill>
              <a:latin typeface="Arial"/>
            </a:endParaRPr>
          </a:p>
        </p:txBody>
      </p:sp>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FØRERS KORT, BLINDEMANNS KORT SAMT MOT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rtet kan trekkes tilbake uten straff hvis det ble spilt fra spilleførerens eller blindemanns hånd*, eller hvis det var en motspillers kort som på forhånd var snudd med fremsiden op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er kan også §43B2c komme til anvendelse dersom blindemann har forspilt sine rettigheter. En påstand om at det er begått revoke, gir ikke rett til å granske ferdigspilte stikk, unntatt når det er tillatt ifølge §66C.</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KORT SOM SPILLES TIL STIKK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DEN IKKE-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egge fra den ikke-feilende side kan uten straff trekke tilbake ethvert kort de måtte ha spilt etter revoken, men før den ble påtalt (se §16C**).</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DEN FEILENDES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at en ikke-feilende spiller har trukket tilbake et kort i samsvar med pkt. 1 ovenfor, kan den av spillerne på den feilende side som står nærmest for tur, også trekke tilbake sitt spilte kort. Dersom han er motspiller, blir det tilbaketrukne kort straffekort (se §16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16C sier at all informasjon som fremkommer ved at et slikt kort trekkes tilbake, er ulovlig for den feilendes makker.</a:t>
            </a:r>
            <a:endParaRPr b="1"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lem</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som forplikter en side til å vinne seks trekk (lilleslem) eller syv trekk (storeslem).</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oneforhold</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utsetningene for tildeling av bonuser og score for beter (se §77).</a:t>
            </a:r>
            <a:endParaRPr b="1" lang="en-US" sz="1800" spc="-1" strike="noStrike">
              <a:solidFill>
                <a:srgbClr val="000000"/>
              </a:solidFill>
              <a:latin typeface="Arial"/>
            </a:endParaRPr>
          </a:p>
          <a:p>
            <a:pPr marL="285840" indent="-285840">
              <a:lnSpc>
                <a:spcPct val="90000"/>
              </a:lnSpc>
              <a:spcBef>
                <a:spcPts val="16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efører</a:t>
            </a:r>
            <a:endParaRPr b="1" lang="en-US" sz="2400" spc="-1" strike="noStrike">
              <a:solidFill>
                <a:srgbClr val="000000"/>
              </a:solidFill>
              <a:latin typeface="Arial"/>
            </a:endParaRPr>
          </a:p>
          <a:p>
            <a:pPr lvl="1" marL="685800" indent="-228600">
              <a:lnSpc>
                <a:spcPct val="90000"/>
              </a:lnSpc>
              <a:spcBef>
                <a:spcPts val="123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000000"/>
              </a:solidFill>
              <a:latin typeface="Arial"/>
            </a:endParaRPr>
          </a:p>
        </p:txBody>
      </p:sp>
    </p:spTree>
  </p:cSld>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2. KORRIGERING AV REVOKE</a:t>
            </a:r>
            <a:endParaRPr b="1" i="1" lang="en-US" sz="2800" spc="-1" strike="noStrike">
              <a:solidFill>
                <a:srgbClr val="808000"/>
              </a:solidFill>
              <a:latin typeface="Arial"/>
            </a:endParaRPr>
          </a:p>
        </p:txBody>
      </p:sp>
      <p:sp>
        <p:nvSpPr>
          <p:cNvPr id="4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REVOKE I TOLV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N MÅ KORRIGER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revoke i tolvte stikk må korrigeres selv om den er etablert, hvis den oppdages før alle fire hendene er lagt tilbake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REVOKEN SKJER FØR DEN FEILENDES MAKKER HAR SPILT TIL TOLV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motspiller begår revoke før det har vært hans makkers tur til å spille til tolvte stikk, og den feilendes makker har kort i to farger, kan ikke den feilendes makker velge et påspill som fremstår som mer fordelaktig etter at spilleren har sett revokekortet.</a:t>
            </a:r>
            <a:endParaRPr b="1" lang="en-US" sz="1800" spc="-1" strike="noStrike">
              <a:solidFill>
                <a:srgbClr val="000000"/>
              </a:solidFill>
              <a:latin typeface="Arial"/>
            </a:endParaRPr>
          </a:p>
        </p:txBody>
      </p:sp>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VOKEN BLIR ETABLERT</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FEILENDE SIDE SPILLER UT ELLER SPILLER TIL NEST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eller hans makker spiller ut eller spiller til det påfølgende stikk </a:t>
            </a:r>
            <a:r>
              <a:rPr b="0" i="1" lang="nb-NO" sz="1800" spc="-1" strike="noStrike">
                <a:solidFill>
                  <a:srgbClr val="000000"/>
                </a:solidFill>
                <a:latin typeface="Arial"/>
              </a:rPr>
              <a:t>(ethvert spill etablerer revoken, uansett om det er lovlig eller ikk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ANGIR ET UTSPILL ELLER SPILL</a:t>
            </a:r>
            <a:br>
              <a:rPr sz="1800"/>
            </a:br>
            <a:r>
              <a:rPr b="0" lang="nb-NO" sz="1800" spc="-1" strike="noStrike">
                <a:solidFill>
                  <a:srgbClr val="000000"/>
                </a:solidFill>
                <a:latin typeface="Arial"/>
              </a:rPr>
              <a:t>Når den feilende eller hans makker nevner eller på en annen måte angir et kort som skal spilles til det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EN SPILLER FRA DEN FEILENDE SIDE GJØR ET KRAV ELLER EN AVSTÅELSE</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fra den feilende side gjør eller godtar et krav eller en avståelse av stikk, muntlig eller ved å snu sin hånd med fremsiden opp </a:t>
            </a:r>
            <a:r>
              <a:rPr b="0" i="1" lang="nb-NO" sz="1800" spc="-1" strike="noStrike">
                <a:solidFill>
                  <a:srgbClr val="000000"/>
                </a:solidFill>
                <a:latin typeface="Arial"/>
              </a:rPr>
              <a:t>(eller på noen som helst annen måte)</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3. ETABLERING AV REVOKE</a:t>
            </a:r>
            <a:endParaRPr b="1" i="1" lang="en-US" sz="2800" spc="-1" strike="noStrike">
              <a:solidFill>
                <a:srgbClr val="808000"/>
              </a:solidFill>
              <a:latin typeface="Arial"/>
            </a:endParaRPr>
          </a:p>
        </p:txBody>
      </p:sp>
      <p:sp>
        <p:nvSpPr>
          <p:cNvPr id="4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N ER FEILAKTIG PÅTALT</a:t>
            </a:r>
            <a:endParaRPr b="1" lang="en-US" sz="24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CG Times"/>
              </a:rPr>
              <a:t>	</a:t>
            </a:r>
            <a:r>
              <a:rPr b="1" lang="nb-NO" sz="1800" spc="-1" strike="noStrike">
                <a:solidFill>
                  <a:srgbClr val="000000"/>
                </a:solidFill>
                <a:latin typeface="Arial"/>
              </a:rPr>
              <a:t>Når det har skjedd et brudd på §61B, må den som revokerte erstatte revokekortet med et lovlig kort, men straffen etter §64 gjelder som om revoken hadde blitt etabler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ETABLERT REVOKE KAN IKKE KORRIGE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revoke først er blitt etablert, kan den ikke lenger korrigeres (unntatt som beskrevet i §62D, som gjelder revoke i tolvte stikk), og stikket der revoken skjedde, blir stående som det ble spilt (men se §43B2b).</a:t>
            </a:r>
            <a:endParaRPr b="1" lang="en-US" sz="1800" spc="-1" strike="noStrike">
              <a:solidFill>
                <a:srgbClr val="000000"/>
              </a:solidFill>
              <a:latin typeface="Arial"/>
            </a:endParaRPr>
          </a:p>
        </p:txBody>
      </p:sp>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DELING AV STRAFF</a:t>
            </a:r>
            <a:endParaRPr b="1" lang="en-US" sz="24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REVOKESTIKKET BL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ble vunnet av den feilende spiller, vil stikket der revoken skjedde pluss ett av eventuelle påfølgende stikk vunnet av den feilende side, som straff bli overført til den ikke-feilende side etter at spillet er ferdig.</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EVOKESTIKKET BLE IKKE VUNNET AV DEN FEILENDE SPILLER</a:t>
            </a:r>
            <a:endParaRPr b="1" lang="en-US" sz="1800" spc="-1" strike="noStrike">
              <a:solidFill>
                <a:srgbClr val="000000"/>
              </a:solidFill>
              <a:latin typeface="Arial"/>
            </a:endParaRPr>
          </a:p>
          <a:p>
            <a:pPr lvl="1" marL="644400" indent="-21456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stikket der revoken skjedde, ikke ble vunnet av den feilende spiller, så skal - dersom stikket eller noen av de følgende stikk ble vunnet av den feilende side - som straff, ett stikk overføres til den ikke-feilende side etter at spillet er ferdig. Hvis den feilende spiller senere vant et annet stikk med et kort som lovlig kunne vært spilt til stikket der revoken ble begått, skal også dette stikket overføres til den ikke-feilende side.</a:t>
            </a:r>
            <a:endParaRPr b="1" lang="en-US" sz="1800" spc="-1" strike="noStrike">
              <a:solidFill>
                <a:srgbClr val="000000"/>
              </a:solidFill>
              <a:latin typeface="Arial"/>
            </a:endParaRPr>
          </a:p>
        </p:txBody>
      </p:sp>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TILDELING AV STRAFF</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blir ingen straff:</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FEILENDE SIDE VINNER HVERKEN REVOKESTIKKET ELLER NOE PÅFØLGENDE STIKK</a:t>
            </a:r>
            <a:br>
              <a:rPr sz="1800"/>
            </a:br>
            <a:r>
              <a:rPr b="0" lang="nb-NO" sz="1800" spc="-1" strike="noStrike">
                <a:solidFill>
                  <a:srgbClr val="000000"/>
                </a:solidFill>
                <a:latin typeface="Arial"/>
              </a:rPr>
              <a:t>Hvis den feilende side vinner hverken revokestikket eller noen påfølgende stikk.</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REVOKERER PÅ NYTT I SAMME FARGE</a:t>
            </a:r>
            <a:br>
              <a:rPr sz="1800"/>
            </a:br>
            <a:r>
              <a:rPr b="0" lang="nb-NO" sz="1800" spc="-1" strike="noStrike">
                <a:solidFill>
                  <a:srgbClr val="000000"/>
                </a:solidFill>
                <a:latin typeface="Arial"/>
              </a:rPr>
              <a:t>For en ny revoke som den samme spiller senere begår i samme farge**.</a:t>
            </a:r>
            <a:endParaRPr b="1" lang="en-US" sz="1800" spc="-1" strike="noStrike">
              <a:solidFill>
                <a:srgbClr val="000000"/>
              </a:solidFill>
              <a:latin typeface="Arial"/>
            </a:endParaRPr>
          </a:p>
          <a:p>
            <a:pPr lvl="1" marL="651240" indent="-217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Men den første revoken straffes på vanlig måte.</a:t>
            </a:r>
            <a:endParaRPr b="1" lang="en-US" sz="1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VOKEN VAR EN UNNLATELSE AV Å SPILLE ET KORT SOM LÅ PÅ BORDET MED FRAMSIDEN OPP</a:t>
            </a:r>
            <a:br>
              <a:rPr sz="1800"/>
            </a:br>
            <a:r>
              <a:rPr b="0" lang="nb-NO" sz="1800" spc="-1" strike="noStrike">
                <a:solidFill>
                  <a:srgbClr val="000000"/>
                </a:solidFill>
                <a:latin typeface="Arial"/>
              </a:rPr>
              <a:t>Hvis revoken ble begått ved at en spiller unnlot å spille et kort som lå på bordet med fremsiden opp, eller tilhørte en hånd som lå på bordet med fremsiden opp, innbefattet kort på blindemanns hånd.</a:t>
            </a:r>
            <a:endParaRPr b="1" lang="en-US" sz="1800" spc="-1" strike="noStrike">
              <a:solidFill>
                <a:srgbClr val="000000"/>
              </a:solidFill>
              <a:latin typeface="Arial"/>
            </a:endParaRPr>
          </a:p>
        </p:txBody>
      </p:sp>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4. FREMGANGSMÅTEN ETTER AT EN REVOKE ER BLITT ETABLERT</a:t>
            </a:r>
            <a:endParaRPr b="1" i="1" lang="en-US" sz="2800" spc="-1" strike="noStrike">
              <a:solidFill>
                <a:srgbClr val="808000"/>
              </a:solidFill>
              <a:latin typeface="Arial"/>
            </a:endParaRPr>
          </a:p>
        </p:txBody>
      </p:sp>
      <p:sp>
        <p:nvSpPr>
          <p:cNvPr id="4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EN IKKE-FEILENDE SIDE HAR MELDT PÅ NEST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først ble påtalt etter at en spiller på den ikke-feilende side har avgitt en melding på den påfølgende giv.</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revoken ble påtalt først etter at runden er avsluttet.</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REVOKEN SKJEDDE I TOLVTE STIKK</a:t>
            </a:r>
            <a:endParaRPr b="1" lang="en-US" sz="18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 revoke som er begått i tolvte stikk.</a:t>
            </a:r>
            <a:endParaRPr b="1" lang="en-US" sz="1800" spc="-1" strike="noStrike">
              <a:solidFill>
                <a:srgbClr val="000000"/>
              </a:solidFill>
              <a:latin typeface="Arial"/>
            </a:endParaRPr>
          </a:p>
          <a:p>
            <a:pPr marL="280080" indent="-280080">
              <a:lnSpc>
                <a:spcPct val="90000"/>
              </a:lnSpc>
              <a:spcBef>
                <a:spcPts val="901"/>
              </a:spcBef>
              <a:spcAft>
                <a:spcPts val="1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URNERINGSLEDER ER ANSVARLIG FOR RETTFERDIG RESULTAT</a:t>
            </a:r>
            <a:endParaRPr b="1" lang="en-US" sz="2400" spc="-1" strike="noStrike">
              <a:solidFill>
                <a:srgbClr val="000000"/>
              </a:solidFill>
              <a:latin typeface="Arial"/>
            </a:endParaRPr>
          </a:p>
          <a:p>
            <a:pPr lvl="1" marL="671760" indent="-223920">
              <a:lnSpc>
                <a:spcPct val="90000"/>
              </a:lnSpc>
              <a:spcBef>
                <a:spcPts val="675"/>
              </a:spcBef>
              <a:spcAft>
                <a:spcPts val="113"/>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turneringslederen etter enhver etablert revoke - også revoke som ikke er gjenstand for straff - finner at den ikke-feilende side ifølge denne paragraf ikke har fått tilstrekkelig erstatning for den skade de har lidd, skal han tildele et justert resultat.</a:t>
            </a:r>
            <a:endParaRPr b="1" lang="en-US" sz="18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spilt fire kort til et stikk, snur hver av spillerne sitt eget kort med fremsiden ned foran seg på bord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ARKERING AV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spillerens side har vunnet stikket, legges kortet med lengderetningen pekende mot makk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TAPT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otstanderne har vunnet stikket, legges kortet med lengderetningen pekende mot motstanderne.</a:t>
            </a:r>
            <a:endParaRPr b="1" lang="en-US" sz="1800" spc="-1" strike="noStrike">
              <a:solidFill>
                <a:srgbClr val="000000"/>
              </a:solidFill>
              <a:latin typeface="Arial"/>
            </a:endParaRPr>
          </a:p>
        </p:txBody>
      </p:sp>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5. ORDNING AV STIKKENE</a:t>
            </a:r>
            <a:endParaRPr b="1" i="1" lang="en-US" sz="2800" spc="-1" strike="noStrike">
              <a:solidFill>
                <a:srgbClr val="808000"/>
              </a:solidFill>
              <a:latin typeface="Arial"/>
            </a:endParaRPr>
          </a:p>
        </p:txBody>
      </p:sp>
      <p:sp>
        <p:nvSpPr>
          <p:cNvPr id="4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R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av spillerne ordner sine egne kort i god orden, i en rekke der kortene overlapper hverandre i den rekkefølge de er spilt - slik at det kan foretas en gjennomgang av spillet etter at det er fullført, for om nødvendig å fastsette hvor mange stikk hver av sidene har funnet, eller i hvilken rekkefølge kortene er spil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OM RESULTATET AV SPILLET</a:t>
            </a:r>
            <a:br>
              <a:rPr sz="2400"/>
            </a:br>
            <a:br>
              <a:rPr sz="2400"/>
            </a:br>
            <a:r>
              <a:rPr b="1" lang="nb-NO" sz="1800" spc="-1" strike="noStrike">
                <a:solidFill>
                  <a:srgbClr val="000000"/>
                </a:solidFill>
                <a:latin typeface="Arial"/>
              </a:rPr>
              <a:t>En spiller skal ikke bringe uorden i sine kort før det er oppnådd enighet om hvor mange stikk hver av sidene har vunnet. En spiller som ikke oppfyller dette kravet, forspiller sin rett til å gjøre krav på omstridte stikk eller til å fremsette påstand om revok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NEVÆREND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å lenge spillerens egen side ikke har spilt ut eller spilt til neste stikk, kan spilleføreren, eller hver av motspillerne, før han har snudd sitt eget spilte kort med fremsiden ned, forlange at alle kortene som er spilt til stikket, blir snudd med fremsiden op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GET SIST SPILTE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det er spilt ut til neste stikk, kan spilleføreren, eller hver av motspillerne, se på, men ikke vise frem, sitt eget sist spilte kort.</a:t>
            </a:r>
            <a:br>
              <a:rPr sz="1800"/>
            </a:br>
            <a:r>
              <a:rPr b="1" lang="nb-NO" sz="1800" spc="-1" strike="noStrike">
                <a:solidFill>
                  <a:srgbClr val="000000"/>
                </a:solidFill>
                <a:latin typeface="Arial"/>
              </a:rPr>
              <a:t> </a:t>
            </a:r>
            <a:endParaRPr b="1" lang="en-US" sz="1800" spc="-1" strike="noStrike">
              <a:solidFill>
                <a:srgbClr val="000000"/>
              </a:solidFill>
              <a:latin typeface="Arial"/>
            </a:endParaRPr>
          </a:p>
        </p:txBody>
      </p:sp>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6. GRANSKING AV STIKK</a:t>
            </a:r>
            <a:endParaRPr b="1" i="1" lang="en-US" sz="2800" spc="-1" strike="noStrike">
              <a:solidFill>
                <a:srgbClr val="808000"/>
              </a:solidFill>
              <a:latin typeface="Arial"/>
            </a:endParaRPr>
          </a:p>
        </p:txBody>
      </p:sp>
      <p:sp>
        <p:nvSpPr>
          <p:cNvPr id="4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RDIGSPIL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etter kan ferdigspilte stikk ikke granskes før spillet er ferdig (bortsett fra på særskilt instruks fra TL, for eksempel for å få undersøkt en påstand om revok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TTER AT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Rounded MT Bold"/>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Rounded MT Bold"/>
              </a:rPr>
              <a:t>Etter at spillet er fullført, kan spilte og uspilte kort granskes for å undersøke en påstand om revoke, eller for å fastslå antallet av tapte og vunne stikk. Men ingen av spillerne kan berøre andre kort enn sine egne. Hvis en spiller etter at det er fremsatt en slik påstand, blander sine kort på en slik måte at TL ikke lenger kan bringe de faktiske forhold på det rene, skal TL dømme til fordel for den andre side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a:t>
            </a:r>
            <a:endParaRPr b="1" i="1" lang="en-US" sz="2800" spc="-1" strike="noStrike">
              <a:solidFill>
                <a:srgbClr val="808000"/>
              </a:solidFill>
              <a:latin typeface="Arial"/>
            </a:endParaRPr>
          </a:p>
        </p:txBody>
      </p:sp>
      <p:sp>
        <p:nvSpPr>
          <p:cNvPr id="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pill</a:t>
            </a:r>
            <a:br>
              <a:rPr sz="2400"/>
            </a:br>
            <a:br>
              <a:rPr sz="24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å legge et kort fra hånden til et stikk, </a:t>
            </a:r>
            <a:br>
              <a:rPr sz="1800"/>
            </a:br>
            <a:r>
              <a:rPr b="1" lang="nb-NO" sz="1800" spc="-1" strike="noStrike">
                <a:solidFill>
                  <a:srgbClr val="000000"/>
                </a:solidFill>
                <a:latin typeface="Arial"/>
              </a:rPr>
              <a:t>	</a:t>
            </a:r>
            <a:r>
              <a:rPr b="1" lang="nb-NO" sz="1800" spc="-1" strike="noStrike">
                <a:solidFill>
                  <a:srgbClr val="000000"/>
                </a:solidFill>
                <a:latin typeface="Arial"/>
              </a:rPr>
              <a:t>inkludert det første kortet som er utspillet.</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 samlede antall spilte spill.</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erioden spill av kort pågår.</a:t>
            </a:r>
            <a:br>
              <a:rPr sz="1800"/>
            </a:br>
            <a:br>
              <a:rPr sz="1800"/>
            </a:b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Meldinger og spill av en mappe samlet.</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ØR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unnlatt å spille til et stikk, eller har spilt for mange kort til et stikk, må feilen korrigeres hvis den blir påtalt før en spiller fra hver side har spilt til påfølgend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REN HAR UNNLATT Å SPILLE ET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te rettes opp ved at den feilende legger til et kort som kan spilles på lov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PILLEREN HAR LAGT TIL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or å korrigere at det er spilt for mange kort til et stikk, kommer §45E (fem kort i et stikk) eller §58B (samtidig spill av kort fra samme hånd) til anvendelse.</a:t>
            </a:r>
            <a:endParaRPr b="1" lang="en-US" sz="1800" spc="-1" strike="noStrike">
              <a:solidFill>
                <a:srgbClr val="000000"/>
              </a:solidFill>
              <a:latin typeface="Arial"/>
            </a:endParaRPr>
          </a:p>
        </p:txBody>
      </p:sp>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TER AT BEGGE SIDER HAR SPILT TIL NEST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begge sider har spilt til det påfølgende stikk, og det irregulære stikk enten blir påtalt eller TL finner ut at det må ha forekommet et irregulært stikk (fordi en av spillerne har for få eller for mange kort på hånden, og et tilsvarende ukorrekt antall av spilte kort), bringer TL på det rene hvilket stikk som har vært irregulært. For å korrigere antallet kort bør TL gå frem som føl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EILENDE HAR FOR MANGE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n feilende har unnlatt å spille et kort til det irregulære stikket, skal TL forlange at den feilende med en gang spiller et kort med fremsiden opp, snur og plasserer det på riktig plass blant sine spilte kort (dette kortet påvirker ikke utfallet av stikk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EILENDE HAR ET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har et kort i den fargen som ble spilt ut til det irregulære stikket, må spilleren velge et slikt kort og plassere det blant sine spilte kort, og det blir ingen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EILENDE HAR IKKE NOE KORT I DEN UTSPILTE FAR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ikke har noe kort i den fargen som ble spilt ut til det irregulære stikket, velger han et hvilket som helst kort og plasserer det blant sine spilte kort. Som straff betraktes det som om spilleren har begått revoke i det irregulære stikket slik at spilleren kan bli ilagt ett-stikks straff ifølge §64.</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7. IRREGULÆRE STIKK</a:t>
            </a:r>
            <a:endParaRPr b="1" i="1" lang="en-US" sz="2800" spc="-1" strike="noStrike">
              <a:solidFill>
                <a:srgbClr val="808000"/>
              </a:solidFill>
              <a:latin typeface="Arial"/>
            </a:endParaRPr>
          </a:p>
        </p:txBody>
      </p:sp>
      <p:sp>
        <p:nvSpPr>
          <p:cNvPr id="4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EILENDE HAR FOR FÅ KORT</a:t>
            </a:r>
            <a:br>
              <a:rPr sz="1800"/>
            </a:br>
            <a:r>
              <a:rPr b="0" lang="nb-NO" sz="1800" spc="-1" strike="noStrike">
                <a:solidFill>
                  <a:srgbClr val="000000"/>
                </a:solidFill>
                <a:latin typeface="Arial"/>
              </a:rPr>
              <a:t>Når den feilende har spilt mer enn ett kort til det irregulære stikket, gransker TL de spilte kortene og forlanger at den feilende skal sette tilbake på hånden alle overflødige kort* - idet spilleren samtidig lar det kortet som ble lagt med fremsiden opp til det irregulære stikket bli liggende blant de spilte kortene. </a:t>
            </a:r>
            <a:r>
              <a:rPr b="0" i="1" lang="nb-NO" sz="1800" spc="-1" strike="noStrike">
                <a:solidFill>
                  <a:srgbClr val="000000"/>
                </a:solidFill>
                <a:latin typeface="Arial"/>
              </a:rPr>
              <a:t>(Hvis TL er ute av stand til å avgjøre hvilket kort som ble spilt på korrekt måte, lar den feilende det høyeste av de kortene som kunne ha vært spilt på lovlig måte til det irregulære stikket, bli liggende blant de spilte kortene.)</a:t>
            </a:r>
            <a:r>
              <a:rPr b="0" lang="nb-NO" sz="1800" spc="-1" strike="noStrike">
                <a:solidFill>
                  <a:srgbClr val="000000"/>
                </a:solidFill>
                <a:latin typeface="Arial"/>
              </a:rPr>
              <a:t> Et kort som på denne måten gjenopptas på spillerens hånd, betraktes som å ha tilhørt hånden hele tiden, og dersom spilleren har unnlatt å spille det til et tidligere stikk, etter at feilen ble gjort, men før det ble satt tilbake på hånden, kan det medføre revok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urneringslederen bør så lang mulig unngå å vise frem en motspillers spilte kort, men hvis et overflødig kort som skal settes tilbake på en motspillers hånd er blitt fremvist, blir det straffekort (se §5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 </a:t>
            </a:r>
            <a:br>
              <a:rPr sz="2800"/>
            </a:br>
            <a:r>
              <a:rPr b="1" i="1" lang="nb-NO" sz="2800" spc="-1" strike="noStrike">
                <a:solidFill>
                  <a:srgbClr val="808000"/>
                </a:solidFill>
                <a:latin typeface="Arial"/>
              </a:rPr>
              <a:t>AV STIKK</a:t>
            </a:r>
            <a:endParaRPr b="1" i="1" lang="en-US" sz="2800" spc="-1" strike="noStrike">
              <a:solidFill>
                <a:srgbClr val="808000"/>
              </a:solidFill>
              <a:latin typeface="Arial"/>
            </a:endParaRPr>
          </a:p>
        </p:txBody>
      </p:sp>
      <p:sp>
        <p:nvSpPr>
          <p:cNvPr id="4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For at et utsagn eller en handling skal innebære et krav på eller en avståelse av stikk ifølge lovene, må det referere til andre stikk enn det som på det aktuelle tidspunkt er i spill*. Hvis det refererer til påfølgende stikk, gjelder følgende:</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0" lang="nb-NO" sz="1400" spc="-1" strike="noStrike">
                <a:solidFill>
                  <a:srgbClr val="000000"/>
                </a:solidFill>
                <a:latin typeface="Arial"/>
              </a:rPr>
              <a:t>*Hvis utsagnet eller handlingen bare gjelder hvordan et ufullført pågående stikk kan vinnes eller tapes, fortsetter spillet som normalt. Kort som er fremvist eller avslørt av en motspiller, blir ikke straffekort, men §16 (urettmessig informasjon) kan komme til anvendelse. Se også 57A (spill i utide).</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 AV KRA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vinne et nærmere angitt antall stikk, er et krav på disse stikkene. En deltager fremsetter også et krav når han foreslår at spillet skal avbrytes, eller viser frem kortene sine (med mindre det er åpenbart at spilleren ikke hadde til hensikt å fremsette et krav).</a:t>
            </a:r>
            <a:endParaRPr b="1" lang="en-US" sz="1800" spc="-1" strike="noStrike">
              <a:solidFill>
                <a:srgbClr val="000000"/>
              </a:solidFill>
              <a:latin typeface="Arial"/>
            </a:endParaRPr>
          </a:p>
        </p:txBody>
      </p:sp>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FINISJON AV AVSTÅ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sagn som går ut på at en deltager vil tape et nærmere angitt antall stikk, er en avståelse av disse stikkene. Et krav på et visst antall stikk er samtidig en avståelse av eventuelle resterende stikk. Når en spiller oppgir å spille videre avstår han alle resterende stikk. Hvis en motspiller forsøker å avstå ett eller flere stikk, men spillerens makker omgående protesterer, har det ikke skjedd noen avståelse, uten hensyn til det som er fastsatt i det foregående. §16 (urettmessig informasjon) kan komme til anvendelse, og turneringslederen bør derfor tilkalles med en gang.</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57 omhandler hva som skjer når en motspiller spiller ut til neste stikk før hans makker har spilt til det foreliggende stikk, eller spiller utenfor tur før makker har spil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8. KRAV PÅ ELLER AVSTÅELSE</a:t>
            </a:r>
            <a:endParaRPr b="1" i="1" lang="en-US" sz="2800" spc="-1" strike="noStrike">
              <a:solidFill>
                <a:srgbClr val="808000"/>
              </a:solidFill>
              <a:latin typeface="Arial"/>
            </a:endParaRPr>
          </a:p>
        </p:txBody>
      </p:sp>
      <p:sp>
        <p:nvSpPr>
          <p:cNvPr id="443" name="PlaceHolder 2"/>
          <p:cNvSpPr>
            <a:spLocks noGrp="1"/>
          </p:cNvSpPr>
          <p:nvPr>
            <p:ph/>
          </p:nvPr>
        </p:nvSpPr>
        <p:spPr>
          <a:xfrm>
            <a:off x="1073160" y="1828800"/>
            <a:ext cx="808992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DET FORLANGES REDEGJØRELSE FOR KRAV</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bør omgående ledsages av en redegjørelse om hvilken rekkefølge kortene vil bli spilt i, samt hvilken spilleførings- eller motspillsplan en som fremsetter kravet har tenkt å gjennomføre for å vinne de stikkene det gjøres krav på.</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ILLET OPPHØRER</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r gjort et krav eller en avståelse, opphører spillet. Ethvert spill etter et krav eller en avståelse skal dømmes ugyldig av TL. hvis kravet eller avståelsen blir godtatt, kommer §69 til anvendelse. hvis det kommer protest fra noen av spillerne (blindemann ikke unntatt), må TL tilkalles med en gang for å ta §70** eller §71** i anvendelse. Ingen av spillerne kan foreta seg noe før TL kommer.</a:t>
            </a:r>
            <a:endParaRPr b="1" lang="en-US" sz="1800" spc="-1" strike="noStrike">
              <a:solidFill>
                <a:srgbClr val="000000"/>
              </a:solidFill>
              <a:latin typeface="Arial"/>
            </a:endParaRPr>
          </a:p>
          <a:p>
            <a:pPr lvl="1" marL="671760" indent="-22392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rPr>
              <a:t>**§70 omhandler krav som ikke blir godtatt., **§71 omhandler annullering av avståels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FORUTSETNINGER FOR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rav eller en avståelse er godtatt når en deltager går med på en motstanders krav eller avståelse, og ikke gjør noen innvendinger mot kravet eller avståelsen før spillerens side avgir en melding på en påfølgende mappe, eller før runden er avsluttet. Mappen blir scoret som om de krevede eller avståtte stikk var blitt vunnet eller tapt gjennom spill.</a:t>
            </a:r>
            <a:endParaRPr b="1" lang="en-US" sz="1800" spc="-1" strike="noStrike">
              <a:solidFill>
                <a:srgbClr val="000000"/>
              </a:solidFill>
              <a:latin typeface="Arial"/>
            </a:endParaRPr>
          </a:p>
        </p:txBody>
      </p:sp>
    </p:spTree>
  </p:cSld>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9. GODTAGELSE AV KRAV ELLER AVSTÅELSE</a:t>
            </a:r>
            <a:endParaRPr b="1" i="1" lang="en-US" sz="2800" spc="-1" strike="noStrike">
              <a:solidFill>
                <a:srgbClr val="808000"/>
              </a:solidFill>
              <a:latin typeface="Arial"/>
            </a:endParaRPr>
          </a:p>
        </p:txBody>
      </p:sp>
      <p:sp>
        <p:nvSpPr>
          <p:cNvPr id="4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BAKETREKNING AV GODTAGEL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nnenfor den korrigeringsfrist** som er fastsatt i §79, kan en deltager trekke tilbake sin godtagelse av en motstanders krav, men bare hvis han har godtatt tapet av et stikk som hans egen side faktisk har vunnet, eller tapet av et stikk som etter turneringslederens vurdering ikke kunne tapes ved noen normal* spillemåte for de resterende kortene. Mappen blir i så fall scoret på ny og eventuelle slike stikk tildeles den siden som hadde godtatt krave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NDARD FRAMGANGSMÅ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dømmer at et krav ikke er godtatt, tilpasser TL resultatet av mappen så rettferdig som mulig for begge sider, men i ethvert tvilsomt punkt skal det dømmes mot den som har fremsatt kravet. TL går frem på følgende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EGJØRELSEN GJENTA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FORLANGES AT DEN SOM FREMSATTE KRAVET, GJENTAR SIN REDEGJØR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forlanger at den spiller som fremsatte kravet, skal gjenta den redegjørelsen vedkommende ga på det tidspunkt da kravet ble fremsatt.</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RAMMEN FOR LOVENE</a:t>
            </a:r>
            <a:endParaRPr b="1" i="1" lang="en-US" sz="2800" spc="-1" strike="noStrike">
              <a:solidFill>
                <a:srgbClr val="808000"/>
              </a:solidFill>
              <a:latin typeface="Arial"/>
            </a:endParaRPr>
          </a:p>
        </p:txBody>
      </p:sp>
      <p:sp>
        <p:nvSpPr>
          <p:cNvPr id="55" name="PlaceHolder 2"/>
          <p:cNvSpPr>
            <a:spLocks noGrp="1"/>
          </p:cNvSpPr>
          <p:nvPr>
            <p:ph/>
          </p:nvPr>
        </p:nvSpPr>
        <p:spPr>
          <a:xfrm>
            <a:off x="743040" y="2285640"/>
            <a:ext cx="775944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000000"/>
                </a:solidFill>
                <a:latin typeface="Arial"/>
              </a:rPr>
              <a:t>	</a:t>
            </a:r>
            <a:r>
              <a:rPr b="1" i="1" lang="nb-NO" sz="2000" spc="-1" strike="noStrike">
                <a:solidFill>
                  <a:srgbClr val="000000"/>
                </a:solidFill>
                <a:latin typeface="Arial"/>
              </a:rPr>
              <a:t>Lovene er i første rekke utformet for å gi erstatning for påført skade, bare i annen rekke for å straffe uregelmessigheter.</a:t>
            </a:r>
            <a:endParaRPr b="1"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1"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ikk</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eller begrensning som pålegges én av sidene for overtredelse av disse lover.</a:t>
            </a:r>
            <a:endParaRPr b="1" lang="en-US" sz="1800" spc="-1" strike="noStrike">
              <a:solidFill>
                <a:srgbClr val="000000"/>
              </a:solidFill>
              <a:latin typeface="Arial"/>
            </a:endParaRPr>
          </a:p>
          <a:p>
            <a:pPr marL="285840" indent="-285840">
              <a:lnSpc>
                <a:spcPct val="90000"/>
              </a:lnSpc>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kort</a:t>
            </a:r>
            <a:endParaRPr b="1" lang="en-US" sz="2400" spc="-1" strike="noStrike">
              <a:solidFill>
                <a:srgbClr val="000000"/>
              </a:solidFill>
              <a:latin typeface="Arial"/>
            </a:endParaRPr>
          </a:p>
          <a:p>
            <a:pPr lvl="1" marL="685800" indent="-228600">
              <a:lnSpc>
                <a:spcPct val="90000"/>
              </a:lnSpc>
              <a:spcBef>
                <a:spcPts val="1687"/>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kort som er fremvist for tidlig av en motspiller. Straffekortet kan være "stort" eller "lite" (se §50).</a:t>
            </a:r>
            <a:endParaRPr b="1" lang="en-US" sz="1800" spc="-1" strike="noStrike">
              <a:solidFill>
                <a:srgbClr val="000000"/>
              </a:solidFill>
              <a:latin typeface="Arial"/>
            </a:endParaRPr>
          </a:p>
        </p:txBody>
      </p:sp>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FORLANGES AT ALLE HENDENE BLIR LAG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etter forlanger TL at alle spillerne skal legge sine resterende kort på bordet med fremsiden op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OTSTANDERNES INNVENDINGER BLIR H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hører TL på motstandernes innvendinger mot krave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DET FINNES TRUMF IGJ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fortsatt er igjen trumf på en av motstandernes hender, skal turneringslederen tildele ett eller flere stikk til motstanderne der som følgende 3 betingelser alle er oppfy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RUMFKORTET BLE IKKE NEVNT</a:t>
            </a:r>
            <a:br>
              <a:rPr sz="1800"/>
            </a:br>
            <a:r>
              <a:rPr b="0" lang="nb-NO" sz="1800" spc="-1" strike="noStrike">
                <a:solidFill>
                  <a:srgbClr val="000000"/>
                </a:solidFill>
                <a:latin typeface="Arial"/>
              </a:rPr>
              <a:t>Den som fremsatte kravet, ikke nevnte noe om dette trumf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KKE OPPMERKSOM PÅ TRUMFKORTET</a:t>
            </a:r>
            <a:br>
              <a:rPr sz="1800"/>
            </a:br>
            <a:r>
              <a:rPr b="0" lang="nb-NO" sz="1800" spc="-1" strike="noStrike">
                <a:solidFill>
                  <a:srgbClr val="000000"/>
                </a:solidFill>
                <a:latin typeface="Arial"/>
              </a:rPr>
              <a:t>Det er mulighet for at den som fremsatte kravet ikke var oppmerksom på at det fortsatt fantes trumf på en motstanders hånd da kravet ble fremsat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TRUMFKORTET KUNNE VINNE ET STIKK</a:t>
            </a:r>
            <a:br>
              <a:rPr sz="1800"/>
            </a:br>
            <a:r>
              <a:rPr b="0" lang="nb-NO" sz="1800" spc="-1" strike="noStrike">
                <a:solidFill>
                  <a:srgbClr val="000000"/>
                </a:solidFill>
                <a:latin typeface="Arial"/>
              </a:rPr>
              <a:t>Den som fremsatte kravet, kunne tape et stikk til dette trumfkortet ved noen som helst normal spillemåt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NY SPILLEPLAN BLIR FORESLÅ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foreslår en hvilken som helst fremgangsrik spilleplan som ikke inngitt i den opprinnelige redegjørelse, såfremt det finnes noen alternativ normal* spilleplan som ville være mindre fremgangsrik.</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0. KRAV SOM IKKE BLIR GODTATT</a:t>
            </a:r>
            <a:endParaRPr b="1" i="1" lang="en-US" sz="2800" spc="-1" strike="noStrike">
              <a:solidFill>
                <a:srgbClr val="808000"/>
              </a:solidFill>
              <a:latin typeface="Arial"/>
            </a:endParaRPr>
          </a:p>
        </p:txBody>
      </p:sp>
      <p:sp>
        <p:nvSpPr>
          <p:cNvPr id="4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ILLEPLAN SOM IKKE ER NEVNT (FINESSE ELLER TOPP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L skal ikke godkjenne at den som fremsatte kravet, gjør bruk av en spilleplan som ikke er nevnt, og hvis suksess er avhengig av at et bestemt kort finnes hos en av motstanderne og ikke hos den andre - med mindre en motstander har unnlatt å følge dette kortets farge før kravet ble fremsatt, eller senere ville unnlate å følge fargen ved en normal* spilleplan; eller hvis en slik spillemåte ville være irrasjonell.</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bestemmelsene i §69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1800" spc="-1" strike="noStrike">
                <a:solidFill>
                  <a:srgbClr val="000000"/>
                </a:solidFill>
                <a:latin typeface="Arial"/>
              </a:rPr>
              <a:t>En avståelse må bli stående når den først er gjort, men innenfor den korrigeringsfrist** som er fastsatt i §79C, skal TL annullere en avståelse i følgende tilfeller:</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a:t>
            </a:r>
            <a:r>
              <a:rPr b="0" lang="nb-NO" sz="1400" spc="-1" strike="noStrike">
                <a:solidFill>
                  <a:srgbClr val="000000"/>
                </a:solidFill>
                <a:latin typeface="Arial"/>
              </a:rPr>
              <a:t>**Korrigeringsfristen er normalt 30 minutter dersom arrangøren ikke har bestemt noe anne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STIKKET OVERHODET IKKE</a:t>
            </a:r>
            <a:br>
              <a:rPr sz="2400"/>
            </a:br>
            <a:r>
              <a:rPr b="1" lang="nb-NO" sz="2400" spc="-1" strike="noStrike">
                <a:solidFill>
                  <a:srgbClr val="000000"/>
                </a:solidFill>
                <a:latin typeface="Arial"/>
              </a:rPr>
              <a:t> KAN TAP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har avstått et stikk som hans side ikke kunne ha tapt ved noe lovlig spill av resterende kort.</a:t>
            </a:r>
            <a:endParaRPr b="1" lang="en-US" sz="1800" spc="-1" strike="noStrike">
              <a:solidFill>
                <a:srgbClr val="000000"/>
              </a:solidFill>
              <a:latin typeface="Arial"/>
            </a:endParaRPr>
          </a:p>
        </p:txBody>
      </p:sp>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1. ANNULLERING AV AVSTÅELSE</a:t>
            </a:r>
            <a:endParaRPr b="1" i="1" lang="en-US" sz="2800" spc="-1" strike="noStrike">
              <a:solidFill>
                <a:srgbClr val="808000"/>
              </a:solidFill>
              <a:latin typeface="Arial"/>
            </a:endParaRPr>
          </a:p>
        </p:txBody>
      </p:sp>
      <p:sp>
        <p:nvSpPr>
          <p:cNvPr id="4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a:t>
            </a:r>
            <a:r>
              <a:rPr b="1" lang="nb-NO" sz="2400" spc="-1" strike="noStrike">
                <a:solidFill>
                  <a:srgbClr val="000000"/>
                </a:solidFill>
                <a:latin typeface="Arial"/>
              </a:rPr>
              <a:t>	</a:t>
            </a:r>
            <a:r>
              <a:rPr b="1" lang="nb-NO" sz="2400" spc="-1" strike="noStrike">
                <a:solidFill>
                  <a:srgbClr val="000000"/>
                </a:solidFill>
                <a:latin typeface="Arial"/>
              </a:rPr>
              <a:t> NÅR KONTRAKTEN ALLEREDE ER VUNNET</a:t>
            </a:r>
            <a:br>
              <a:rPr sz="2400"/>
            </a:br>
            <a:r>
              <a:rPr b="1" lang="nb-NO" sz="2400" spc="-1" strike="noStrike">
                <a:solidFill>
                  <a:srgbClr val="000000"/>
                </a:solidFill>
                <a:latin typeface="Arial"/>
              </a:rPr>
              <a:t> ELLER BETET</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føreren har gjort en avståelse som medfører bet i en kontrakt som allerede er vunnet, eller en motspiller har gjort en avståelse som medfører at en kontrakt som hans side allerede hadde betet, ble vunnet.</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RIMELIG AVSTÅELSE</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rsom en spiller har avstått et stikk som ikke kunne tapes ved normalt* spill av de resterende kort. Før den avstående side avgir en melding på en påfølgende mappe, eller før runden er avsluttet, skal TL annullere avståelsen av et stikk som ikke kunne bli tapt ved noen form for normalt* spill av de resterende kort</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Når det gjelder bestemmelsene i §69, §70 og §71, vil "normal" spillemåte omfatte spillemåter som ville ansees som skjødesløse eller under vanlig standard for den spiller det gjelder, men ikke irrasjonelle spillemåter.</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VERHOLDELSE AV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LTAGERNES GENERELLE FORPLIKT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man spiller turneringsbridge, skal man nøye overholde lovene</a:t>
            </a:r>
            <a:r>
              <a:rPr b="0" lang="nb-NO" sz="1800" spc="-1" strike="noStrike">
                <a:solidFill>
                  <a:srgbClr val="000000"/>
                </a:solidFill>
                <a:latin typeface="CG Times"/>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SCORING AV VUNNE STIK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med vitende og vilje godta at egen side får score for et stikk som denne ikke har vunnet, og heller ikke godta en avståelse av stikk motstanderne ikke kunne tap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 turneringsbridge kan ikke en spiller på eget initiativ gi avkall på straff for et lovbrudd fra egen side selv om han mener at egen side ikke har lidd skade </a:t>
            </a:r>
            <a:r>
              <a:rPr b="0" i="1" lang="nb-NO" sz="1800" spc="-1" strike="noStrike">
                <a:solidFill>
                  <a:srgbClr val="000000"/>
                </a:solidFill>
                <a:latin typeface="Arial"/>
              </a:rPr>
              <a:t>(men man kan be TL gi avkall på straff - se §81C8)</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IKKE-FEILENDE SPILLERS UTØVELSE AV LOVLIGE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den uskyldige side valgmuligheter etter at en motstander har begått en uregelmessighet, er det korrekt å velge den mulighet som gir størst fordel.</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FEILENDE SPILLERS VALGMULIGHETER</a:t>
            </a:r>
            <a:br>
              <a:rPr sz="1800"/>
            </a:br>
            <a:r>
              <a:rPr b="0" lang="nb-NO" sz="1800" spc="-1" strike="noStrike">
                <a:solidFill>
                  <a:srgbClr val="000000"/>
                </a:solidFill>
                <a:latin typeface="Arial"/>
              </a:rPr>
              <a:t>Med unntak av hva som er foreskrevet i §16C2**, er det for den feilende side, når man har oppfylt den foreskrevne straff for et lovbrudd gjort i vanvare, korrekt å melde eller spille på en måte som er fordelaktig, selv om man på denne måte kan synes å tjene på sitt eget lovbrudd.</a:t>
            </a:r>
            <a:br>
              <a:rPr sz="1800"/>
            </a:br>
            <a:br>
              <a:rPr sz="1800"/>
            </a:br>
            <a:r>
              <a:rPr b="0" lang="nb-NO" sz="1400" spc="-1" strike="noStrike">
                <a:solidFill>
                  <a:srgbClr val="000000"/>
                </a:solidFill>
                <a:latin typeface="Arial"/>
              </a:rPr>
              <a:t>**§16C2 sier at for den feilende side er informasjon som framkommer ved egen tilbaketrukket handling eller fra tilbaketrukket handling fra motstanders side urettmessig.</a:t>
            </a:r>
            <a:endParaRPr b="1" lang="en-US" sz="1400" spc="-1" strike="noStrike">
              <a:solidFill>
                <a:srgbClr val="000000"/>
              </a:solidFill>
              <a:latin typeface="Arial"/>
            </a:endParaRPr>
          </a:p>
        </p:txBody>
      </p:sp>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2800" spc="-1" strike="noStrike">
                <a:solidFill>
                  <a:srgbClr val="808000"/>
                </a:solidFill>
                <a:latin typeface="Arial"/>
              </a:rPr>
              <a:t>	</a:t>
            </a:r>
            <a:r>
              <a:rPr b="0" i="1" lang="nb-NO" sz="2800" spc="-1" strike="noStrike">
                <a:solidFill>
                  <a:srgbClr val="808000"/>
                </a:solidFill>
                <a:latin typeface="Arial"/>
              </a:rPr>
              <a:t> </a:t>
            </a: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ANSVARET FOR GJENNOMFØRING AV LOVBESTEMMELS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nsvaret for å ilegge straff for uregelmessigheter og gi erstatning for skade ligger utelukkende hos turneringslederen og lovene, ikke hos spillerne selv.</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JUSTERT SCORE</a:t>
            </a:r>
            <a:br>
              <a:rPr sz="1800"/>
            </a:br>
            <a:br>
              <a:rPr sz="1800"/>
            </a:br>
            <a:r>
              <a:rPr b="0" lang="nb-NO" sz="1800" spc="-1" strike="noStrike">
                <a:solidFill>
                  <a:srgbClr val="000000"/>
                </a:solidFill>
                <a:latin typeface="Arial"/>
              </a:rPr>
              <a:t>Hvis TL anser at en feilende kunne ha visst, da uregelmes-sigheten ble begått, at uregelmessigheten sannsynligvis kunne skade den ikke-feilende side, skal TL forlange at meldingene og spillet fortsetter. Dersom han, etter at spillet er slutt, finner at den feilende side tjente på uregelmessigheten, skal han tildele justert scor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2. GENERELLE PRINSIPPER</a:t>
            </a:r>
            <a:endParaRPr b="1" i="1" lang="en-US" sz="2800" spc="-1" strike="noStrike">
              <a:solidFill>
                <a:srgbClr val="808000"/>
              </a:solidFill>
              <a:latin typeface="Arial"/>
            </a:endParaRPr>
          </a:p>
        </p:txBody>
      </p:sp>
      <p:sp>
        <p:nvSpPr>
          <p:cNvPr id="469"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MED FORSE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bryte loven med forsett, selv om han er villig til å oppfylle den straff som måtte være foreskrevet for lovbrudd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VANVA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ksisterer ingen forpliktelse til å påtale et lovbrudd som egen side har begått av vanvare (men når det gjelder feilaktig forklaring -se fotnoten til §75).</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FORSØK PÅ Å SKJULE ET LOVBRUD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ikke forsøke å skjule et lovbrudd som er begått av vanvare, som for eksempel ved å begå en ny revoke, skjule et kort som er innblandet i en revoke, eller blande kortene i utide.</a:t>
            </a:r>
            <a:endParaRPr b="1"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3" name="PlaceHolder 2"/>
          <p:cNvSpPr>
            <a:spLocks noGrp="1"/>
          </p:cNvSpPr>
          <p:nvPr>
            <p:ph/>
          </p:nvPr>
        </p:nvSpPr>
        <p:spPr>
          <a:xfrm>
            <a:off x="1072800" y="228600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e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uksjon av oppnådde poeng. Reduksjonens størrelse bestemmes av TL.</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L</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turneringsleder.</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over seks som vinnes av spilleførerens side.</a:t>
            </a:r>
            <a:endParaRPr b="1" lang="en-US" sz="1800" spc="-1" strike="noStrike">
              <a:solidFill>
                <a:srgbClr val="000000"/>
              </a:solidFill>
              <a:latin typeface="Arial"/>
            </a:endParaRPr>
          </a:p>
        </p:txBody>
      </p:sp>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a:t>
            </a:r>
            <a:r>
              <a:rPr b="1" lang="nb-NO" sz="2800" spc="-1" strike="noStrike">
                <a:solidFill>
                  <a:srgbClr val="000000"/>
                </a:solidFill>
                <a:latin typeface="CG Times"/>
              </a:rPr>
              <a:t>KOMMUNIKASJON MELLOM MAKKERE</a:t>
            </a:r>
            <a:endParaRPr b="1" i="1" lang="en-US" sz="2800" spc="-1" strike="noStrike">
              <a:solidFill>
                <a:srgbClr val="808000"/>
              </a:solidFill>
              <a:latin typeface="Arial"/>
            </a:endParaRPr>
          </a:p>
        </p:txBody>
      </p:sp>
      <p:sp>
        <p:nvSpPr>
          <p:cNvPr id="4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METODE FOR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ORDAN KOMMUNIKASJON FOREGÅ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under meldingsforløpet og spillet skal bare foregå ved hjelp av selve meldingene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MELDINGER OG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Meldinger og spill skal foregå uten særskilte ettertrykk, tonefall eller andre særegenheter, og uten unødig nøling eller hastverk</a:t>
            </a:r>
            <a:r>
              <a:rPr b="0" i="1" lang="nb-NO" sz="1800" spc="-1" strike="noStrike">
                <a:solidFill>
                  <a:srgbClr val="000000"/>
                </a:solidFill>
                <a:latin typeface="Arial"/>
              </a:rPr>
              <a:t> (men arrangøren kan forlange obligatoriske pauser, som for eksempel i første melderunde, etter en advarsel om hoppbud, eller i første stikk)</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KORREKT KOMMUNIKASJON MELLOM MAKK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BERETTIGET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Kommunikasjon mellom makkere skal ikke foregå ved hjelp av måten meldinger eller spill blir utført på, gjennom tilleggsbemerkninger eller bevegelser, eller ved hjelp av spørsmål som stilles eller ikke stilles til motstanderne, eller gjennom alerter og forklaringer som blir gitt eller ikke gitt de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HÅNDSAVTALTE KOMMUNIKASJONSMETO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alvorligste forseelse mot de etiske reglene som overhodet kan tenkes, er at et makkerpar utveksler informasjon gjennom forhåndsavtalte kommunikasjonsmetoder andre enn dem som er anerkjent i lovene. Et par som blir funnet skyldig i å bruke slike metoder risikerer eksklusjo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SPILLER MOTTAR URETTMESSIG INFORMASJON FRA SIN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har mottatt urettmessig informasjon fra sin makker - f.eks. via en bemerkning, et spørsmål, en forklaring, en bevegelse, en særegen adferd, et særskilt ettertrykk, et uvanlig tonefall, hastverk eller nøling - må spilleren omhyggelig unngå å utnytte den på noen som helst måte som kan være fordelaktig for egen sid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VARIASJONER I TEMPO ELLER SPILLEMÅTE</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FRIVIL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t er ønskelig, selv om det ikke alltid er nødvendig, at spillerne spiller kortene i et jevnt tempo og på samme måte. I posisjoner hvor variasjon i måte eller tempo kan tjene til egen sides fordel, må man være spesielt forsiktig. For øvrig er det i seg selv intet brudd på de etiske reglene dersom man ufrivillig varierer tempoet eller måten en melding eller et spill blir gjort på. Men det er bare for motstanderne det er korrekt å trekke slutninger av slike variasjoner, og de gjør det på egen risiko.</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ORSETTLIGE VARIASJON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må ikke prøve å villede en motstander ved hjelp av bemerkning eller bevegelse, ved å skynde seg eller nøle med en melding eller et spill </a:t>
            </a:r>
            <a:r>
              <a:rPr b="0" i="1" lang="nb-NO" sz="1800" spc="-1" strike="noStrike">
                <a:solidFill>
                  <a:srgbClr val="000000"/>
                </a:solidFill>
                <a:latin typeface="Arial"/>
              </a:rPr>
              <a:t>(som når man nøler før man spiller en singleton)</a:t>
            </a:r>
            <a:r>
              <a:rPr b="0" lang="nb-NO" sz="1800" spc="-1" strike="noStrike">
                <a:solidFill>
                  <a:srgbClr val="000000"/>
                </a:solidFill>
                <a:latin typeface="Arial"/>
              </a:rPr>
              <a:t>, eller gjennom måten meldinger eller spillet blir gjennomført på.</a:t>
            </a:r>
            <a:endParaRPr b="1" lang="en-US" sz="1800" spc="-1" strike="noStrike">
              <a:solidFill>
                <a:srgbClr val="000000"/>
              </a:solidFill>
              <a:latin typeface="Arial"/>
            </a:endParaRPr>
          </a:p>
        </p:txBody>
      </p:sp>
    </p:spTree>
  </p:cSld>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NAR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korrekt for alle spillere å prøve å narre en motstander med en melding eller et spill </a:t>
            </a:r>
            <a:r>
              <a:rPr b="0" i="1" lang="nb-NO" sz="1800" spc="-1" strike="noStrike">
                <a:solidFill>
                  <a:srgbClr val="000000"/>
                </a:solidFill>
                <a:latin typeface="Arial"/>
              </a:rPr>
              <a:t>(så lenge narringen ikke er beskyttet av en skjult makkeravtale)</a:t>
            </a:r>
            <a:r>
              <a:rPr b="1" lang="nb-NO" sz="1800" spc="-1" strike="noStrike">
                <a:solidFill>
                  <a:srgbClr val="000000"/>
                </a:solidFill>
                <a:latin typeface="Arial"/>
              </a:rPr>
              <a:t>. Det er fullstendig korrekt å unnlate å gi informasjon til motstanderne, ved å melde og spille uten minste variasjon i tempo eller måt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t brudd på de etiske reglene som beskrevet i denne paragraf fører til skade for en uskyldig motstander, skjer følgende:</a:t>
            </a:r>
            <a:endParaRPr b="1" lang="en-US" sz="1800" spc="-1" strike="noStrike">
              <a:solidFill>
                <a:srgbClr val="000000"/>
              </a:solidFill>
              <a:latin typeface="Arial"/>
            </a:endParaRPr>
          </a:p>
        </p:txBody>
      </p:sp>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3. MEDDELELSE MELLOM MAKKERE</a:t>
            </a:r>
            <a:endParaRPr b="1" i="1" lang="en-US" sz="2800" spc="-1" strike="noStrike">
              <a:solidFill>
                <a:srgbClr val="808000"/>
              </a:solidFill>
              <a:latin typeface="Arial"/>
            </a:endParaRPr>
          </a:p>
        </p:txBody>
      </p:sp>
      <p:sp>
        <p:nvSpPr>
          <p:cNvPr id="4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VIS DET ER PÅVIST AT EN SPILLER HAR HAND-LET UT FRA URETTMESSIG INFORMA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spiller blant logiske alternative handlingsmåter valgte en som beviselig kan antas å ha vært antydet fremfor en annen, gjennom makkers bemerkning, adferd, tempo eller lignende, skal TL tildele et justert resultat (se §16).</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HVIS EN SPILLER ER PÅFØRT SKADE VED ULOVLIG NAR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TL finner at en uskyldig spiller har trukket en feilaktig slutning av en bedragerisk bemerkning, adferd, tempo eller lignende, og motstanderen som narret spilleren på det tidspunkt da handlingen ble begått kunne vite at narringen kunne tjene til fordel for den narrede selv, skal TL tildele et justert resultat (se §12).</a:t>
            </a:r>
            <a:endParaRPr b="1" lang="en-US" sz="1800" spc="-1" strike="noStrike">
              <a:solidFill>
                <a:srgbClr val="000000"/>
              </a:solidFill>
              <a:latin typeface="Arial"/>
            </a:endParaRPr>
          </a:p>
        </p:txBody>
      </p:sp>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HOLDN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HØFLIG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til enhver tid innta en høflig holdning til enhver 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TIKETTE I ORD OG HAND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ne bør omhyggelig unngå enhver bemerkning eller handling som kan ergre eller sjenere andre spillere, eller forstyrre deres glede ov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OVERHOLDELSE AV KORREKT FREMGANGS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e spillere bør følge ensartede og korrekte fremgangsmåter i meldinger og spill.</a:t>
            </a:r>
            <a:endParaRPr b="1" lang="en-US" sz="1800" spc="-1" strike="noStrike">
              <a:solidFill>
                <a:srgbClr val="000000"/>
              </a:solidFill>
              <a:latin typeface="Arial"/>
            </a:endParaRPr>
          </a:p>
        </p:txBody>
      </p:sp>
    </p:spTree>
  </p:cSld>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ETIKETT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spiller bør avholde seg f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ikke spillet tilstrekkelig oppmerksomh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komme med overflødige kommentarer under meldingsforløpet og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a frem et kort før det er vedkommendes tur til å spil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forlenge spillet unødig </a:t>
            </a:r>
            <a:r>
              <a:rPr b="0" i="1" lang="nb-NO" sz="1800" spc="-1" strike="noStrike">
                <a:solidFill>
                  <a:srgbClr val="000000"/>
                </a:solidFill>
                <a:latin typeface="Arial"/>
              </a:rPr>
              <a:t>(for eksempel ved å spille selv om man vet med sikkerhet at resten står)</a:t>
            </a:r>
            <a:r>
              <a:rPr b="1" lang="nb-NO" sz="1800" spc="-1" strike="noStrike">
                <a:solidFill>
                  <a:srgbClr val="000000"/>
                </a:solidFill>
                <a:latin typeface="Arial"/>
              </a:rPr>
              <a:t>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tilkalle turneringslederen på en måte som er uhøflig overfor én eller de øvrige deltagere.</a:t>
            </a:r>
            <a:endParaRPr b="1" lang="en-US" sz="1800" spc="-1" strike="noStrike">
              <a:solidFill>
                <a:srgbClr val="000000"/>
              </a:solidFill>
              <a:latin typeface="Arial"/>
            </a:endParaRPr>
          </a:p>
        </p:txBody>
      </p:sp>
    </p:spTree>
  </p:cSld>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RUDD PÅ DE ETISKE REGL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lgende blir å betrakte som brudd på de etiske regl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å bruke forskjellige benevnelser på samme melding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å tilkjennegi tilfredshet eller misnøye med en melding eller et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å tilkjennegi en forventning eller hensikt om å vinne eller tape et stikk som ikke er fullfø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å komme med kommentarer under meldings- og spilleforløpet, eller på annen måte oppføre seg slik at det henleder oppmerksomheten på et viktig poeng eller på antallet stikk som fortsatt trenges for et vellykket resultat.</a:t>
            </a:r>
            <a:endParaRPr b="1" lang="en-US" sz="1800" spc="-1" strike="noStrike">
              <a:solidFill>
                <a:srgbClr val="000000"/>
              </a:solidFill>
              <a:latin typeface="Arial"/>
            </a:endParaRPr>
          </a:p>
        </p:txBody>
      </p:sp>
    </p:spTree>
  </p:cSld>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4. OPPFØRSEL OG ETIKETTE</a:t>
            </a:r>
            <a:endParaRPr b="1" i="1" lang="en-US" sz="2800" spc="-1" strike="noStrike">
              <a:solidFill>
                <a:srgbClr val="808000"/>
              </a:solidFill>
              <a:latin typeface="Arial"/>
            </a:endParaRPr>
          </a:p>
        </p:txBody>
      </p:sp>
      <p:sp>
        <p:nvSpPr>
          <p:cNvPr id="48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å se anspent på noen av spillerne under meldings- og spilleforløpet, eller se på en annen spillers hånd i den hensikt å se kortene, eller å iaktta hvor spilleren trekker kort fra </a:t>
            </a:r>
            <a:r>
              <a:rPr b="0" i="1" lang="nb-NO" sz="1800" spc="-1" strike="noStrike">
                <a:solidFill>
                  <a:srgbClr val="000000"/>
                </a:solidFill>
                <a:latin typeface="Arial"/>
              </a:rPr>
              <a:t>(men det er korrekt å handle ut fra informasjon som man har fått ved å se en motstanders kort av vanvar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Når det gjelder tilfeller der en spiller kan ha fremvist kort med forsett - se §73.</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å vise åpenbar mangel på ytterligere interesse for en giv </a:t>
            </a:r>
            <a:r>
              <a:rPr b="0" i="1" lang="nb-NO" sz="1800" spc="-1" strike="noStrike">
                <a:solidFill>
                  <a:srgbClr val="000000"/>
                </a:solidFill>
                <a:latin typeface="Arial"/>
              </a:rPr>
              <a:t>(for eksempel ved å legge sammen korten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å bevisst variere det normale tempo for meldinger eller spill for å bringe en motstander ut av f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å forlate bordet uten grunn før runden er offisielt avsluttet.</a:t>
            </a:r>
            <a:endParaRPr b="1"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poeng</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ummen av oppnådde trekkverdier på en giv.</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rdien av hvert trekk som spilleførerens side blir tildelt for å vinne kontrakten (se §77).</a:t>
            </a:r>
            <a:endParaRPr b="1" lang="en-US" sz="1800" spc="-1" strike="noStrike">
              <a:solidFill>
                <a:srgbClr val="000000"/>
              </a:solidFill>
              <a:latin typeface="Arial"/>
            </a:endParaRPr>
          </a:p>
          <a:p>
            <a:pPr marL="285840" indent="-285840">
              <a:lnSpc>
                <a:spcPct val="90000"/>
              </a:lnSpc>
              <a:spcBef>
                <a:spcPts val="27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umf</a:t>
            </a:r>
            <a:endParaRPr b="1" lang="en-US" sz="2400" spc="-1" strike="noStrike">
              <a:solidFill>
                <a:srgbClr val="000000"/>
              </a:solidFill>
              <a:latin typeface="Arial"/>
            </a:endParaRPr>
          </a:p>
          <a:p>
            <a:pPr lvl="1" marL="685800" indent="-228600">
              <a:lnSpc>
                <a:spcPct val="90000"/>
              </a:lnSpc>
              <a:spcBef>
                <a:spcPts val="20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kort av den farge kontrakten spilles i, når kontrakten er meldt i farge.</a:t>
            </a:r>
            <a:endParaRPr b="1" lang="en-US" sz="1800" spc="-1" strike="noStrike">
              <a:solidFill>
                <a:srgbClr val="000000"/>
              </a:solidFill>
              <a:latin typeface="Arial"/>
            </a:endParaRPr>
          </a:p>
        </p:txBody>
      </p:sp>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ESIELLE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esielle makkeravtaler må være fullstendig og ubetinget tilgjengelige for motstanderne (se §40), uansett om de er klart avtalt eller underforståtte. Den informasjon som formidles til makker gjennom slike avtaler må ha sitt grunnlag i meldinger, spill og betingelsene for den aktuelle giv.</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BRUDD PÅ MAKKERAVTALE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ikke ukorrekt av en spiller å bryte makkeravtaler som er kunngjort, så lenge makkeren ikke er klar over at den blir brutt</a:t>
            </a:r>
            <a:r>
              <a:rPr b="0" i="1" lang="nb-NO" sz="1800" spc="-1" strike="noStrike">
                <a:solidFill>
                  <a:srgbClr val="000000"/>
                </a:solidFill>
                <a:latin typeface="Arial"/>
              </a:rPr>
              <a:t> (men regelmessige brudd innenfor et makkerskap kan skape underforståtte avtaler, og disse må kunngjøres)</a:t>
            </a:r>
            <a:r>
              <a:rPr b="1" lang="nb-NO" sz="1800" spc="-1" strike="noStrike">
                <a:solidFill>
                  <a:srgbClr val="000000"/>
                </a:solidFill>
                <a:latin typeface="Arial"/>
              </a:rPr>
              <a:t>. Ingen spiller har noen plikt til å avsløre for motstanderne at han har brutt en kunngjort avtale, og hvis motstanderne deretter blir påført skade, for eksempel ved at de trekker feilaktig slutning av et slikt brudd på en avtale, har de ikke krav på erstatning.</a:t>
            </a:r>
            <a:endParaRPr b="1" lang="en-US" sz="1800" spc="-1" strike="noStrike">
              <a:solidFill>
                <a:srgbClr val="000000"/>
              </a:solidFill>
              <a:latin typeface="Arial"/>
            </a:endParaRPr>
          </a:p>
        </p:txBody>
      </p:sp>
    </p:spTree>
  </p:cSld>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VAR PÅ SPØRSMÅL OM MAKKERAVTAL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spiller som svar på spørsmål fra en motstander forklarer hva makkers melding eller spill betyr (se §20**), skal ha avdekke all den spesielle informasjon som han får ut av det gjennom en makkeravtale eller erfaring fra makkerskapet. Men han behøver ikke avsløre slutninger som kan trekkes på grunnlag av generelle kunnskaper og erfaring.</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20 omhandler gjentagelse og forklaring av meldinger.</a:t>
            </a:r>
            <a:endParaRPr b="1" lang="en-US" sz="1400" spc="-1" strike="noStrike">
              <a:solidFill>
                <a:srgbClr val="000000"/>
              </a:solidFill>
              <a:latin typeface="Arial"/>
            </a:endParaRPr>
          </a:p>
        </p:txBody>
      </p:sp>
    </p:spTree>
  </p:cSld>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RIGERING AV FEIL I FORKLA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DEN FORKLARENDE OPPDAGER SIN EGEN 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etterpå oppdager at han selv har gitt en feilaktig eller ufullstendig forklaring, må han omgående tilkalle TL </a:t>
            </a:r>
            <a:r>
              <a:rPr b="0" i="1" lang="nb-NO" sz="1800" spc="-1" strike="noStrike">
                <a:solidFill>
                  <a:srgbClr val="000000"/>
                </a:solidFill>
                <a:latin typeface="Arial"/>
              </a:rPr>
              <a:t>(som vil anvende §21 eller §40C)</a:t>
            </a:r>
            <a:r>
              <a:rPr b="0"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7" name="PlaceHolder 2"/>
          <p:cNvSpPr>
            <a:spLocks noGrp="1"/>
          </p:cNvSpPr>
          <p:nvPr>
            <p:ph/>
          </p:nvPr>
        </p:nvSpPr>
        <p:spPr>
          <a:xfrm>
            <a:off x="1072800" y="1905120"/>
            <a:ext cx="7759800" cy="4114800"/>
          </a:xfrm>
          <a:prstGeom prst="rect">
            <a:avLst/>
          </a:prstGeom>
          <a:noFill/>
          <a:ln w="0">
            <a:noFill/>
          </a:ln>
        </p:spPr>
        <p:txBody>
          <a:bodyPr lIns="90360" rIns="90360" tIns="44280" bIns="44280" anchor="t">
            <a:normAutofit/>
          </a:bodyPr>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FORKLARENDES MAKKER LEGGER MERKE TIL FEILEN</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fører, hvis makker har gitt en feilaktig forklaring, må ikke korrigere feilen før etter den avsluttende pass. Han må heller ikke indikere på noen måte at det er begått noen feil. En motspiller må ikke korrigere feilen før etter at spillet er fullført. Etter å ha tilkalt TL ved tidligste lovlige anledning (etter avsluttende pass som spillefører, etter avsluttet spill som motspiller), må spilleren informere motstanderne om at, etter hans mening, var makkers forklaring ukorrekt*.</a:t>
            </a:r>
            <a:br>
              <a:rPr sz="1800"/>
            </a:br>
            <a:br>
              <a:rPr sz="1800"/>
            </a:br>
            <a:r>
              <a:rPr b="0" lang="nb-NO" sz="1400" spc="-1" strike="noStrike">
                <a:solidFill>
                  <a:srgbClr val="000000"/>
                </a:solidFill>
                <a:latin typeface="Arial"/>
              </a:rPr>
              <a:t>*Spillerens (og TLs) ansvar kan klargjøres ved to eksempler som viser hva som skjer etter at motstanderne har fått villedende forklaring. I begge de følgende eksempler har Nord åpnet med 1 NT og Syd, som har en svak hånd med lang ruterfarge, har meldt 2¨, som er ment som avslag.Imidlertid forklarer Nord som svar på spørsmål fra Vest, at Syds bud er sterkt og kunstig og spør etter majorfarger.</a:t>
            </a:r>
            <a:endParaRPr b="1" lang="en-US" sz="1400" spc="-1" strike="noStrike">
              <a:solidFill>
                <a:srgbClr val="000000"/>
              </a:solidFill>
              <a:latin typeface="Arial"/>
            </a:endParaRPr>
          </a:p>
        </p:txBody>
      </p:sp>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4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ksempel 1 - Feilaktig forklar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n foreliggende makkeravtale går ut på at 2 Ruter er et naturlig avslag - feilen ligger i Nords forklaring. Denne forklaringen er et lovbrudd, ettersom Øst-Vest har krav på en nøytral beskrivelse av Nord-Syds avtale </a:t>
            </a:r>
            <a:r>
              <a:rPr b="0" i="1" lang="nb-NO" sz="1800" spc="-1" strike="noStrike">
                <a:solidFill>
                  <a:srgbClr val="000000"/>
                </a:solidFill>
                <a:latin typeface="Arial"/>
              </a:rPr>
              <a:t>(når et slikt lovbrudd påfører Øst-Vest skade, skal turneringslederen fastsette et justert resultat)</a:t>
            </a:r>
            <a:r>
              <a:rPr b="0" lang="nb-NO" sz="1800" spc="-1" strike="noStrike">
                <a:solidFill>
                  <a:srgbClr val="000000"/>
                </a:solidFill>
                <a:latin typeface="Arial"/>
              </a:rPr>
              <a:t>. Hvis Nord senere blir klar over sin feil, må Nord omgående gjøre TL oppmerksom på den. Syd må ikke gjøre noe som helst for å korrigere den feilaktige forklaringen så lenge meldingsforløpet fortsetter. Etter den avsluttende pass bør Syd, dersom Syd blir spillefører eller blindemann, tilkalle TL, og frivillig gi en korrigering av forklaringen. Hvis Syd blir motspiller, tilkaller Syd TL og korrigerer forklaringen når spillet er avsluttet.</a:t>
            </a:r>
            <a:endParaRPr b="1" lang="en-US" sz="1800" spc="-1" strike="noStrike">
              <a:solidFill>
                <a:srgbClr val="000000"/>
              </a:solidFill>
              <a:latin typeface="Arial"/>
            </a:endParaRPr>
          </a:p>
        </p:txBody>
      </p:sp>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5. MAKKERAVTALER</a:t>
            </a:r>
            <a:endParaRPr b="1" i="1" lang="en-US" sz="2800" spc="-1" strike="noStrike">
              <a:solidFill>
                <a:srgbClr val="808000"/>
              </a:solidFill>
              <a:latin typeface="Arial"/>
            </a:endParaRPr>
          </a:p>
        </p:txBody>
      </p:sp>
      <p:sp>
        <p:nvSpPr>
          <p:cNvPr id="501"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94000"/>
          </a:bodyPr>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ksempel 2 - Feilaktig bud:</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Makkeravtalen er som Nord har forklart - 2 Ruter er sterk og kunstig - og feilen ligger i Syds bud. Her er det ikke skjedd noe lovbrudd, ettersom Øst-Vest faktisk fikk en nøyaktig beskrivelse av Nord-Syds avtale. De har ikke noe krav på å få en nøyaktig beskrivelse av Nord-Syds hender. </a:t>
            </a:r>
            <a:r>
              <a:rPr b="0" i="1" lang="nb-NO" sz="1600" spc="-1" strike="noStrike">
                <a:solidFill>
                  <a:srgbClr val="000000"/>
                </a:solidFill>
                <a:latin typeface="Arial"/>
              </a:rPr>
              <a:t>(Uansett om de blir påført skade eller ikke, skal turneringslederen la resultatet bli stående. Men hvis det ikke foreligger bevis for det motsatte, skal TL gå ut fra at det er gitt en feilaktig forklaring og ikke avgitt et feilaktig bud.)</a:t>
            </a:r>
            <a:r>
              <a:rPr b="0" lang="nb-NO" sz="1600" spc="-1" strike="noStrike">
                <a:solidFill>
                  <a:srgbClr val="000000"/>
                </a:solidFill>
                <a:latin typeface="Arial"/>
              </a:rPr>
              <a:t> Syd må ikke korrigere Nords forklaring </a:t>
            </a:r>
            <a:r>
              <a:rPr b="0" i="1" lang="nb-NO" sz="1600" spc="-1" strike="noStrike">
                <a:solidFill>
                  <a:srgbClr val="000000"/>
                </a:solidFill>
                <a:latin typeface="Arial"/>
              </a:rPr>
              <a:t>(eller gjøre TL oppmerksom på den)</a:t>
            </a:r>
            <a:r>
              <a:rPr b="0" lang="nb-NO" sz="1600" spc="-1" strike="noStrike">
                <a:solidFill>
                  <a:srgbClr val="000000"/>
                </a:solidFill>
                <a:latin typeface="Arial"/>
              </a:rPr>
              <a:t> med det samme, og har heller intet ansvar for å gjøre det senere.</a:t>
            </a:r>
            <a:endParaRPr b="1" lang="en-US" sz="1600" spc="-1" strike="noStrike">
              <a:solidFill>
                <a:srgbClr val="000000"/>
              </a:solidFill>
              <a:latin typeface="Arial"/>
            </a:endParaRPr>
          </a:p>
          <a:p>
            <a:pPr lvl="1" marL="644400" indent="-21456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I begge eksemplene vet Syd, som har hørt Nords forklaring, at budet 2 Ruter er blitt misforstått. Denne kunnskapen er "urettmessig informasjon" (se §16A), og Syd må derfor være omhyggelig med ikke å basere sine påfølgende handlinger på denne informasjon </a:t>
            </a:r>
            <a:r>
              <a:rPr b="0" i="1" lang="nb-NO" sz="1600" spc="-1" strike="noStrike">
                <a:solidFill>
                  <a:srgbClr val="000000"/>
                </a:solidFill>
                <a:latin typeface="Arial"/>
              </a:rPr>
              <a:t>(hvis Syd gjør det, skal TL fastsette et justert resultat)</a:t>
            </a:r>
            <a:r>
              <a:rPr b="0" lang="nb-NO" sz="1600" spc="-1" strike="noStrike">
                <a:solidFill>
                  <a:srgbClr val="000000"/>
                </a:solidFill>
                <a:latin typeface="Arial"/>
              </a:rPr>
              <a:t>. Hvis Nord for eksempel kommer med et nytt bud på 2 Grand, har Syd urettmessig informasjon om at dette budet bare benekter fire kort i noen av majorfargene. Men Syds ansvar krever at Syd handler som om Nord hadde gjort et sterkt utgangsforsøk overfor en svak svarhånd, og dermed vist maksimumshånd.</a:t>
            </a:r>
            <a:endParaRPr b="1" lang="en-US" sz="1600" spc="-1" strike="noStrike">
              <a:solidFill>
                <a:srgbClr val="000000"/>
              </a:solidFill>
              <a:latin typeface="Arial"/>
            </a:endParaRPr>
          </a:p>
        </p:txBody>
      </p:sp>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1000"/>
          </a:bodyPr>
          <a:p>
            <a:pPr marL="259920" indent="-259920">
              <a:lnSpc>
                <a:spcPct val="90000"/>
              </a:lnSpc>
              <a:spcBef>
                <a:spcPts val="9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ILSKUERNES OPPFØRSEL UNDER MELDINGS- OG SPILLEFORLØPET</a:t>
            </a:r>
            <a:endParaRPr b="1" lang="en-US" sz="24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BARE ÉN HÅND</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bør ikke se på kortene til mer enn én spiller, uten etter særskilt tillatels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ERSONLIGE REAKSJON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ikke tilkjennegi noen reaksjoner på meldinger eller spill mens en hånd er i spill.</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ÆREGEN ADFERD ELLER BEMERKNINGER</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å lenge en runde pågår, må tilskueren avholde seg fra særegen adferd eller bemerkninger av noe slag </a:t>
            </a:r>
            <a:r>
              <a:rPr b="0" i="1" lang="nb-NO" sz="1800" spc="-1" strike="noStrike">
                <a:solidFill>
                  <a:srgbClr val="000000"/>
                </a:solidFill>
                <a:latin typeface="Arial"/>
              </a:rPr>
              <a:t>(innbefattet samtale med noen av spillerne)</a:t>
            </a:r>
            <a:r>
              <a:rPr b="0" lang="nb-NO" sz="1800" spc="-1" strike="noStrike">
                <a:solidFill>
                  <a:srgbClr val="000000"/>
                </a:solidFill>
                <a:latin typeface="Arial"/>
              </a:rPr>
              <a:t>.</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HENSYN TIL SPILLERNE</a:t>
            </a:r>
            <a:endParaRPr b="1" lang="en-US" sz="1800" spc="-1" strike="noStrike">
              <a:solidFill>
                <a:srgbClr val="000000"/>
              </a:solidFill>
              <a:latin typeface="Arial"/>
            </a:endParaRPr>
          </a:p>
          <a:p>
            <a:pPr lvl="1" marL="623880" indent="-20772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tilskuer må på ingen måte forstyrre noen av spillerne.</a:t>
            </a:r>
            <a:endParaRPr b="1" lang="en-US" sz="1800" spc="-1" strike="noStrike">
              <a:solidFill>
                <a:srgbClr val="000000"/>
              </a:solidFill>
              <a:latin typeface="Arial"/>
            </a:endParaRPr>
          </a:p>
        </p:txBody>
      </p:sp>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6. TILSKUERE</a:t>
            </a:r>
            <a:endParaRPr b="1" i="1" lang="en-US" sz="2800" spc="-1" strike="noStrike">
              <a:solidFill>
                <a:srgbClr val="808000"/>
              </a:solidFill>
              <a:latin typeface="Arial"/>
            </a:endParaRPr>
          </a:p>
        </p:txBody>
      </p:sp>
      <p:sp>
        <p:nvSpPr>
          <p:cNvPr id="50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LSKUEREN MÅ IKKE GRIPE INN I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ilskuer kan ikke påtale en uregelmessighet eller feil, og heller ikke uttale seg om noe spørsmål vedrørende lovene eller faktiske forhold, unntatt på forespørsel av turneringslederen.</a:t>
            </a:r>
            <a:endParaRPr b="1" lang="en-US" sz="1800" spc="-1" strike="noStrike">
              <a:solidFill>
                <a:srgbClr val="000000"/>
              </a:solidFill>
              <a:latin typeface="Arial"/>
            </a:endParaRPr>
          </a:p>
        </p:txBody>
      </p:sp>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7" name="PlaceHolder 2"/>
          <p:cNvSpPr>
            <a:spLocks noGrp="1"/>
          </p:cNvSpPr>
          <p:nvPr>
            <p:ph/>
          </p:nvPr>
        </p:nvSpPr>
        <p:spPr>
          <a:xfrm>
            <a:off x="1072800" y="1752480"/>
            <a:ext cx="7759800" cy="4114800"/>
          </a:xfrm>
          <a:prstGeom prst="rect">
            <a:avLst/>
          </a:prstGeom>
          <a:noFill/>
          <a:ln w="0">
            <a:noFill/>
          </a:ln>
        </p:spPr>
        <p:txBody>
          <a:bodyPr lIns="90360" rIns="90360" tIns="44280" bIns="44280" anchor="t">
            <a:normAutofit fontScale="87000"/>
          </a:bodyPr>
          <a:p>
            <a:pPr marL="248400" indent="-24840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REKKVERDI</a:t>
            </a:r>
            <a:endParaRPr b="1" lang="en-US" sz="24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ildeles spilleførerens side hvis kontrakten blir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hvert trekk som er budt og vunnet.</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TRUMFFARGE</a:t>
            </a:r>
            <a:r>
              <a:rPr b="1" lang="nb-NO" sz="1800" spc="-1" strike="noStrike">
                <a:solidFill>
                  <a:srgbClr val="000000"/>
                </a:solidFill>
                <a:latin typeface="Arial"/>
              </a:rPr>
              <a:t>	</a:t>
            </a:r>
            <a:r>
              <a:rPr b="1" lang="nb-NO" sz="1800" spc="-1" strike="noStrike">
                <a:solidFill>
                  <a:srgbClr val="000000"/>
                </a:solidFill>
                <a:latin typeface="Arial"/>
              </a:rPr>
              <a:t>(kl)</a:t>
            </a:r>
            <a:r>
              <a:rPr b="1" lang="nb-NO" sz="1800" spc="-1" strike="noStrike">
                <a:solidFill>
                  <a:srgbClr val="000000"/>
                </a:solidFill>
                <a:latin typeface="Arial"/>
              </a:rPr>
              <a:t>	</a:t>
            </a:r>
            <a:r>
              <a:rPr b="1" lang="nb-NO" sz="1800" spc="-1" strike="noStrike">
                <a:solidFill>
                  <a:srgbClr val="000000"/>
                </a:solidFill>
                <a:latin typeface="Arial"/>
              </a:rPr>
              <a:t>(ru)</a:t>
            </a:r>
            <a:r>
              <a:rPr b="1" lang="nb-NO" sz="1800" spc="-1" strike="noStrike">
                <a:solidFill>
                  <a:srgbClr val="000000"/>
                </a:solidFill>
                <a:latin typeface="Arial"/>
              </a:rPr>
              <a:t>	</a:t>
            </a:r>
            <a:r>
              <a:rPr b="1" lang="nb-NO" sz="1800" spc="-1" strike="noStrike">
                <a:solidFill>
                  <a:srgbClr val="000000"/>
                </a:solidFill>
                <a:latin typeface="Arial"/>
              </a:rPr>
              <a:t>(hj)</a:t>
            </a:r>
            <a:r>
              <a:rPr b="1" lang="nb-NO" sz="1800" spc="-1" strike="noStrike">
                <a:solidFill>
                  <a:srgbClr val="000000"/>
                </a:solidFill>
                <a:latin typeface="Arial"/>
              </a:rPr>
              <a:t>	</a:t>
            </a:r>
            <a:r>
              <a:rPr b="1" lang="nb-NO" sz="1800" spc="-1" strike="noStrike">
                <a:solidFill>
                  <a:srgbClr val="000000"/>
                </a:solidFill>
                <a:latin typeface="Arial"/>
              </a:rPr>
              <a:t>(sp)</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20</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3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60</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2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2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GRAND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trekk budt og vunnet</a:t>
            </a:r>
            <a:r>
              <a:rPr b="1" lang="nb-NO" sz="1800" spc="-1" strike="noStrike">
                <a:solidFill>
                  <a:srgbClr val="000000"/>
                </a:solidFill>
                <a:latin typeface="Arial"/>
              </a:rPr>
              <a:t>	</a:t>
            </a:r>
            <a:r>
              <a:rPr b="1" lang="nb-NO" sz="1800" spc="-1" strike="noStrike">
                <a:solidFill>
                  <a:srgbClr val="000000"/>
                </a:solidFill>
                <a:latin typeface="Arial"/>
              </a:rPr>
              <a:t>40</a:t>
            </a:r>
            <a:r>
              <a:rPr b="1" lang="nb-NO" sz="1800" spc="-1" strike="noStrike">
                <a:solidFill>
                  <a:srgbClr val="000000"/>
                </a:solidFill>
                <a:latin typeface="Arial"/>
              </a:rPr>
              <a:t>	</a:t>
            </a:r>
            <a:r>
              <a:rPr b="1" lang="nb-NO" sz="1800" spc="-1" strike="noStrike">
                <a:solidFill>
                  <a:srgbClr val="000000"/>
                </a:solidFill>
                <a:latin typeface="Arial"/>
              </a:rPr>
              <a:t>80</a:t>
            </a:r>
            <a:r>
              <a:rPr b="1" lang="nb-NO" sz="1800" spc="-1" strike="noStrike">
                <a:solidFill>
                  <a:srgbClr val="000000"/>
                </a:solidFill>
                <a:latin typeface="Arial"/>
              </a:rPr>
              <a:t>	</a:t>
            </a:r>
            <a:r>
              <a:rPr b="1" lang="nb-NO" sz="1800" spc="-1" strike="noStrike">
                <a:solidFill>
                  <a:srgbClr val="000000"/>
                </a:solidFill>
                <a:latin typeface="Arial"/>
              </a:rPr>
              <a:t>16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påfølgende trekk</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a:t>
            </a:r>
            <a:r>
              <a:rPr b="1" lang="nb-NO" sz="1800" spc="-1" strike="noStrike">
                <a:solidFill>
                  <a:srgbClr val="000000"/>
                </a:solidFill>
                <a:latin typeface="Arial"/>
              </a:rPr>
              <a:t>	</a:t>
            </a:r>
            <a:r>
              <a:rPr b="1" lang="nb-NO" sz="1800" spc="-1" strike="noStrike">
                <a:solidFill>
                  <a:srgbClr val="000000"/>
                </a:solidFill>
                <a:latin typeface="Arial"/>
              </a:rPr>
              <a:t>60</a:t>
            </a:r>
            <a:r>
              <a:rPr b="1" lang="nb-NO" sz="1800" spc="-1" strike="noStrike">
                <a:solidFill>
                  <a:srgbClr val="000000"/>
                </a:solidFill>
                <a:latin typeface="Arial"/>
              </a:rPr>
              <a:t>	</a:t>
            </a:r>
            <a:r>
              <a:rPr b="1" lang="nb-NO" sz="1800" spc="-1" strike="noStrike">
                <a:solidFill>
                  <a:srgbClr val="000000"/>
                </a:solidFill>
                <a:latin typeface="Arial"/>
              </a:rPr>
              <a:t>120</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100 poeng eller mer (meldt og vunnet) på én mappe er UTGANG.</a:t>
            </a:r>
            <a:endParaRPr b="1" lang="en-US" sz="1800" spc="-1" strike="noStrike">
              <a:solidFill>
                <a:srgbClr val="000000"/>
              </a:solidFill>
              <a:latin typeface="Arial"/>
            </a:endParaRPr>
          </a:p>
          <a:p>
            <a:pPr lvl="1" marL="596520" indent="-198720">
              <a:lnSpc>
                <a:spcPct val="10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trekkverdi på mindre enn 100 poeng er DELSCORE.</a:t>
            </a:r>
            <a:endParaRPr b="1" lang="en-US" sz="1800" spc="-1" strike="noStrike">
              <a:solidFill>
                <a:srgbClr val="000000"/>
              </a:solidFill>
              <a:latin typeface="Arial"/>
            </a:endParaRPr>
          </a:p>
        </p:txBody>
      </p:sp>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09" name="PlaceHolder 2"/>
          <p:cNvSpPr>
            <a:spLocks noGrp="1"/>
          </p:cNvSpPr>
          <p:nvPr>
            <p:ph/>
          </p:nvPr>
        </p:nvSpPr>
        <p:spPr>
          <a:xfrm>
            <a:off x="1072800" y="205740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om tildeles spilleførerens side.</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LEMMER</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Lilleslem (12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0</a:t>
            </a:r>
            <a:r>
              <a:rPr b="1" lang="nb-NO" sz="1800" spc="-1" strike="noStrike">
                <a:solidFill>
                  <a:srgbClr val="000000"/>
                </a:solidFill>
                <a:latin typeface="Arial"/>
              </a:rPr>
              <a:t>	</a:t>
            </a:r>
            <a:r>
              <a:rPr b="1" lang="nb-NO" sz="1800" spc="-1" strike="noStrike">
                <a:solidFill>
                  <a:srgbClr val="000000"/>
                </a:solidFill>
                <a:latin typeface="Arial"/>
              </a:rPr>
              <a:t>  75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toreslem (13 stikk) budt og vunn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0</a:t>
            </a:r>
            <a:r>
              <a:rPr b="1" lang="nb-NO" sz="1800" spc="-1" strike="noStrike">
                <a:solidFill>
                  <a:srgbClr val="000000"/>
                </a:solidFill>
                <a:latin typeface="Arial"/>
              </a:rPr>
              <a:t>	</a:t>
            </a:r>
            <a:r>
              <a:rPr b="1" lang="nb-NO" sz="1800" spc="-1" strike="noStrike">
                <a:solidFill>
                  <a:srgbClr val="000000"/>
                </a:solidFill>
                <a:latin typeface="Arial"/>
              </a:rPr>
              <a:t>1500</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VERSTIKK</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overstikk (stikk i tillegg til kontrakt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Trekkverdi</a:t>
            </a:r>
            <a:r>
              <a:rPr b="1" lang="nb-NO" sz="1800" spc="-1" strike="noStrike">
                <a:solidFill>
                  <a:srgbClr val="000000"/>
                </a:solidFill>
                <a:latin typeface="Arial"/>
              </a:rPr>
              <a:t>	</a:t>
            </a:r>
            <a:r>
              <a:rPr b="1" lang="nb-NO" sz="1800" spc="-1" strike="noStrike">
                <a:solidFill>
                  <a:srgbClr val="000000"/>
                </a:solidFill>
                <a:latin typeface="Arial"/>
              </a:rPr>
              <a:t>Trekkverdi</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1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dobl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200</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400</a:t>
            </a:r>
            <a:endParaRPr b="1"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7" name="PlaceHolder 2"/>
          <p:cNvSpPr>
            <a:spLocks noGrp="1"/>
          </p:cNvSpPr>
          <p:nvPr>
            <p:ph/>
          </p:nvPr>
        </p:nvSpPr>
        <p:spPr>
          <a:xfrm>
            <a:off x="659880" y="1981080"/>
            <a:ext cx="8502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n rekkefølge som spillerne melder eller spiller i (med urviseren).</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tidspunkt i et meldingsforløp eller spill da det er korrekt for en spiller å melde eller spill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kurranse som består av én eller flere omganger.</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Turneringsleder (T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person som er utpekt til å lede en bridgeturnering og påse at lovene blir fulgt.</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regelmessighet</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avvik fra korrekt fremgangsmåte slik den er definert i lovene.</a:t>
            </a:r>
            <a:endParaRPr b="1" lang="en-US" sz="1800" spc="-1" strike="noStrike">
              <a:solidFill>
                <a:srgbClr val="000000"/>
              </a:solidFill>
              <a:latin typeface="Arial"/>
            </a:endParaRPr>
          </a:p>
        </p:txBody>
      </p:sp>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ONUSER FOR UTGANG, DELSCORE, OPPFYLT KONTRAK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GANG 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3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ELSCORE</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et, men ikke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5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redoblet kontrak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endParaRPr b="1" lang="en-US" sz="1800" spc="-1" strike="noStrike">
              <a:solidFill>
                <a:srgbClr val="000000"/>
              </a:solidFill>
              <a:latin typeface="Arial"/>
            </a:endParaRPr>
          </a:p>
        </p:txBody>
      </p:sp>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STRAFF FOR BETER</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core som tildeles spilleførerens motstander hvis kontrakten ikke blir vunnet.</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tenfor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ndre og tredj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jerde og hver påfølgende bet</a:t>
            </a:r>
            <a:r>
              <a:rPr b="1" lang="nb-NO" sz="1800" spc="-1" strike="noStrike">
                <a:solidFill>
                  <a:srgbClr val="000000"/>
                </a:solidFill>
                <a:latin typeface="Arial"/>
              </a:rPr>
              <a:t>	</a:t>
            </a:r>
            <a:r>
              <a:rPr b="1" lang="nb-NO" sz="1800" spc="-1" strike="noStrike">
                <a:solidFill>
                  <a:srgbClr val="000000"/>
                </a:solidFill>
                <a:latin typeface="Arial"/>
              </a:rPr>
              <a:t>5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p:txBody>
      </p:sp>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7. SCORINGSTABELL FOR TURNERINGSBRIDGE</a:t>
            </a:r>
            <a:endParaRPr b="1" i="1" lang="en-US" sz="2800" spc="-1" strike="noStrike">
              <a:solidFill>
                <a:srgbClr val="808000"/>
              </a:solidFill>
              <a:latin typeface="Arial"/>
            </a:endParaRPr>
          </a:p>
        </p:txBody>
      </p:sp>
      <p:sp>
        <p:nvSpPr>
          <p:cNvPr id="51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BETER (stikk som spilleføreren mangler på å oppfylle kontrakten)</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faresonen</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UD</a:t>
            </a:r>
            <a:r>
              <a:rPr b="1" lang="nb-NO" sz="1800" spc="-1" strike="noStrike">
                <a:solidFill>
                  <a:srgbClr val="000000"/>
                </a:solidFill>
                <a:latin typeface="Arial"/>
              </a:rPr>
              <a:t>	</a:t>
            </a:r>
            <a:r>
              <a:rPr b="1" lang="nb-NO" sz="1800" spc="-1" strike="noStrike">
                <a:solidFill>
                  <a:srgbClr val="000000"/>
                </a:solidFill>
                <a:latin typeface="Arial"/>
              </a:rPr>
              <a:t>  D</a:t>
            </a:r>
            <a:r>
              <a:rPr b="1" lang="nb-NO" sz="1800" spc="-1" strike="noStrike">
                <a:solidFill>
                  <a:srgbClr val="000000"/>
                </a:solidFill>
                <a:latin typeface="Arial"/>
              </a:rPr>
              <a:t>	</a:t>
            </a:r>
            <a:r>
              <a:rPr b="1" lang="nb-NO" sz="1800" spc="-1" strike="noStrike">
                <a:solidFill>
                  <a:srgbClr val="000000"/>
                </a:solidFill>
                <a:latin typeface="Arial"/>
              </a:rPr>
              <a:t> 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st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200</a:t>
            </a:r>
            <a:r>
              <a:rPr b="1" lang="nb-NO" sz="1800" spc="-1" strike="noStrike">
                <a:solidFill>
                  <a:srgbClr val="000000"/>
                </a:solidFill>
                <a:latin typeface="Arial"/>
              </a:rPr>
              <a:t>	</a:t>
            </a:r>
            <a:r>
              <a:rPr b="1" lang="nb-NO" sz="1800" spc="-1" strike="noStrike">
                <a:solidFill>
                  <a:srgbClr val="000000"/>
                </a:solidFill>
                <a:latin typeface="Arial"/>
              </a:rPr>
              <a:t>400</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påfølgende bet</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100</a:t>
            </a:r>
            <a:r>
              <a:rPr b="1" lang="nb-NO" sz="1800" spc="-1" strike="noStrike">
                <a:solidFill>
                  <a:srgbClr val="000000"/>
                </a:solidFill>
                <a:latin typeface="Arial"/>
              </a:rPr>
              <a:t>	</a:t>
            </a:r>
            <a:r>
              <a:rPr b="1" lang="nb-NO" sz="1800" spc="-1" strike="noStrike">
                <a:solidFill>
                  <a:srgbClr val="000000"/>
                </a:solidFill>
                <a:latin typeface="Arial"/>
              </a:rPr>
              <a:t>300</a:t>
            </a:r>
            <a:r>
              <a:rPr b="1" lang="nb-NO" sz="1800" spc="-1" strike="noStrike">
                <a:solidFill>
                  <a:srgbClr val="000000"/>
                </a:solidFill>
                <a:latin typeface="Arial"/>
              </a:rPr>
              <a:t>	</a:t>
            </a:r>
            <a:r>
              <a:rPr b="1" lang="nb-NO" sz="1800" spc="-1" strike="noStrike">
                <a:solidFill>
                  <a:srgbClr val="000000"/>
                </a:solidFill>
                <a:latin typeface="Arial"/>
              </a:rPr>
              <a:t>600</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TREGNING MED 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poeng </a:t>
            </a:r>
            <a:r>
              <a:rPr b="0" i="1" lang="nb-NO" sz="1800" spc="-1" strike="noStrike">
                <a:solidFill>
                  <a:srgbClr val="000000"/>
                </a:solidFill>
                <a:latin typeface="Arial"/>
              </a:rPr>
              <a:t>(i parturneringer)</a:t>
            </a:r>
            <a:r>
              <a:rPr b="1" lang="nb-NO" sz="1800" spc="-1" strike="noStrike">
                <a:solidFill>
                  <a:srgbClr val="000000"/>
                </a:solidFill>
                <a:latin typeface="Arial"/>
              </a:rPr>
              <a:t> blir hver deltager tildelt poeng etter sammenligning av scorer oppnådd av forskjellige deltagere som har spilt samme mappe: To poeng-enheter** </a:t>
            </a:r>
            <a:r>
              <a:rPr b="0" lang="nb-NO" sz="1800" spc="-1" strike="noStrike">
                <a:solidFill>
                  <a:srgbClr val="000000"/>
                </a:solidFill>
                <a:latin typeface="Arial"/>
              </a:rPr>
              <a:t>(hele eller halve poeng)</a:t>
            </a:r>
            <a:r>
              <a:rPr b="1" lang="nb-NO" sz="1800" spc="-1" strike="noStrike">
                <a:solidFill>
                  <a:srgbClr val="000000"/>
                </a:solidFill>
                <a:latin typeface="Arial"/>
              </a:rPr>
              <a:t> for hver score som er lavere enn deltagerens egen, én poengenhet for score som er lik deltagerens egen, og null poengenheter for hver score som er bedre enn deltagerens egen**.</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675"/>
              </a:spcBef>
              <a:buClr>
                <a:srgbClr val="000000"/>
              </a:buClr>
              <a:buFont typeface="CG Times"/>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CG Times"/>
              </a:rPr>
              <a:t>**I Norge er en poengenhet ett (1) poeng.</a:t>
            </a:r>
            <a:endParaRPr b="1" lang="en-US" sz="18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MED INTERNASJONALE MATCHPOENG (IMP)</a:t>
            </a:r>
            <a:endParaRPr b="1" lang="en-US" sz="2400" spc="-1" strike="noStrike">
              <a:solidFill>
                <a:srgbClr val="000000"/>
              </a:solidFill>
              <a:latin typeface="Arial"/>
            </a:endParaRPr>
          </a:p>
          <a:p>
            <a:pPr lvl="1" marL="671760" indent="-223920">
              <a:lnSpc>
                <a:spcPct val="8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internasjonale matchpoeng blir den totale poengdifferanse mellom de to scorer som sammenlignes for hver gruppe, omregnet til internasjonale matchpoeng (IMP) i samsvar med følgende tabell:</a:t>
            </a:r>
            <a:endParaRPr b="1" lang="en-US" sz="18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IMP</a:t>
            </a:r>
            <a:r>
              <a:rPr b="1" lang="nb-NO" sz="1400" spc="-1" strike="noStrike">
                <a:solidFill>
                  <a:srgbClr val="000000"/>
                </a:solidFill>
                <a:latin typeface="Arial"/>
              </a:rPr>
              <a:t>	</a:t>
            </a:r>
            <a:r>
              <a:rPr b="1" lang="nb-NO" sz="1400" spc="-1" strike="noStrike">
                <a:solidFill>
                  <a:srgbClr val="000000"/>
                </a:solidFill>
                <a:latin typeface="Arial"/>
              </a:rPr>
              <a:t>Poengforskjell</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IMP</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0 - 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a:t>
            </a:r>
            <a:r>
              <a:rPr b="1" lang="nb-NO" sz="1400" spc="-1" strike="noStrike">
                <a:solidFill>
                  <a:srgbClr val="000000"/>
                </a:solidFill>
                <a:latin typeface="Arial"/>
              </a:rPr>
              <a:t>	</a:t>
            </a:r>
            <a:r>
              <a:rPr b="1" lang="nb-NO" sz="1400" spc="-1" strike="noStrike">
                <a:solidFill>
                  <a:srgbClr val="000000"/>
                </a:solidFill>
                <a:latin typeface="Arial"/>
              </a:rPr>
              <a:t>750 - 8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 - 8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a:t>
            </a:r>
            <a:r>
              <a:rPr b="1" lang="nb-NO" sz="1400" spc="-1" strike="noStrike">
                <a:solidFill>
                  <a:srgbClr val="000000"/>
                </a:solidFill>
                <a:latin typeface="Arial"/>
              </a:rPr>
              <a:t>	</a:t>
            </a:r>
            <a:r>
              <a:rPr b="1" lang="nb-NO" sz="1400" spc="-1" strike="noStrike">
                <a:solidFill>
                  <a:srgbClr val="000000"/>
                </a:solidFill>
                <a:latin typeface="Arial"/>
              </a:rPr>
              <a:t>900 - 10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4</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90 - 1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3</a:t>
            </a:r>
            <a:r>
              <a:rPr b="1" lang="nb-NO" sz="1400" spc="-1" strike="noStrike">
                <a:solidFill>
                  <a:srgbClr val="000000"/>
                </a:solidFill>
                <a:latin typeface="Arial"/>
              </a:rPr>
              <a:t>	</a:t>
            </a:r>
            <a:r>
              <a:rPr b="1" lang="nb-NO" sz="1400" spc="-1" strike="noStrike">
                <a:solidFill>
                  <a:srgbClr val="000000"/>
                </a:solidFill>
                <a:latin typeface="Arial"/>
              </a:rPr>
              <a:t>1100 - 12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5</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30 - 1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4</a:t>
            </a:r>
            <a:r>
              <a:rPr b="1" lang="nb-NO" sz="1400" spc="-1" strike="noStrike">
                <a:solidFill>
                  <a:srgbClr val="000000"/>
                </a:solidFill>
                <a:latin typeface="Arial"/>
              </a:rPr>
              <a:t>	</a:t>
            </a:r>
            <a:r>
              <a:rPr b="1" lang="nb-NO" sz="1400" spc="-1" strike="noStrike">
                <a:solidFill>
                  <a:srgbClr val="000000"/>
                </a:solidFill>
                <a:latin typeface="Arial"/>
              </a:rPr>
              <a:t>1300 - 1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6</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170 - 2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5</a:t>
            </a:r>
            <a:r>
              <a:rPr b="1" lang="nb-NO" sz="1400" spc="-1" strike="noStrike">
                <a:solidFill>
                  <a:srgbClr val="000000"/>
                </a:solidFill>
                <a:latin typeface="Arial"/>
              </a:rPr>
              <a:t>	</a:t>
            </a:r>
            <a:r>
              <a:rPr b="1" lang="nb-NO" sz="1400" spc="-1" strike="noStrike">
                <a:solidFill>
                  <a:srgbClr val="000000"/>
                </a:solidFill>
                <a:latin typeface="Arial"/>
              </a:rPr>
              <a:t>1500 - 1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7</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20 - 2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6</a:t>
            </a:r>
            <a:r>
              <a:rPr b="1" lang="nb-NO" sz="1400" spc="-1" strike="noStrike">
                <a:solidFill>
                  <a:srgbClr val="000000"/>
                </a:solidFill>
                <a:latin typeface="Arial"/>
              </a:rPr>
              <a:t>	</a:t>
            </a:r>
            <a:r>
              <a:rPr b="1" lang="nb-NO" sz="1400" spc="-1" strike="noStrike">
                <a:solidFill>
                  <a:srgbClr val="000000"/>
                </a:solidFill>
                <a:latin typeface="Arial"/>
              </a:rPr>
              <a:t>1750 - 1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8</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270 - 31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7</a:t>
            </a:r>
            <a:r>
              <a:rPr b="1" lang="nb-NO" sz="1400" spc="-1" strike="noStrike">
                <a:solidFill>
                  <a:srgbClr val="000000"/>
                </a:solidFill>
                <a:latin typeface="Arial"/>
              </a:rPr>
              <a:t>	</a:t>
            </a:r>
            <a:r>
              <a:rPr b="1" lang="nb-NO" sz="1400" spc="-1" strike="noStrike">
                <a:solidFill>
                  <a:srgbClr val="000000"/>
                </a:solidFill>
                <a:latin typeface="Arial"/>
              </a:rPr>
              <a:t>2000 - 22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9</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20 - 36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8</a:t>
            </a:r>
            <a:r>
              <a:rPr b="1" lang="nb-NO" sz="1400" spc="-1" strike="noStrike">
                <a:solidFill>
                  <a:srgbClr val="000000"/>
                </a:solidFill>
                <a:latin typeface="Arial"/>
              </a:rPr>
              <a:t>	</a:t>
            </a:r>
            <a:r>
              <a:rPr b="1" lang="nb-NO" sz="1400" spc="-1" strike="noStrike">
                <a:solidFill>
                  <a:srgbClr val="000000"/>
                </a:solidFill>
                <a:latin typeface="Arial"/>
              </a:rPr>
              <a:t>2250 - 2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0</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370 - 42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9</a:t>
            </a:r>
            <a:r>
              <a:rPr b="1" lang="nb-NO" sz="1400" spc="-1" strike="noStrike">
                <a:solidFill>
                  <a:srgbClr val="000000"/>
                </a:solidFill>
                <a:latin typeface="Arial"/>
              </a:rPr>
              <a:t>	</a:t>
            </a:r>
            <a:r>
              <a:rPr b="1" lang="nb-NO" sz="1400" spc="-1" strike="noStrike">
                <a:solidFill>
                  <a:srgbClr val="000000"/>
                </a:solidFill>
                <a:latin typeface="Arial"/>
              </a:rPr>
              <a:t>2500 - 2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1</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430 - 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0</a:t>
            </a:r>
            <a:r>
              <a:rPr b="1" lang="nb-NO" sz="1400" spc="-1" strike="noStrike">
                <a:solidFill>
                  <a:srgbClr val="000000"/>
                </a:solidFill>
                <a:latin typeface="Arial"/>
              </a:rPr>
              <a:t>	</a:t>
            </a:r>
            <a:r>
              <a:rPr b="1" lang="nb-NO" sz="1400" spc="-1" strike="noStrike">
                <a:solidFill>
                  <a:srgbClr val="000000"/>
                </a:solidFill>
                <a:latin typeface="Arial"/>
              </a:rPr>
              <a:t>3000 - 34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2</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500 - 5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1</a:t>
            </a:r>
            <a:r>
              <a:rPr b="1" lang="nb-NO" sz="1400" spc="-1" strike="noStrike">
                <a:solidFill>
                  <a:srgbClr val="000000"/>
                </a:solidFill>
                <a:latin typeface="Arial"/>
              </a:rPr>
              <a:t>	</a:t>
            </a:r>
            <a:r>
              <a:rPr b="1" lang="nb-NO" sz="1400" spc="-1" strike="noStrike">
                <a:solidFill>
                  <a:srgbClr val="000000"/>
                </a:solidFill>
                <a:latin typeface="Arial"/>
              </a:rPr>
              <a:t>3500 - 399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3</a:t>
            </a:r>
            <a:endParaRPr b="1" lang="en-US" sz="1400" spc="-1" strike="noStrike">
              <a:solidFill>
                <a:srgbClr val="000000"/>
              </a:solidFill>
              <a:latin typeface="Arial"/>
            </a:endParaRPr>
          </a:p>
          <a:p>
            <a:pPr lvl="1" marL="671760" indent="-223920">
              <a:lnSpc>
                <a:spcPct val="6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000000"/>
                </a:solidFill>
                <a:latin typeface="Arial"/>
              </a:rPr>
              <a:t>600 - 740</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12</a:t>
            </a:r>
            <a:r>
              <a:rPr b="1" lang="nb-NO" sz="1400" spc="-1" strike="noStrike">
                <a:solidFill>
                  <a:srgbClr val="000000"/>
                </a:solidFill>
                <a:latin typeface="Arial"/>
              </a:rPr>
              <a:t>	</a:t>
            </a:r>
            <a:r>
              <a:rPr b="1" lang="nb-NO" sz="1400" spc="-1" strike="noStrike">
                <a:solidFill>
                  <a:srgbClr val="000000"/>
                </a:solidFill>
                <a:latin typeface="Arial"/>
              </a:rPr>
              <a:t>4000 og mer</a:t>
            </a:r>
            <a:r>
              <a:rPr b="1" lang="nb-NO" sz="1400" spc="-1" strike="noStrike">
                <a:solidFill>
                  <a:srgbClr val="000000"/>
                </a:solidFill>
                <a:latin typeface="Arial"/>
              </a:rPr>
              <a:t>	</a:t>
            </a:r>
            <a:r>
              <a:rPr b="1" lang="nb-NO" sz="1400" spc="-1" strike="noStrike">
                <a:solidFill>
                  <a:srgbClr val="000000"/>
                </a:solidFill>
                <a:latin typeface="Arial"/>
              </a:rPr>
              <a:t>	</a:t>
            </a:r>
            <a:r>
              <a:rPr b="1" lang="nb-NO" sz="1400" spc="-1" strike="noStrike">
                <a:solidFill>
                  <a:srgbClr val="000000"/>
                </a:solidFill>
                <a:latin typeface="Arial"/>
              </a:rPr>
              <a:t>24</a:t>
            </a:r>
            <a:endParaRPr b="1" lang="en-US" sz="1400" spc="-1" strike="noStrike">
              <a:solidFill>
                <a:srgbClr val="000000"/>
              </a:solidFill>
              <a:latin typeface="Arial"/>
            </a:endParaRPr>
          </a:p>
        </p:txBody>
      </p:sp>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8. UTREGNINGSMETODER</a:t>
            </a:r>
            <a:endParaRPr b="1" i="1" lang="en-US" sz="2800" spc="-1" strike="noStrike">
              <a:solidFill>
                <a:srgbClr val="808000"/>
              </a:solidFill>
              <a:latin typeface="Arial"/>
            </a:endParaRPr>
          </a:p>
        </p:txBody>
      </p:sp>
      <p:sp>
        <p:nvSpPr>
          <p:cNvPr id="5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REGNING MED TOTALPOE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d utregning med totalpoeng blir den samlede score for alle mapper som er spilt, resultatet for hver deltag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PESIELLE UTREGNINGSMETO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illatt å anvende spesielle utregningsmetoder som er godkjent av den arrangerende organisasjon. Den arrangerende organisasjon bør før enhver konkurranse offentliggjøre konkurransevilkårene med detaljer for påmelding, utregningsmetoder, fastsettelse av vinnere, avgjørelser ved uavgjort resultat og lignende.</a:t>
            </a:r>
            <a:endParaRPr b="1" lang="en-US" sz="1800" spc="-1" strike="noStrike">
              <a:solidFill>
                <a:srgbClr val="000000"/>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skal være oppnådd enighet om antallet av stikk som er vunnet, før alle fire hender er lagt tilbake i mapp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ENIGHET OM VUNNE STIK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senere oppstår en uenighet, må turneringslederen tilkalles. Det kan ikke tildeles noen økt score med mindre TL blir tilkalt før runden er avsluttet som beskrevet i §8 </a:t>
            </a:r>
            <a:r>
              <a:rPr b="0" i="1" lang="nb-NO" sz="1800" spc="-1" strike="noStrike">
                <a:solidFill>
                  <a:srgbClr val="000000"/>
                </a:solidFill>
                <a:latin typeface="Arial"/>
              </a:rPr>
              <a:t>(men §69 eller §71 kan slå igjennom denne bestemmelsen når det har skjedd en godtagelse eller en avståelse**)</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69 omhandler godtagelse av krav eller avståelse, mens §71 omhandler annullering av avståelse.</a:t>
            </a:r>
            <a:endParaRPr b="1" lang="en-US" sz="1400" spc="-1" strike="noStrike">
              <a:solidFill>
                <a:srgbClr val="000000"/>
              </a:solidFill>
              <a:latin typeface="Arial"/>
            </a:endParaRPr>
          </a:p>
        </p:txBody>
      </p:sp>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9. VUNNE STIKK</a:t>
            </a:r>
            <a:endParaRPr b="1" i="1" lang="en-US" sz="2800" spc="-1" strike="noStrike">
              <a:solidFill>
                <a:srgbClr val="808000"/>
              </a:solidFill>
              <a:latin typeface="Arial"/>
            </a:endParaRPr>
          </a:p>
        </p:txBody>
      </p:sp>
      <p:sp>
        <p:nvSpPr>
          <p:cNvPr id="5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I REGNSKA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begått en feil ved beregningen eller bokføringen av en score man var blitt enig om, kan feilen rettes opp før utgangen av den frist som er fastsatt av arrangøren, uansett om feilen er begått av en spiller eller scorer. Korrigeringsfristen utløper 30 minutter etter at den offisielle score er fullført og lagt ut til gjennomsyn, med mindre arrangøren fastsetter et senere tidspunk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Det kan også fastsettes et tidligere tidspunkt, dersom en konkurranse har en spesiell karakter som krever det.</a:t>
            </a:r>
            <a:endParaRPr b="1" lang="en-US" sz="1400" spc="-1" strike="noStrike">
              <a:solidFill>
                <a:srgbClr val="000000"/>
              </a:solidFill>
              <a:latin typeface="Arial"/>
            </a:endParaRPr>
          </a:p>
        </p:txBody>
      </p:sp>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En arrangerende organisasjon som leder en turnering i samsvar med disse lover, har følgende plikter og myndighe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ppnevne turneringsleder. Hvis det ikke finnes noen TL, bør spillerne peke ut en fra sine egne rekker til å utføre hans funksjon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HÅNDSARRANGEMEN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orberede arrangementet av turneringen, innbefattet spillelokaler, innkvartering og utsty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TID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dag og klokkeslett for hver omgang.</a:t>
            </a:r>
            <a:endParaRPr b="1" lang="en-US" sz="1800" spc="-1" strike="noStrike">
              <a:solidFill>
                <a:srgbClr val="000000"/>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0. ARRANGERENDE ORGANISASJON</a:t>
            </a:r>
            <a:endParaRPr b="1" i="1" lang="en-US" sz="2800" spc="-1" strike="noStrike">
              <a:solidFill>
                <a:srgbClr val="808000"/>
              </a:solidFill>
              <a:latin typeface="Arial"/>
            </a:endParaRPr>
          </a:p>
        </p:txBody>
      </p:sp>
      <p:sp>
        <p:nvSpPr>
          <p:cNvPr id="5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PÅMELDINGSVILKÅ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påmeldingsvilkå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PESIELLE FORHOL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fastsette spesielle betingelser for meldinger og spill </a:t>
            </a:r>
            <a:r>
              <a:rPr b="0" i="1" lang="nb-NO" sz="1800" spc="-1" strike="noStrike">
                <a:solidFill>
                  <a:srgbClr val="000000"/>
                </a:solidFill>
                <a:latin typeface="Arial"/>
              </a:rPr>
              <a:t>(som for eksempel skrevne meldinger, meldebokser, skjermer - straffebestemmelser for handlinger som ikke overføres gjennom en skjerm, kan i så fall suspenderes)</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TILLEGGSBESTEMMELS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å offentliggjøre eller meddele bestemmelser som kan supplere, men ikke stå i strid med disse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 APPELLER</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å sørge for at det finnes en appellkomité.</a:t>
            </a:r>
            <a:endParaRPr b="1"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99" name="PlaceHolder 2"/>
          <p:cNvSpPr>
            <a:spLocks noGrp="1"/>
          </p:cNvSpPr>
          <p:nvPr>
            <p:ph/>
          </p:nvPr>
        </p:nvSpPr>
        <p:spPr>
          <a:xfrm>
            <a:off x="1155240" y="2133720"/>
            <a:ext cx="7759800" cy="4114800"/>
          </a:xfrm>
          <a:prstGeom prst="rect">
            <a:avLst/>
          </a:prstGeom>
          <a:noFill/>
          <a:ln w="0">
            <a:noFill/>
          </a:ln>
        </p:spPr>
        <p:txBody>
          <a:bodyPr lIns="90360" rIns="90360" tIns="44280" bIns="44280" anchor="t">
            <a:normAutofit/>
          </a:bodyPr>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gang</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ne er 100 eller m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første kort som spilles til et stikk.</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VM</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kortelse for motstander til venstre (Venstre Motstander).</a:t>
            </a:r>
            <a:endParaRPr b="1" lang="en-US" sz="18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Åpningsutspill</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kort som spilles ut til første stikk.</a:t>
            </a:r>
            <a:endParaRPr b="1" lang="en-US" sz="1800" spc="-1" strike="noStrike">
              <a:solidFill>
                <a:srgbClr val="000000"/>
              </a:solidFill>
              <a:latin typeface="Arial"/>
            </a:endParaRPr>
          </a:p>
        </p:txBody>
      </p:sp>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FFISIELL STATU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er den offisielle representant for den arrangerende organisasj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SVAR OG BEGRENS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EKNISK LE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har ansvaret for den tekniske ledelse av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OVERHOLDELSE AV LOVER OG BESTEMMEL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er bundet av nærværende lover og av tilleggsbestemmelser som er kunngjort av den arrangerende organisasjon.</a:t>
            </a:r>
            <a:endParaRPr b="1" lang="en-US" sz="1800" spc="-1" strike="noStrike">
              <a:solidFill>
                <a:srgbClr val="000000"/>
              </a:solidFill>
              <a:latin typeface="Arial"/>
            </a:endParaRPr>
          </a:p>
        </p:txBody>
      </p:sp>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LIKTER OG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s plikter og myndighet vil normalt omfatte følgend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SSISTEN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oppnevne assistenter i den utstrekning det kreves for utførelsen av vedkommendes plikter.</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PÅMELDING</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motta påmeldinger og sette opp fortegnelse over deltagerne.</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SPILLEFORHOL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det vil være egnede spilleforhold, og gjøre deltagerne kjent med dem.</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DISIPLIN</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å holde disiplin, og passe på at spillet blir avviklet på en ordentlig måte.</a:t>
            </a:r>
            <a:endParaRPr b="1" lang="en-US" sz="1800" spc="-1" strike="noStrike">
              <a:solidFill>
                <a:srgbClr val="000000"/>
              </a:solidFill>
              <a:latin typeface="Arial"/>
            </a:endParaRPr>
          </a:p>
        </p:txBody>
      </p:sp>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ørge for at lovene blir etterlevd, samt fortolke dem og gi spillerne råd om deres rettigheter og ansvar etter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FE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korrigere enhver feil eller uregelmessighet som spillerne på en eller annen måte blir klar over, innen utgangen av den korrigeringsfrist som er fastsatt i samsvar med §79C**.</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Korrigeringsfristen er normalt 30 minutter dersom arrangøren ikke har bestemt noe anne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ILEGGELSE AV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ilegge straff når straff kommer til anvendels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AVKALL PÅ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gi avkall på straff selv om straff kunne komme til anvendelse, på eget skjønn eller etter anmodning fra den ikke-feilende side.</a:t>
            </a:r>
            <a:endParaRPr b="1" lang="en-US" sz="1800" spc="-1" strike="noStrike">
              <a:solidFill>
                <a:srgbClr val="000000"/>
              </a:solidFill>
              <a:latin typeface="Arial"/>
            </a:endParaRPr>
          </a:p>
        </p:txBody>
      </p:sp>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1. TURNERINGSLEDERENS PLIKTER OG MYNDIGHET</a:t>
            </a:r>
            <a:endParaRPr b="1" i="1" lang="en-US" sz="2800" spc="-1" strike="noStrike">
              <a:solidFill>
                <a:srgbClr val="808000"/>
              </a:solidFill>
              <a:latin typeface="Arial"/>
            </a:endParaRPr>
          </a:p>
        </p:txBody>
      </p:sp>
      <p:sp>
        <p:nvSpPr>
          <p:cNvPr id="5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9.</a:t>
            </a:r>
            <a:r>
              <a:rPr b="1" lang="nb-NO" sz="1800" spc="-1" strike="noStrike">
                <a:solidFill>
                  <a:srgbClr val="000000"/>
                </a:solidFill>
                <a:latin typeface="Arial"/>
              </a:rPr>
              <a:t>	</a:t>
            </a:r>
            <a:r>
              <a:rPr b="1" lang="nb-NO" sz="1800" spc="-1" strike="noStrike">
                <a:solidFill>
                  <a:srgbClr val="000000"/>
                </a:solidFill>
                <a:latin typeface="Arial"/>
              </a:rPr>
              <a:t>TVISTEMÅ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bilegge tvistemål og henvise omtvistede spørsmål til det rette utvalg når dette er nødvend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0. REGNSKA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samle inn scorene og sette opp liste over resultat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1. RAPPOR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Å rapportere resultatene til den arrangerende organisasjon slik at de kan bli offisielt registre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DELEGERING AV PLIK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delegere enhver plikt som er nevnt under pkt. C ovenfor, men blir ikke dermed fritatt for ansvaret for at de blir korrekt utført.</a:t>
            </a:r>
            <a:endParaRPr b="1" lang="en-US" sz="1800" spc="-1" strike="noStrike">
              <a:solidFill>
                <a:srgbClr val="000000"/>
              </a:solidFill>
              <a:latin typeface="Arial"/>
            </a:endParaRPr>
          </a:p>
        </p:txBody>
      </p:sp>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PLI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er turneringslederens plikt å korrigere feil i fremgangsmåten og sørge for en avvikling av spillet som ikke står i strid med loven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ING AV FEI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 å korrigere en feil i fremgangsmåten kan turneringsleder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ASTSETTE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Fastsette et justert resultat i samsvar med lov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STSETTE SÆRSKILT SPILLETI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Utsette eller forlange at en bestemt mappe blir spilt.</a:t>
            </a:r>
            <a:endParaRPr b="1" lang="en-US" sz="1800" spc="-1" strike="noStrike">
              <a:solidFill>
                <a:srgbClr val="000000"/>
              </a:solidFill>
              <a:latin typeface="Arial"/>
            </a:endParaRPr>
          </a:p>
        </p:txBody>
      </p:sp>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2. KORRIGERING AV FEIL FREMGANGSMÅTE</a:t>
            </a:r>
            <a:endParaRPr b="1" i="1" lang="en-US" sz="2800" spc="-1" strike="noStrike">
              <a:solidFill>
                <a:srgbClr val="808000"/>
              </a:solidFill>
              <a:latin typeface="Arial"/>
            </a:endParaRPr>
          </a:p>
        </p:txBody>
      </p:sp>
      <p:sp>
        <p:nvSpPr>
          <p:cNvPr id="5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 BEGÅTT AV TURNERINGSLEDER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har truffet en avgjørelse, som han selv eller en eventuell hovedturneringsleder** senere finner ukorrekt, og ingen form for korrigering vil gjøre det mulig å regne ut poengene for mappen på normal måte, skal TL fastsette poeng direkte, og i så henseende betrakte begge sider som ikke-feilend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3. ORIENTERE OM RETTEN TIL Å APPELLERE</a:t>
            </a:r>
            <a:endParaRPr b="1" i="1" lang="en-US" sz="2800" spc="-1" strike="noStrike">
              <a:solidFill>
                <a:srgbClr val="808000"/>
              </a:solidFill>
              <a:latin typeface="Arial"/>
            </a:endParaRPr>
          </a:p>
        </p:txBody>
      </p:sp>
      <p:sp>
        <p:nvSpPr>
          <p:cNvPr id="543" name="PlaceHolder 2"/>
          <p:cNvSpPr>
            <a:spLocks noGrp="1"/>
          </p:cNvSpPr>
          <p:nvPr>
            <p:ph/>
          </p:nvPr>
        </p:nvSpPr>
        <p:spPr>
          <a:xfrm>
            <a:off x="1072800" y="21337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Hvis turneringslederen mener at det vil være på sin plass å få overprøvet sin egen avgjørelse om et saksforhold, eller en anvendelse av skjønn </a:t>
            </a:r>
            <a:r>
              <a:rPr b="0" i="1" lang="nb-NO" sz="2000" spc="-1" strike="noStrike">
                <a:solidFill>
                  <a:srgbClr val="000000"/>
                </a:solidFill>
                <a:latin typeface="Arial"/>
              </a:rPr>
              <a:t>(som for eksempel når TL tildeler et justert resultat ifølge §12)</a:t>
            </a:r>
            <a:r>
              <a:rPr b="1" lang="nb-NO" sz="2000" spc="-1" strike="noStrike">
                <a:solidFill>
                  <a:srgbClr val="000000"/>
                </a:solidFill>
                <a:latin typeface="Arial"/>
              </a:rPr>
              <a:t>, skal TL gi vedkommende deltager orientering om retten til å appellere.</a:t>
            </a:r>
            <a:endParaRPr b="1" lang="en-US" sz="2000" spc="-1" strike="noStrike">
              <a:solidFill>
                <a:srgbClr val="000000"/>
              </a:solidFill>
              <a:latin typeface="Arial"/>
            </a:endParaRPr>
          </a:p>
        </p:txBody>
      </p:sp>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avgjøre et spørsmål   i forbindelse med lover eller bestemmelser, og det råder enighet om selve saksforholdet, skal TL dømme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er foreskrevet noen straff i lovene, og det ikke er noen grunn til at turneringslederen skal bruke sin myndighet til skjønnsmessig avgjørelse, gir TL spillerne beskjed om å fortsette meldingsforløpet eller spill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STRAFF IFØLGE LOVEN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t gitt tilfelle klart faller inn under en paragraf som fastsetter en bestemt straff for uregelmessigheten, tildeler turneringslederen denne straffen og påser at den blir oppfylt.</a:t>
            </a:r>
            <a:endParaRPr b="1" lang="en-US" sz="1800" spc="-1" strike="noStrike">
              <a:solidFill>
                <a:srgbClr val="000000"/>
              </a:solidFill>
              <a:latin typeface="Arial"/>
            </a:endParaRPr>
          </a:p>
        </p:txBody>
      </p:sp>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4. AVGJØRELSER I UOMTVISTEDE SAKSFORHOLD</a:t>
            </a:r>
            <a:endParaRPr b="1" i="1" lang="en-US" sz="2800" spc="-1" strike="noStrike">
              <a:solidFill>
                <a:srgbClr val="808000"/>
              </a:solidFill>
              <a:latin typeface="Arial"/>
            </a:endParaRPr>
          </a:p>
        </p:txBody>
      </p:sp>
      <p:sp>
        <p:nvSpPr>
          <p:cNvPr id="5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89000"/>
          </a:bodyPr>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PILL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en spiller et valg mellom flere former for straff, forklarer turneringslederen valgmulighetene og påser at én bestemt straff blir valgt og oppfylt.</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TURNERINGSLEDEREN HAR FLERE VALGMULIGHETER</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gitt paragraf gir turneringslederen et valg mellom å ilegge en bestemt straff eller å tildele et justert resultat, prøver TL å finne frem til et rettferdig resultat og dømmer, der hvor det er tvil, i den ikke-feilende sides favør.</a:t>
            </a:r>
            <a:endParaRPr b="1" lang="en-US" sz="1800" spc="-1" strike="noStrike">
              <a:solidFill>
                <a:srgbClr val="000000"/>
              </a:solidFill>
              <a:latin typeface="Arial"/>
            </a:endParaRPr>
          </a:p>
          <a:p>
            <a:pPr marL="254160" indent="-254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SKJØNNSMESSIG STRAFF</a:t>
            </a:r>
            <a:endParaRPr b="1" lang="en-US" sz="2400" spc="-1" strike="noStrike">
              <a:solidFill>
                <a:srgbClr val="000000"/>
              </a:solidFill>
              <a:latin typeface="Arial"/>
            </a:endParaRPr>
          </a:p>
          <a:p>
            <a:pPr lvl="1" marL="610200" indent="-2034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800" spc="-1" strike="noStrike">
              <a:solidFill>
                <a:srgbClr val="000000"/>
              </a:solidFill>
              <a:latin typeface="Arial"/>
            </a:endParaRPr>
          </a:p>
        </p:txBody>
      </p:sp>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5 AVGJØRELSER I OMTVISTEDE SAKSFORHOLD</a:t>
            </a:r>
            <a:endParaRPr b="1" i="1" lang="en-US" sz="2800" spc="-1" strike="noStrike">
              <a:solidFill>
                <a:srgbClr val="808000"/>
              </a:solidFill>
              <a:latin typeface="Arial"/>
            </a:endParaRPr>
          </a:p>
        </p:txBody>
      </p:sp>
      <p:sp>
        <p:nvSpPr>
          <p:cNvPr id="5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turneringslederen blir tilkalt for å ta en avgjørelse i et spørsmål i forbindelse med lover eller bestemmelser, og det ikke er enighet om selve saksforholdet, skal TL gå frem på følgende måt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VURDER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er overbevist om at selve saksforholdet er brakt på det rene, skal TL fatte en avgjørelse som beskrevet i §8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SAKSFORHOLDET IKKE ER KLARLAG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ikke er i stand til å bringe saksforholdet på det rene til sin fulle tilfredshet, skal TL fatte en avgjørelse som gjør det mulig å fortsette spillet, og gjøre spillerne oppmerksom på at de har rett til å appellere.</a:t>
            </a:r>
            <a:endParaRPr b="1"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 KORTSTOKKEN - RANGERING AV KORT OG FARGER</a:t>
            </a:r>
            <a:endParaRPr b="1" i="1" lang="en-US" sz="2800" spc="-1" strike="noStrike">
              <a:solidFill>
                <a:srgbClr val="808000"/>
              </a:solidFill>
              <a:latin typeface="Arial"/>
            </a:endParaRPr>
          </a:p>
        </p:txBody>
      </p:sp>
      <p:sp>
        <p:nvSpPr>
          <p:cNvPr id="101" name="PlaceHolder 2"/>
          <p:cNvSpPr>
            <a:spLocks noGrp="1"/>
          </p:cNvSpPr>
          <p:nvPr>
            <p:ph/>
          </p:nvPr>
        </p:nvSpPr>
        <p:spPr>
          <a:xfrm>
            <a:off x="990720" y="2209320"/>
            <a:ext cx="7759440" cy="4038840"/>
          </a:xfrm>
          <a:prstGeom prst="rect">
            <a:avLst/>
          </a:prstGeom>
          <a:noFill/>
          <a:ln w="0">
            <a:noFill/>
          </a:ln>
        </p:spPr>
        <p:txBody>
          <a:bodyPr lIns="90360" rIns="90360" tIns="44280" bIns="44280" anchor="t">
            <a:normAutofit/>
          </a:bodyPr>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Bridge spilles med en kortstokk som     inneholder 52 kort, 13 i hver av de fire farger. </a:t>
            </a:r>
            <a:endParaRPr b="1" lang="en-US" sz="2400" spc="-1" strike="noStrike">
              <a:solidFill>
                <a:srgbClr val="000000"/>
              </a:solidFill>
              <a:latin typeface="Arial"/>
            </a:endParaRPr>
          </a:p>
          <a:p>
            <a:pPr lvl="1" marL="68580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Fargene rangeres nedover i følgende rekkefølge: </a:t>
            </a:r>
            <a:endParaRPr b="1" lang="en-US" sz="20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i="1" lang="nb-NO" sz="2000" spc="-1" strike="noStrike">
                <a:solidFill>
                  <a:srgbClr val="000000"/>
                </a:solidFill>
                <a:latin typeface="Arial"/>
              </a:rPr>
              <a:t> </a:t>
            </a:r>
            <a:r>
              <a:rPr b="1" i="1" lang="nb-NO" sz="2000" spc="-1" strike="noStrike">
                <a:solidFill>
                  <a:srgbClr val="000000"/>
                </a:solidFill>
                <a:latin typeface="Arial"/>
              </a:rPr>
              <a:t>Spar ( </a:t>
            </a:r>
            <a:r>
              <a:rPr b="0" lang="nb-NO" sz="1800" spc="-1" strike="noStrike">
                <a:solidFill>
                  <a:srgbClr val="000000"/>
                </a:solidFill>
                <a:latin typeface="Symbol"/>
                <a:ea typeface="Symbol"/>
              </a:rPr>
              <a:t></a:t>
            </a:r>
            <a:r>
              <a:rPr b="1" i="1" lang="nb-NO" sz="2000" spc="-1" strike="noStrike">
                <a:solidFill>
                  <a:srgbClr val="000000"/>
                </a:solidFill>
                <a:latin typeface="Arial"/>
              </a:rPr>
              <a:t> ), hjerter ( </a:t>
            </a:r>
            <a:r>
              <a:rPr b="0" lang="nb-NO" sz="1800" spc="-1" strike="noStrike">
                <a:solidFill>
                  <a:srgbClr val="0033cc"/>
                </a:solidFill>
                <a:latin typeface="Symbol"/>
                <a:ea typeface="Symbol"/>
              </a:rPr>
              <a:t></a:t>
            </a:r>
            <a:r>
              <a:rPr b="0" lang="nb-NO" sz="1800" spc="-1" strike="noStrike">
                <a:solidFill>
                  <a:srgbClr val="000000"/>
                </a:solidFill>
                <a:latin typeface="Symbol"/>
                <a:ea typeface="Symbol"/>
              </a:rPr>
              <a:t></a:t>
            </a:r>
            <a:r>
              <a:rPr b="1" i="1" lang="nb-NO" sz="2000" spc="-1" strike="noStrike">
                <a:solidFill>
                  <a:srgbClr val="000000"/>
                </a:solidFill>
                <a:latin typeface="Arial"/>
              </a:rPr>
              <a:t>), ruter ( </a:t>
            </a:r>
            <a:r>
              <a:rPr b="0" lang="nb-NO" sz="1800" spc="-1" strike="noStrike">
                <a:solidFill>
                  <a:srgbClr val="0033cc"/>
                </a:solidFill>
                <a:latin typeface="Symbol"/>
                <a:ea typeface="Symbol"/>
              </a:rPr>
              <a:t></a:t>
            </a:r>
            <a:r>
              <a:rPr b="1" i="1" lang="nb-NO" sz="2000" spc="-1" strike="noStrike">
                <a:solidFill>
                  <a:srgbClr val="000000"/>
                </a:solidFill>
                <a:latin typeface="Arial"/>
              </a:rPr>
              <a:t> ), kløver ( </a:t>
            </a:r>
            <a:r>
              <a:rPr b="0" lang="nb-NO" sz="1800" spc="-1" strike="noStrike">
                <a:solidFill>
                  <a:srgbClr val="000000"/>
                </a:solidFill>
                <a:latin typeface="Symbol"/>
                <a:ea typeface="Symbol"/>
              </a:rPr>
              <a:t></a:t>
            </a:r>
            <a:r>
              <a:rPr b="1" i="1" lang="nb-NO" sz="2000" spc="-1" strike="noStrike">
                <a:solidFill>
                  <a:srgbClr val="000000"/>
                </a:solidFill>
                <a:latin typeface="Arial"/>
              </a:rPr>
              <a:t> ).</a:t>
            </a:r>
            <a:r>
              <a:rPr b="1" i="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000" spc="-1" strike="noStrike">
                <a:solidFill>
                  <a:srgbClr val="000000"/>
                </a:solidFill>
                <a:latin typeface="Arial"/>
              </a:rPr>
              <a:t> </a:t>
            </a:r>
            <a:r>
              <a:rPr b="1" lang="nb-NO" sz="2000" spc="-1" strike="noStrike">
                <a:solidFill>
                  <a:srgbClr val="000000"/>
                </a:solidFill>
                <a:latin typeface="Arial"/>
              </a:rPr>
              <a:t>Kortene i hver farge rangeres nedover i følgende rekkefølge:</a:t>
            </a: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i="1" lang="nb-NO" sz="2000" spc="-1" strike="noStrike">
                <a:solidFill>
                  <a:srgbClr val="000000"/>
                </a:solidFill>
                <a:latin typeface="Arial"/>
              </a:rPr>
              <a:t>Ess, Konge, Dame, Knekt, 10, 9, 8, 7, 6, 5, 4, 3, 2.</a:t>
            </a:r>
            <a:endParaRPr b="1" lang="en-US" sz="2000" spc="-1" strike="noStrike">
              <a:solidFill>
                <a:srgbClr val="000000"/>
              </a:solidFill>
              <a:latin typeface="Arial"/>
            </a:endParaRPr>
          </a:p>
        </p:txBody>
      </p:sp>
    </p:spTree>
  </p:cSld>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IDDELSCORE VED IMP-BEREGN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velger å fastsette poeng direkte i form av 60% (se §84**) til en ikke-feilende deltager i en lagturnering, er dette 3 IMP.</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84E: Hvis det har skjedd en uregelmessighet som lovene ikke har fastsatt en bestemt straff for, tildeler turneringslederen et justert resultat dersom det finnes en rimelig mulighet for at den ikke-feilende side er påført skade, samtidig som TL gjør den feilende side oppmerksom på retten til å appellere.</a:t>
            </a:r>
            <a:endParaRPr b="1" lang="en-US" sz="1400" spc="-1" strike="noStrike">
              <a:solidFill>
                <a:srgbClr val="000000"/>
              </a:solidFill>
              <a:latin typeface="Arial"/>
            </a:endParaRPr>
          </a:p>
        </p:txBody>
      </p:sp>
    </p:spTree>
  </p:cSld>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RIGERTE SCORER SOM IKKE BALANSERER I KAMPER ETTER UTSLAGSMETOD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tildeler korrigerte scorer som ikke balanserer hverandre (se §12C**) i kamper etter utslagsmetoden, blir resultatet for hver deltager regnet ut særskilt for vedkommende spill. Deretter blir gjennomsnittet av de to resultatene tildelt begge deltagerne.</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Utdrag av §12C: Når turneringslederen fastsetter en korrigert score i stedet for den score som faktisk er oppnådd etter en uregelmessighet, er scoren for den ikke-feilende side den gunstigste score som ville vært rimelig dersom uregelmessigheten ikke hadde skjedd - og for den feilende side den mest ugunstige som i det hele tatt ville være sannsynlig. Scoren som tildeles de to sidene, behøver ikke balansere hverandre.</a:t>
            </a:r>
            <a:endParaRPr b="1" lang="en-US" sz="1400" spc="-1" strike="noStrike">
              <a:solidFill>
                <a:srgbClr val="000000"/>
              </a:solidFill>
              <a:latin typeface="Arial"/>
            </a:endParaRPr>
          </a:p>
        </p:txBody>
      </p:sp>
    </p:spTree>
  </p:cSld>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6. JUSTERT RESULTAT I LAGTURNERINGER</a:t>
            </a:r>
            <a:endParaRPr b="1" i="1" lang="en-US" sz="2800" spc="-1" strike="noStrike">
              <a:solidFill>
                <a:srgbClr val="808000"/>
              </a:solidFill>
              <a:latin typeface="Arial"/>
            </a:endParaRPr>
          </a:p>
        </p:txBody>
      </p:sp>
      <p:sp>
        <p:nvSpPr>
          <p:cNvPr id="5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KIFTING AV SPILL</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ikke anvende sin myndighet til å forlange omgiv av et bestemt spill ifølge §6 når resultatet av kampen, uten dette spillet, kan være kjent for deltagerne. I stedet tildeles et justert resultat.</a:t>
            </a:r>
            <a:endParaRPr b="1" lang="en-US" sz="1800" spc="-1" strike="noStrike">
              <a:solidFill>
                <a:srgbClr val="000000"/>
              </a:solidFill>
              <a:latin typeface="Arial"/>
            </a:endParaRPr>
          </a:p>
        </p:txBody>
      </p:sp>
    </p:spTree>
  </p:cSld>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7. FEILSORTERT MAPPE</a:t>
            </a:r>
            <a:endParaRPr b="1" i="1" lang="en-US" sz="2800" spc="-1" strike="noStrike">
              <a:solidFill>
                <a:srgbClr val="808000"/>
              </a:solidFill>
              <a:latin typeface="Arial"/>
            </a:endParaRPr>
          </a:p>
        </p:txBody>
      </p:sp>
      <p:sp>
        <p:nvSpPr>
          <p:cNvPr id="5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FINISJON</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appe betraktes som "feilsortert" hvis turneringslederen finnet at ett eller flere kort er lagt på feil plass i mappen, slik at deltagerne, hvis scorer skal sammenlignes direkte, ikke har spilt spillet i nøyaktig samme form.</a:t>
            </a:r>
            <a:endParaRPr b="1" lang="en-US" sz="18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REGNING AV FEILSORTERT MAPPE</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urneringslederen regner ut poengene for en feilsortert mappe, bringes det på det rene så langt som det er mulig hvilke scorer som er gjort på spillets korrekte form, og hvilke på den forandrede form. På dette grunnlag deler TL scorene i to grupper, og regner ut hver gruppe for seg i samsvar med bestemmelsene som er gitt av den arrangerende organisasjon**.</a:t>
            </a:r>
            <a:endParaRPr b="1" lang="en-US" sz="1800" spc="-1" strike="noStrike">
              <a:solidFill>
                <a:srgbClr val="000000"/>
              </a:solidFill>
              <a:latin typeface="Arial"/>
            </a:endParaRPr>
          </a:p>
          <a:p>
            <a:pPr lvl="1" marL="671760" indent="-22392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Hvis et spill av en eller annen grunn må regnes ut i to eller flere grupper (f.eks. en feildublett) skal "toppen" i hver gruppe aldri være mindre enn 60% av høyest oppnåelige poeng dersom spillet var regnet i én gruppe.</a:t>
            </a:r>
            <a:endParaRPr b="1" lang="en-US" sz="1400" spc="-1" strike="noStrike">
              <a:solidFill>
                <a:srgbClr val="000000"/>
              </a:solidFill>
              <a:latin typeface="Arial"/>
            </a:endParaRPr>
          </a:p>
        </p:txBody>
      </p:sp>
    </p:spTree>
  </p:cSld>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8. TILDELING AV ERSTATNINGSPOENG</a:t>
            </a:r>
            <a:endParaRPr b="1" i="1" lang="en-US" sz="2800" spc="-1" strike="noStrike">
              <a:solidFill>
                <a:srgbClr val="808000"/>
              </a:solidFill>
              <a:latin typeface="Arial"/>
            </a:endParaRPr>
          </a:p>
        </p:txBody>
      </p:sp>
      <p:sp>
        <p:nvSpPr>
          <p:cNvPr id="5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Når en ikke-feilende deltager i en par- eller singelturnering må godta en prosentvis tildeling av poeng uten selv å ha begått noen feil og uten å ha noen valgmulighet, skal en slik deltager tildeles minimum 60% av det totale antall poeng deltageren kunne ha oppnådd på dette spillet, eller en så høy prosentandel av poengene som deltageren oppnådde som faktisk resultat på de øvrige spillene i vedkommende omgang, dersom denne prosentandelen var høyere enn 60%.</a:t>
            </a:r>
            <a:endParaRPr b="1" lang="en-US" sz="2000" spc="-1" strike="noStrike">
              <a:solidFill>
                <a:srgbClr val="000000"/>
              </a:solidFill>
              <a:latin typeface="Arial"/>
            </a:endParaRPr>
          </a:p>
        </p:txBody>
      </p:sp>
    </p:spTree>
  </p:cSld>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9. STRAFFEBESTEMMELSER FOR SINGELTURNERINGER</a:t>
            </a:r>
            <a:endParaRPr b="1" i="1" lang="en-US" sz="2800" spc="-1" strike="noStrike">
              <a:solidFill>
                <a:srgbClr val="808000"/>
              </a:solidFill>
              <a:latin typeface="Arial"/>
            </a:endParaRPr>
          </a:p>
        </p:txBody>
      </p:sp>
      <p:sp>
        <p:nvSpPr>
          <p:cNvPr id="5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I singelturneringer skal turneringslederen håndheve både straffebestemmelsene som er gitt i disse lovene, og bestemmelsene om tildeling av justerte resultater, i samme utstrekning mot begge spillere på den feilende side, selv om bare én av dem skulle være ansvarlig for uregelmessigheten. Men når TL tildeler justert resultat, skal det ikke tildeles straffepoeng mot den feilendes makker, hvis denne etter Tls mening ikke har noe ansvar for lovbruddet.</a:t>
            </a:r>
            <a:endParaRPr b="1" lang="en-US" sz="2000" spc="-1" strike="noStrike">
              <a:solidFill>
                <a:srgbClr val="000000"/>
              </a:solidFill>
              <a:latin typeface="Arial"/>
            </a:endParaRPr>
          </a:p>
        </p:txBody>
      </p:sp>
    </p:spTree>
  </p:cSld>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tillegg til å gjennomføre straffebestemmelsene i disse lovene kan TL også tildele straff for enhver forseelse som unødig hindrer eller forsinker spillet, sjenerer andre deltagere, bryter mot korrekt fremgangsmåte, eller krever at det tildeles justert resultat ved et annet bord.</a:t>
            </a:r>
            <a:endParaRPr b="1" lang="en-US" sz="1800" spc="-1" strike="noStrike">
              <a:solidFill>
                <a:srgbClr val="000000"/>
              </a:solidFill>
              <a:latin typeface="Arial"/>
            </a:endParaRPr>
          </a:p>
          <a:p>
            <a:pPr marL="265680" indent="-265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EELSER SOM KAN BLI GJENSTAND FOR STRAFF</a:t>
            </a:r>
            <a:endParaRPr b="1" lang="en-US" sz="24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orseelser som kan bli gjort gjenstand for straff, omfatter følgende - men er ikke begrenset ti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MME FOR SENT</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ankommer etter den kunngjorte starttid.</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LANGSOMT SPILL</a:t>
            </a:r>
            <a:endParaRPr b="1" lang="en-US" sz="1800" spc="-1" strike="noStrike">
              <a:solidFill>
                <a:srgbClr val="000000"/>
              </a:solidFill>
              <a:latin typeface="Arial"/>
            </a:endParaRPr>
          </a:p>
          <a:p>
            <a:pPr lvl="1" marL="637560" indent="-212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deltager spiller unødig langsomt.</a:t>
            </a:r>
            <a:endParaRPr b="1" lang="en-US" sz="1800" spc="-1" strike="noStrike">
              <a:solidFill>
                <a:srgbClr val="000000"/>
              </a:solidFill>
              <a:latin typeface="Arial"/>
            </a:endParaRPr>
          </a:p>
        </p:txBody>
      </p:sp>
    </p:spTree>
  </p:cSld>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HØYLYTT DISKU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diskusjon om meldinger, spill eller resultat av en mappe når diskusjonen kan høres ved et annet bor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SAMMENLIGNING AV SCOR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sammenligning av scorer med en annen deltager så lenge vedkommende omgang pågår**.</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Barometerturneringer og lignende turneringer er unntatt.</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5.</a:t>
            </a:r>
            <a:r>
              <a:rPr b="1" lang="nb-NO" sz="1800" spc="-1" strike="noStrike">
                <a:solidFill>
                  <a:srgbClr val="000000"/>
                </a:solidFill>
                <a:latin typeface="Arial"/>
              </a:rPr>
              <a:t>	</a:t>
            </a:r>
            <a:r>
              <a:rPr b="1" lang="nb-NO" sz="1800" spc="-1" strike="noStrike">
                <a:solidFill>
                  <a:srgbClr val="000000"/>
                </a:solidFill>
                <a:latin typeface="Arial"/>
              </a:rPr>
              <a:t>BERØRING AV ANNEN SPILLERS KO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berøring eller behandling av kort som tilhører en annen spiller (§7).</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6.</a:t>
            </a:r>
            <a:r>
              <a:rPr b="1" lang="nb-NO" sz="1800" spc="-1" strike="noStrike">
                <a:solidFill>
                  <a:srgbClr val="000000"/>
                </a:solidFill>
                <a:latin typeface="Arial"/>
              </a:rPr>
              <a:t>	</a:t>
            </a:r>
            <a:r>
              <a:rPr b="1" lang="nb-NO" sz="1800" spc="-1" strike="noStrike">
                <a:solidFill>
                  <a:srgbClr val="000000"/>
                </a:solidFill>
                <a:latin typeface="Arial"/>
              </a:rPr>
              <a:t>LEGGE KORTENE FEIL I MAPP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tt eller flere kort plasseres i feil lomme på mappen.</a:t>
            </a:r>
            <a:endParaRPr b="1" lang="en-US" sz="1800" spc="-1" strike="noStrike">
              <a:solidFill>
                <a:srgbClr val="000000"/>
              </a:solidFill>
              <a:latin typeface="Arial"/>
            </a:endParaRPr>
          </a:p>
        </p:txBody>
      </p:sp>
    </p:spTree>
  </p:cSld>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0. DISIPLINÆRSTRAFF</a:t>
            </a:r>
            <a:endParaRPr b="1" i="1" lang="en-US" sz="2800" spc="-1" strike="noStrike">
              <a:solidFill>
                <a:srgbClr val="808000"/>
              </a:solidFill>
              <a:latin typeface="Arial"/>
            </a:endParaRPr>
          </a:p>
        </p:txBody>
      </p:sp>
      <p:sp>
        <p:nvSpPr>
          <p:cNvPr id="56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7.</a:t>
            </a:r>
            <a:r>
              <a:rPr b="1" lang="nb-NO" sz="1800" spc="-1" strike="noStrike">
                <a:solidFill>
                  <a:srgbClr val="000000"/>
                </a:solidFill>
                <a:latin typeface="Arial"/>
              </a:rPr>
              <a:t>	</a:t>
            </a:r>
            <a:r>
              <a:rPr b="1" lang="nb-NO" sz="1800" spc="-1" strike="noStrike">
                <a:solidFill>
                  <a:srgbClr val="000000"/>
                </a:solidFill>
                <a:latin typeface="Arial"/>
              </a:rPr>
              <a:t>FEIL I FREMGANGSMÅT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feil i fremgangsmåten </a:t>
            </a:r>
            <a:r>
              <a:rPr b="0" i="1" lang="nb-NO" sz="1800" spc="-1" strike="noStrike">
                <a:solidFill>
                  <a:srgbClr val="000000"/>
                </a:solidFill>
                <a:latin typeface="Arial"/>
              </a:rPr>
              <a:t>(som for eksempel unnlatelse av å telle kortene på hånden, spill av feil mappe osv.)</a:t>
            </a:r>
            <a:r>
              <a:rPr b="0" lang="nb-NO" sz="1800" spc="-1" strike="noStrike">
                <a:solidFill>
                  <a:srgbClr val="000000"/>
                </a:solidFill>
                <a:latin typeface="Arial"/>
              </a:rPr>
              <a:t> som medfører at noen av deltagerne får tildelt justert result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8.</a:t>
            </a:r>
            <a:r>
              <a:rPr b="1" lang="nb-NO" sz="1800" spc="-1" strike="noStrike">
                <a:solidFill>
                  <a:srgbClr val="000000"/>
                </a:solidFill>
                <a:latin typeface="Arial"/>
              </a:rPr>
              <a:t>	</a:t>
            </a:r>
            <a:r>
              <a:rPr b="1" lang="nb-NO" sz="1800" spc="-1" strike="noStrike">
                <a:solidFill>
                  <a:srgbClr val="000000"/>
                </a:solidFill>
                <a:latin typeface="Arial"/>
              </a:rPr>
              <a:t>UNNLATELSE AV Å FØYE SEG ETTER BESTEMMELSER OG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enhver unnlatelse av omgående å føye seg etter bestemmelsene for turneringen eller instrukser fra turneringslederen.</a:t>
            </a:r>
            <a:endParaRPr b="1" lang="en-US" sz="1800" spc="-1" strike="noStrike">
              <a:solidFill>
                <a:srgbClr val="000000"/>
              </a:solidFill>
              <a:latin typeface="Arial"/>
            </a:endParaRPr>
          </a:p>
        </p:txBody>
      </p:sp>
    </p:spTree>
  </p:cSld>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1. STRAFF ELLER UTELUKKELSE</a:t>
            </a:r>
            <a:endParaRPr b="1" i="1" lang="en-US" sz="2800" spc="-1" strike="noStrike">
              <a:solidFill>
                <a:srgbClr val="808000"/>
              </a:solidFill>
              <a:latin typeface="Arial"/>
            </a:endParaRPr>
          </a:p>
        </p:txBody>
      </p:sp>
      <p:sp>
        <p:nvSpPr>
          <p:cNvPr id="5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URNERINGSLEDERENS MYNDIGH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utførelsen av sine plikter har turneringslederen spesielle myndigheter når det gjelder å sørge for orden og disiplin, slik at TL kan tildele disiplinærstraff i form av straffepoeng, eller utelukke en deltager fra den pågående omgang eller deler av den </a:t>
            </a:r>
            <a:r>
              <a:rPr b="0" i="1" lang="nb-NO" sz="1800" spc="-1" strike="noStrike">
                <a:solidFill>
                  <a:srgbClr val="000000"/>
                </a:solidFill>
                <a:latin typeface="Arial"/>
              </a:rPr>
              <a:t>(TLs myndighet på dette punkt er inappellabel)</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TT TIL Å DISKVALIFIS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har særskilt myndighet til å diskvalifisere en deltager når det foreligger grunn til det. Diskvalifiseringen må godkjennes av en eventuell hovedturneringsleder** eller av den arrangerende organisasjo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 MAPPER</a:t>
            </a:r>
            <a:endParaRPr b="1" i="1" lang="en-US" sz="2800" spc="-1" strike="noStrike">
              <a:solidFill>
                <a:srgbClr val="808000"/>
              </a:solidFill>
              <a:latin typeface="Arial"/>
            </a:endParaRPr>
          </a:p>
        </p:txBody>
      </p:sp>
      <p:sp>
        <p:nvSpPr>
          <p:cNvPr id="1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   </a:t>
            </a:r>
            <a:r>
              <a:rPr b="1" lang="nb-NO" sz="2000" spc="-1" strike="noStrike">
                <a:solidFill>
                  <a:srgbClr val="000000"/>
                </a:solidFill>
                <a:latin typeface="Arial"/>
              </a:rPr>
              <a:t>Til hver giv som skal spilles i en omgang, brukes det en mappe som inneholder en kortstokk. Hver mappe er nummerert og har fire lommer med plass til de fire hendene som er merket Nord, Øst, Syd og Vest. Mappen er også merket med giver og soneforhold på følgende måte:</a:t>
            </a:r>
            <a:endParaRPr b="1" lang="en-US" sz="20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ord gir</a:t>
            </a:r>
            <a:r>
              <a:rPr b="1" lang="nb-NO" sz="1800" spc="-1" strike="noStrike">
                <a:solidFill>
                  <a:srgbClr val="000000"/>
                </a:solidFill>
                <a:latin typeface="Arial"/>
              </a:rPr>
              <a:t>	</a:t>
            </a:r>
            <a:r>
              <a:rPr b="1" lang="nb-NO" sz="1800" spc="-1" strike="noStrike">
                <a:solidFill>
                  <a:srgbClr val="000000"/>
                </a:solidFill>
                <a:latin typeface="Arial"/>
              </a:rPr>
              <a:t>1 - I</a:t>
            </a:r>
            <a:r>
              <a:rPr b="1" lang="nb-NO" sz="1800" spc="-1" strike="noStrike">
                <a:solidFill>
                  <a:srgbClr val="000000"/>
                </a:solidFill>
                <a:latin typeface="Arial"/>
              </a:rPr>
              <a:t>	</a:t>
            </a:r>
            <a:r>
              <a:rPr b="1" lang="nb-NO" sz="1800" spc="-1" strike="noStrike">
                <a:solidFill>
                  <a:srgbClr val="000000"/>
                </a:solidFill>
                <a:latin typeface="Arial"/>
              </a:rPr>
              <a:t>5 - NS</a:t>
            </a:r>
            <a:r>
              <a:rPr b="1" lang="nb-NO" sz="1800" spc="-1" strike="noStrike">
                <a:solidFill>
                  <a:srgbClr val="000000"/>
                </a:solidFill>
                <a:latin typeface="Arial"/>
              </a:rPr>
              <a:t>	</a:t>
            </a:r>
            <a:r>
              <a:rPr b="1" lang="nb-NO" sz="1800" spc="-1" strike="noStrike">
                <a:solidFill>
                  <a:srgbClr val="000000"/>
                </a:solidFill>
                <a:latin typeface="Arial"/>
              </a:rPr>
              <a:t>9 - ØV</a:t>
            </a:r>
            <a:r>
              <a:rPr b="1" lang="nb-NO" sz="1800" spc="-1" strike="noStrike">
                <a:solidFill>
                  <a:srgbClr val="000000"/>
                </a:solidFill>
                <a:latin typeface="Arial"/>
              </a:rPr>
              <a:t>	</a:t>
            </a:r>
            <a:r>
              <a:rPr b="1" lang="nb-NO" sz="1800" spc="-1" strike="noStrike">
                <a:solidFill>
                  <a:srgbClr val="000000"/>
                </a:solidFill>
                <a:latin typeface="Arial"/>
              </a:rPr>
              <a:t>13 - A</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Øst gir</a:t>
            </a:r>
            <a:r>
              <a:rPr b="1" lang="nb-NO" sz="1800" spc="-1" strike="noStrike">
                <a:solidFill>
                  <a:srgbClr val="000000"/>
                </a:solidFill>
                <a:latin typeface="Arial"/>
              </a:rPr>
              <a:t>	</a:t>
            </a:r>
            <a:r>
              <a:rPr b="1" lang="nb-NO" sz="1800" spc="-1" strike="noStrike">
                <a:solidFill>
                  <a:srgbClr val="000000"/>
                </a:solidFill>
                <a:latin typeface="Arial"/>
              </a:rPr>
              <a:t>2 - NS</a:t>
            </a:r>
            <a:r>
              <a:rPr b="1" lang="nb-NO" sz="1800" spc="-1" strike="noStrike">
                <a:solidFill>
                  <a:srgbClr val="000000"/>
                </a:solidFill>
                <a:latin typeface="Arial"/>
              </a:rPr>
              <a:t>	</a:t>
            </a:r>
            <a:r>
              <a:rPr b="1" lang="nb-NO" sz="1800" spc="-1" strike="noStrike">
                <a:solidFill>
                  <a:srgbClr val="000000"/>
                </a:solidFill>
                <a:latin typeface="Arial"/>
              </a:rPr>
              <a:t>6 - ØV</a:t>
            </a:r>
            <a:r>
              <a:rPr b="1" lang="nb-NO" sz="1800" spc="-1" strike="noStrike">
                <a:solidFill>
                  <a:srgbClr val="000000"/>
                </a:solidFill>
                <a:latin typeface="Arial"/>
              </a:rPr>
              <a:t>	</a:t>
            </a:r>
            <a:r>
              <a:rPr b="1" lang="nb-NO" sz="1800" spc="-1" strike="noStrike">
                <a:solidFill>
                  <a:srgbClr val="000000"/>
                </a:solidFill>
                <a:latin typeface="Arial"/>
              </a:rPr>
              <a:t>10 - A</a:t>
            </a:r>
            <a:r>
              <a:rPr b="1" lang="nb-NO" sz="1800" spc="-1" strike="noStrike">
                <a:solidFill>
                  <a:srgbClr val="000000"/>
                </a:solidFill>
                <a:latin typeface="Arial"/>
              </a:rPr>
              <a:t>	</a:t>
            </a:r>
            <a:r>
              <a:rPr b="1" lang="nb-NO" sz="1800" spc="-1" strike="noStrike">
                <a:solidFill>
                  <a:srgbClr val="000000"/>
                </a:solidFill>
                <a:latin typeface="Arial"/>
              </a:rPr>
              <a:t>14 - I</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yd gir</a:t>
            </a:r>
            <a:r>
              <a:rPr b="1" lang="nb-NO" sz="1800" spc="-1" strike="noStrike">
                <a:solidFill>
                  <a:srgbClr val="000000"/>
                </a:solidFill>
                <a:latin typeface="Arial"/>
              </a:rPr>
              <a:t>	</a:t>
            </a:r>
            <a:r>
              <a:rPr b="1" lang="nb-NO" sz="1800" spc="-1" strike="noStrike">
                <a:solidFill>
                  <a:srgbClr val="000000"/>
                </a:solidFill>
                <a:latin typeface="Arial"/>
              </a:rPr>
              <a:t>3 - ØV</a:t>
            </a:r>
            <a:r>
              <a:rPr b="1" lang="nb-NO" sz="1800" spc="-1" strike="noStrike">
                <a:solidFill>
                  <a:srgbClr val="000000"/>
                </a:solidFill>
                <a:latin typeface="Arial"/>
              </a:rPr>
              <a:t>	</a:t>
            </a:r>
            <a:r>
              <a:rPr b="1" lang="nb-NO" sz="1800" spc="-1" strike="noStrike">
                <a:solidFill>
                  <a:srgbClr val="000000"/>
                </a:solidFill>
                <a:latin typeface="Arial"/>
              </a:rPr>
              <a:t>7 - A</a:t>
            </a:r>
            <a:r>
              <a:rPr b="1" lang="nb-NO" sz="1800" spc="-1" strike="noStrike">
                <a:solidFill>
                  <a:srgbClr val="000000"/>
                </a:solidFill>
                <a:latin typeface="Arial"/>
              </a:rPr>
              <a:t>	</a:t>
            </a:r>
            <a:r>
              <a:rPr b="1" lang="nb-NO" sz="1800" spc="-1" strike="noStrike">
                <a:solidFill>
                  <a:srgbClr val="000000"/>
                </a:solidFill>
                <a:latin typeface="Arial"/>
              </a:rPr>
              <a:t>11 - I</a:t>
            </a:r>
            <a:r>
              <a:rPr b="1" lang="nb-NO" sz="1800" spc="-1" strike="noStrike">
                <a:solidFill>
                  <a:srgbClr val="000000"/>
                </a:solidFill>
                <a:latin typeface="Arial"/>
              </a:rPr>
              <a:t>	</a:t>
            </a:r>
            <a:r>
              <a:rPr b="1" lang="nb-NO" sz="1800" spc="-1" strike="noStrike">
                <a:solidFill>
                  <a:srgbClr val="000000"/>
                </a:solidFill>
                <a:latin typeface="Arial"/>
              </a:rPr>
              <a:t>15 - N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Vest gir</a:t>
            </a:r>
            <a:r>
              <a:rPr b="1" lang="nb-NO" sz="1800" spc="-1" strike="noStrike">
                <a:solidFill>
                  <a:srgbClr val="000000"/>
                </a:solidFill>
                <a:latin typeface="Arial"/>
              </a:rPr>
              <a:t>	</a:t>
            </a:r>
            <a:r>
              <a:rPr b="1" lang="nb-NO" sz="1800" spc="-1" strike="noStrike">
                <a:solidFill>
                  <a:srgbClr val="000000"/>
                </a:solidFill>
                <a:latin typeface="Arial"/>
              </a:rPr>
              <a:t>4 - A</a:t>
            </a:r>
            <a:r>
              <a:rPr b="1" lang="nb-NO" sz="1800" spc="-1" strike="noStrike">
                <a:solidFill>
                  <a:srgbClr val="000000"/>
                </a:solidFill>
                <a:latin typeface="Arial"/>
              </a:rPr>
              <a:t>	</a:t>
            </a:r>
            <a:r>
              <a:rPr b="1" lang="nb-NO" sz="1800" spc="-1" strike="noStrike">
                <a:solidFill>
                  <a:srgbClr val="000000"/>
                </a:solidFill>
                <a:latin typeface="Arial"/>
              </a:rPr>
              <a:t>8 - I</a:t>
            </a:r>
            <a:r>
              <a:rPr b="1" lang="nb-NO" sz="1800" spc="-1" strike="noStrike">
                <a:solidFill>
                  <a:srgbClr val="000000"/>
                </a:solidFill>
                <a:latin typeface="Arial"/>
              </a:rPr>
              <a:t>	</a:t>
            </a:r>
            <a:r>
              <a:rPr b="1" lang="nb-NO" sz="1800" spc="-1" strike="noStrike">
                <a:solidFill>
                  <a:srgbClr val="000000"/>
                </a:solidFill>
                <a:latin typeface="Arial"/>
              </a:rPr>
              <a:t>12 - NS</a:t>
            </a:r>
            <a:r>
              <a:rPr b="1" lang="nb-NO" sz="1800" spc="-1" strike="noStrike">
                <a:solidFill>
                  <a:srgbClr val="000000"/>
                </a:solidFill>
                <a:latin typeface="Arial"/>
              </a:rPr>
              <a:t>	</a:t>
            </a:r>
            <a:r>
              <a:rPr b="1" lang="nb-NO" sz="1800" spc="-1" strike="noStrike">
                <a:solidFill>
                  <a:srgbClr val="000000"/>
                </a:solidFill>
                <a:latin typeface="Arial"/>
              </a:rPr>
              <a:t>16 - ØV</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appe 17-32  o.s.v er lik 1-16.</a:t>
            </a:r>
            <a:endParaRPr b="1" lang="en-US" sz="1800" spc="-1" strike="noStrike">
              <a:solidFill>
                <a:srgbClr val="000000"/>
              </a:solidFill>
              <a:latin typeface="Arial"/>
            </a:endParaRPr>
          </a:p>
        </p:txBody>
      </p:sp>
    </p:spTree>
  </p:cSld>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2. RETTEN TIL Å APPELLERE</a:t>
            </a:r>
            <a:endParaRPr b="1" i="1" lang="en-US" sz="2800" spc="-1" strike="noStrike">
              <a:solidFill>
                <a:srgbClr val="808000"/>
              </a:solidFill>
              <a:latin typeface="Arial"/>
            </a:endParaRPr>
          </a:p>
        </p:txBody>
      </p:sp>
      <p:sp>
        <p:nvSpPr>
          <p:cNvPr id="57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ELTAGERNES RETT</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deltager eller deltagerens lagkaptein kan appellere enhver avgjørelse turneringslederen har tatt ved vedkommendes bord.</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TIDSFRIST FOR APPELL</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appell på en avgjørelse av turneringslederen må gjøres innen den tidsfrist som er fastsatt ifølge §79C**.</a:t>
            </a:r>
            <a:endParaRPr b="1" lang="en-US" sz="1800" spc="-1" strike="noStrike">
              <a:solidFill>
                <a:srgbClr val="000000"/>
              </a:solidFill>
              <a:latin typeface="Arial"/>
            </a:endParaRPr>
          </a:p>
          <a:p>
            <a:pPr lvl="1" marL="685800" indent="-228600">
              <a:lnSpc>
                <a:spcPct val="90000"/>
              </a:lnSpc>
              <a:spcBef>
                <a:spcPts val="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Tidsfristen er normalt 30 minutter dersom arrangøren ikke har bestemt noe annet.</a:t>
            </a:r>
            <a:endParaRPr b="1" lang="en-US" sz="1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HVORDAN APPELLEN ANMELDE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appeller skal gjøres gjennom turneringslederen.</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ENIGHET BLANT DEM SOM APPELLERER</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ppell vil ikke bli prøvet med mindre begge spillere i et par </a:t>
            </a:r>
            <a:r>
              <a:rPr b="0" i="1" lang="nb-NO" sz="1800" spc="-1" strike="noStrike">
                <a:solidFill>
                  <a:srgbClr val="000000"/>
                </a:solidFill>
                <a:latin typeface="Arial"/>
              </a:rPr>
              <a:t>(unntatt i singelturneringer)</a:t>
            </a:r>
            <a:r>
              <a:rPr b="1" lang="nb-NO" sz="1800" spc="-1" strike="noStrike">
                <a:solidFill>
                  <a:srgbClr val="000000"/>
                </a:solidFill>
                <a:latin typeface="Arial"/>
              </a:rPr>
              <a:t>, eller kapteinen på et lag, er enige i appellen. En fraværende spiller skal betraktes som enig.</a:t>
            </a:r>
            <a:endParaRPr b="1" lang="en-US" sz="1800" spc="-1" strike="noStrike">
              <a:solidFill>
                <a:srgbClr val="000000"/>
              </a:solidFill>
              <a:latin typeface="Arial"/>
            </a:endParaRPr>
          </a:p>
        </p:txBody>
      </p:sp>
    </p:spTree>
  </p:cSld>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3"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fontScale="94000"/>
          </a:bodyPr>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HVIS DET IKKE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ikke fines noe appellutvalg </a:t>
            </a:r>
            <a:r>
              <a:rPr b="0" i="1" lang="nb-NO" sz="1800" spc="-1" strike="noStrike">
                <a:solidFill>
                  <a:srgbClr val="000000"/>
                </a:solidFill>
                <a:latin typeface="Arial"/>
              </a:rPr>
              <a:t>(eller turneringsutvalg)</a:t>
            </a:r>
            <a:r>
              <a:rPr b="1" lang="nb-NO" sz="1800" spc="-1" strike="noStrike">
                <a:solidFill>
                  <a:srgbClr val="000000"/>
                </a:solidFill>
                <a:latin typeface="Arial"/>
              </a:rPr>
              <a:t>, skal en eventuell hovedturneringsleder** behandle og ta avgjørelse om alle appeller. Det samme gjelder dersom appellutvalget ikke kan komme sammen uten at avviklingen av turneringen forstyrres.</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a:p>
            <a:pPr marL="268560" indent="-2685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DET FINNES APPELLUTVALG</a:t>
            </a:r>
            <a:endParaRPr b="1" lang="en-US" sz="24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finnes appellutvalg, gjelder følgende fremgangsmåt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PPELLEN GJELDER LOVANVENDELSE</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ovedturneringsleder** skal behandle og ta avgjørelse om de deler av en appell som dreier seg utelukkende om lover eller reglement. hans avgjørelse kan appelleres til appellutvalget.</a:t>
            </a:r>
            <a:endParaRPr b="1" lang="en-US" sz="1800" spc="-1" strike="noStrike">
              <a:solidFill>
                <a:srgbClr val="000000"/>
              </a:solidFill>
              <a:latin typeface="Arial"/>
            </a:endParaRPr>
          </a:p>
          <a:p>
            <a:pPr lvl="1" marL="644400" indent="-21456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større turneringer hvor det er flere turneringsledere, skal én turneringsleder være hovedansvarlig, mens de andre er hans assistenter.</a:t>
            </a:r>
            <a:endParaRPr b="1" lang="en-US" sz="1400" spc="-1" strike="noStrike">
              <a:solidFill>
                <a:srgbClr val="000000"/>
              </a:solidFill>
              <a:latin typeface="Arial"/>
            </a:endParaRPr>
          </a:p>
        </p:txBody>
      </p:sp>
    </p:spTree>
  </p:cSld>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3. FREMGANGSMÅTEN VED APPELLER</a:t>
            </a:r>
            <a:endParaRPr b="1" i="1" lang="en-US" sz="2800" spc="-1" strike="noStrike">
              <a:solidFill>
                <a:srgbClr val="808000"/>
              </a:solidFill>
              <a:latin typeface="Arial"/>
            </a:endParaRPr>
          </a:p>
        </p:txBody>
      </p:sp>
      <p:sp>
        <p:nvSpPr>
          <p:cNvPr id="57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fontScale="96000"/>
          </a:bodyPr>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ANDRE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 skal henvise alle andre appeller til appellutvalget for avgjørelse d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PRØVING AV APPELLER</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prøving av appeller kan appellutvalget anvende all den myndighet som ifølge disse lovene er tillagt turneringslederen, med unntak av at appellutvalget ikke kan tilsidesette TLs avgjørelse i spørsmål som gjelder lover eller reglement, eller når det gjelder TLs myndighet til å ilegge disiplinærstraff. Utvalget kan anbefale TL å omgjøre sin avgjørelse.</a:t>
            </a:r>
            <a:endParaRPr b="1" lang="en-US" sz="1800" spc="-1" strike="noStrike">
              <a:solidFill>
                <a:srgbClr val="000000"/>
              </a:solidFill>
              <a:latin typeface="Arial"/>
            </a:endParaRPr>
          </a:p>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PPELL TIL NORSK BRIDGEFORBUND</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de ovennevnte metoder er uttømt, kan det gjøres en ytterligere appell til Norsk Bridgeforbund**.</a:t>
            </a:r>
            <a:endParaRPr b="1" lang="en-US" sz="1800" spc="-1" strike="noStrike">
              <a:solidFill>
                <a:srgbClr val="000000"/>
              </a:solidFill>
              <a:latin typeface="Arial"/>
            </a:endParaRPr>
          </a:p>
          <a:p>
            <a:pPr lvl="1" marL="658080" indent="-21924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I Norsk Bridgeforbund er det Lovutvalget (LU) som behandler slike appeller. Appeller til LU skal anmeldes gjennom turneringslederen.</a:t>
            </a:r>
            <a:endParaRPr b="1" lang="en-US" sz="1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3. BORDOPPSTILLING</a:t>
            </a:r>
            <a:endParaRPr b="1" i="1" lang="en-US" sz="2800" spc="-1" strike="noStrike">
              <a:solidFill>
                <a:srgbClr val="808000"/>
              </a:solidFill>
              <a:latin typeface="Arial"/>
            </a:endParaRPr>
          </a:p>
        </p:txBody>
      </p:sp>
      <p:sp>
        <p:nvSpPr>
          <p:cNvPr id="105" name="PlaceHolder 2"/>
          <p:cNvSpPr>
            <a:spLocks noGrp="1"/>
          </p:cNvSpPr>
          <p:nvPr>
            <p:ph/>
          </p:nvPr>
        </p:nvSpPr>
        <p:spPr>
          <a:xfrm>
            <a:off x="1072800" y="2209680"/>
            <a:ext cx="775980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Ved hvert bord spiller det fire spillere, og bordene er nummerert i en rekkefølge som er fastsatt av turneringslederen.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Hvor Nord er, fastsettes av TL. </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De andre kompassretningene inntar sin normale plassering i forhold til Nord.</a:t>
            </a:r>
            <a:endParaRPr b="1"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4. MAKKERE</a:t>
            </a:r>
            <a:endParaRPr b="1" i="1" lang="en-US" sz="2800" spc="-1" strike="noStrike">
              <a:solidFill>
                <a:srgbClr val="808000"/>
              </a:solidFill>
              <a:latin typeface="Arial"/>
            </a:endParaRPr>
          </a:p>
        </p:txBody>
      </p:sp>
      <p:sp>
        <p:nvSpPr>
          <p:cNvPr id="107" name="PlaceHolder 2"/>
          <p:cNvSpPr>
            <a:spLocks noGrp="1"/>
          </p:cNvSpPr>
          <p:nvPr>
            <p:ph/>
          </p:nvPr>
        </p:nvSpPr>
        <p:spPr>
          <a:xfrm>
            <a:off x="577440" y="2057400"/>
            <a:ext cx="8667720" cy="4114800"/>
          </a:xfrm>
          <a:prstGeom prst="rect">
            <a:avLst/>
          </a:prstGeom>
          <a:noFill/>
          <a:ln w="0">
            <a:noFill/>
          </a:ln>
        </p:spPr>
        <p:txBody>
          <a:bodyPr lIns="90360" rIns="90360" tIns="44280" bIns="44280" anchor="t">
            <a:normAutofit/>
          </a:bodyPr>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 </a:t>
            </a:r>
            <a:r>
              <a:rPr b="1" lang="nb-NO" sz="2400" spc="-1" strike="noStrike">
                <a:solidFill>
                  <a:srgbClr val="000000"/>
                </a:solidFill>
                <a:latin typeface="Arial"/>
              </a:rPr>
              <a:t>  </a:t>
            </a:r>
            <a:r>
              <a:rPr b="1" lang="nb-NO" sz="2400" spc="-1" strike="noStrike">
                <a:solidFill>
                  <a:srgbClr val="000000"/>
                </a:solidFill>
                <a:latin typeface="Arial"/>
              </a:rPr>
              <a:t>De fire spillerne ved hvert  bord utgjør to makkerpar eller sider, Nord-Syd mot Øst-Vest. I par- eller lagturneringer er deltagerne påmeldt som par eller lag, og beholder den samme parsammensetning gjennom en hel omgang </a:t>
            </a:r>
            <a:r>
              <a:rPr b="1" i="1" lang="nb-NO" sz="2400" spc="-1" strike="noStrike">
                <a:solidFill>
                  <a:srgbClr val="000000"/>
                </a:solidFill>
                <a:latin typeface="Arial"/>
              </a:rPr>
              <a:t>(unntatt ved utskiftinger som er godkjent av turneringslederen)</a:t>
            </a:r>
            <a:r>
              <a:rPr b="1" lang="nb-NO" sz="2400" spc="-1" strike="noStrike">
                <a:solidFill>
                  <a:srgbClr val="000000"/>
                </a:solidFill>
                <a:latin typeface="Arial"/>
              </a:rPr>
              <a:t>.</a:t>
            </a: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   </a:t>
            </a:r>
            <a:r>
              <a:rPr b="1" lang="nb-NO" sz="2400" spc="-1" strike="noStrike">
                <a:solidFill>
                  <a:srgbClr val="000000"/>
                </a:solidFill>
                <a:latin typeface="Arial"/>
              </a:rPr>
              <a:t>I singelturneringer er hver av spillerne påmeldt enkeltvis, og skifter makker i løpet av omgangen.</a:t>
            </a:r>
            <a:endParaRPr b="1"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5. TILDELING AV PLASS</a:t>
            </a:r>
            <a:endParaRPr b="1" i="1" lang="en-US" sz="2800" spc="-1" strike="noStrike">
              <a:solidFill>
                <a:srgbClr val="808000"/>
              </a:solidFill>
              <a:latin typeface="Arial"/>
            </a:endParaRPr>
          </a:p>
        </p:txBody>
      </p:sp>
      <p:sp>
        <p:nvSpPr>
          <p:cNvPr id="109" name="PlaceHolder 2"/>
          <p:cNvSpPr>
            <a:spLocks noGrp="1"/>
          </p:cNvSpPr>
          <p:nvPr>
            <p:ph/>
          </p:nvPr>
        </p:nvSpPr>
        <p:spPr>
          <a:xfrm>
            <a:off x="577440" y="1980720"/>
            <a:ext cx="8667720" cy="43434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ARTPOSI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tildeler hver deltager </a:t>
            </a:r>
            <a:r>
              <a:rPr b="0" i="1" lang="nb-NO" sz="1800" spc="-1" strike="noStrike">
                <a:solidFill>
                  <a:srgbClr val="000000"/>
                </a:solidFill>
                <a:latin typeface="Arial"/>
              </a:rPr>
              <a:t>(singeldeltager, par eller lag) </a:t>
            </a:r>
            <a:r>
              <a:rPr b="1" lang="nb-NO" sz="1800" spc="-1" strike="noStrike">
                <a:solidFill>
                  <a:srgbClr val="000000"/>
                </a:solidFill>
                <a:latin typeface="Arial"/>
              </a:rPr>
              <a:t>en startposisjon ved begynnelsen av omgangen. Hvert medlem av paret eller laget kan etter gjensidig overenskomst velge plass blant dem som er anvist, dersom de ikke får andre anvisninger. Når en spiller først har valgt retning, kan den ikke forandres </a:t>
            </a:r>
            <a:r>
              <a:rPr b="1" i="1" lang="nb-NO" sz="1800" spc="-1" strike="noStrike">
                <a:solidFill>
                  <a:srgbClr val="000000"/>
                </a:solidFill>
                <a:latin typeface="Arial"/>
              </a:rPr>
              <a:t>i løpet av en omgang</a:t>
            </a:r>
            <a:r>
              <a:rPr b="1" lang="nb-NO" sz="1800" spc="-1" strike="noStrike">
                <a:solidFill>
                  <a:srgbClr val="000000"/>
                </a:solidFill>
                <a:latin typeface="Arial"/>
              </a:rPr>
              <a:t> uten etter instruks eller godkjennelse fra T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ANDRING AV RETNING ELLER BOR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forandrer sin opprinnelige retning eller flytter til et annet bord i samsvar med turneringslederens instrukser. TL er ansvarlig for at instruksene blir klart og tydelig kunngjort, mens hver enkelt spiller er ansvarlig for å flytte til rett tid i samsvar med instruksen, og for å sitte på riktig plass etter hver forflytning.</a:t>
            </a:r>
            <a:endParaRPr b="1"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ler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signal som gjør motstanderne oppmerksom på at de kan ha behov for en forklaring.</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nevnelse</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Grand eller farge, avgitt i et bud.</a:t>
            </a:r>
            <a:endParaRPr b="1" lang="en-US" sz="1800" spc="-1" strike="noStrike">
              <a:solidFill>
                <a:srgbClr val="000000"/>
              </a:solidFill>
              <a:latin typeface="Arial"/>
            </a:endParaRPr>
          </a:p>
          <a:p>
            <a:pPr marL="280080" indent="-280080">
              <a:lnSpc>
                <a:spcPct val="95000"/>
              </a:lnSpc>
              <a:spcBef>
                <a:spcPts val="3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et</a:t>
            </a:r>
            <a:endParaRPr b="1" lang="en-US" sz="2400" spc="-1" strike="noStrike">
              <a:solidFill>
                <a:srgbClr val="000000"/>
              </a:solidFill>
              <a:latin typeface="Arial"/>
            </a:endParaRPr>
          </a:p>
          <a:p>
            <a:pPr lvl="1" marL="671760" indent="-223920">
              <a:lnSpc>
                <a:spcPct val="95000"/>
              </a:lnSpc>
              <a:spcBef>
                <a:spcPts val="24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t stikk som spilleførerens side mangler for å vinne kontrakten (se §77).</a:t>
            </a:r>
            <a:endParaRPr b="1"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a:t>
            </a:r>
            <a:endParaRPr b="1" i="1" lang="en-US" sz="2800" spc="-1" strike="noStrike">
              <a:solidFill>
                <a:srgbClr val="808000"/>
              </a:solidFill>
              <a:latin typeface="Arial"/>
            </a:endParaRPr>
          </a:p>
        </p:txBody>
      </p:sp>
      <p:sp>
        <p:nvSpPr>
          <p:cNvPr id="1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TOKK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Før spillet begynner, stokkes hver kortstokk grundig. Hvis en av motstanderne ber om det, tas det av.</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Kortene må gis med fremsiden ned, ett kort ad gangen med urviseren, i fire hender med tretten kort i hver. Deretter legges hver hånd med fremsiden ned i sin lomme i mappen (se §6E4). Anbefalt fremgangsmåte er at kortene gis med urvisere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BEGGE PAR REPRESENTE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stokkingen og given bør en spiller fra hver side være til stede, med mindre turneringslederen har gitt andre instrukser.</a:t>
            </a:r>
            <a:endParaRPr b="1"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3" name="PlaceHolder 2"/>
          <p:cNvSpPr>
            <a:spLocks noGrp="1"/>
          </p:cNvSpPr>
          <p:nvPr>
            <p:ph/>
          </p:nvPr>
        </p:nvSpPr>
        <p:spPr>
          <a:xfrm>
            <a:off x="577440" y="2057400"/>
            <a:ext cx="87505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D</a:t>
            </a:r>
            <a:r>
              <a:rPr b="1" lang="nb-NO" sz="2400" spc="-1" strike="noStrike">
                <a:solidFill>
                  <a:srgbClr val="000000"/>
                </a:solidFill>
                <a:latin typeface="Arial"/>
              </a:rPr>
              <a:t> NY STOKKING OG OMGIV</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TENE ER GITT UKORREKT ELLER FREMVIST</a:t>
            </a:r>
            <a:br>
              <a:rPr sz="1800"/>
            </a:br>
            <a:r>
              <a:rPr b="0" lang="nb-NO" sz="1800" spc="-1" strike="noStrike">
                <a:solidFill>
                  <a:srgbClr val="000000"/>
                </a:solidFill>
                <a:latin typeface="Arial"/>
              </a:rPr>
              <a:t>Det må stokkes og gis på nytt dersom det, før meldingsforløpet har begynt for begge sider, er på det rene at kortene er ukorrekt gitt (se §17A). Dersom en spiller kan ha sett fremsiden av en annens kort skal det også stokkes og gis på nyt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INGEN STOKKING ELLER INGEN GIV</a:t>
            </a:r>
            <a:br>
              <a:rPr sz="1800"/>
            </a:br>
            <a:r>
              <a:rPr b="0" lang="nb-NO" sz="1800" spc="-1" strike="noStrike">
                <a:solidFill>
                  <a:srgbClr val="000000"/>
                </a:solidFill>
                <a:latin typeface="Arial"/>
              </a:rPr>
              <a:t>Hvis kortene blir gitt fra en sortert kortstokk, uten å ha vært stokket, eller fra en giv som har vært spilt tidligere, kan ikke noe resultat av spillet bli stå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ETTER INSTRUKS FRA TURNERINGSLEDEREN</a:t>
            </a:r>
            <a:br>
              <a:rPr sz="1800"/>
            </a:br>
            <a:r>
              <a:rPr b="0" lang="nb-NO" sz="1800" spc="-1" strike="noStrike">
                <a:solidFill>
                  <a:srgbClr val="000000"/>
                </a:solidFill>
                <a:latin typeface="Arial"/>
              </a:rPr>
              <a:t>Det må foretas ny stokking og omgiv når TL krever det av en</a:t>
            </a:r>
            <a:r>
              <a:rPr b="0" lang="nb-NO" sz="1800" spc="-1" strike="noStrike">
                <a:solidFill>
                  <a:srgbClr val="000000"/>
                </a:solidFill>
                <a:latin typeface="CG Times"/>
              </a:rPr>
              <a:t> </a:t>
            </a:r>
            <a:r>
              <a:rPr b="0" lang="nb-NO" sz="1800" spc="-1" strike="noStrike">
                <a:solidFill>
                  <a:srgbClr val="000000"/>
                </a:solidFill>
                <a:latin typeface="Arial"/>
              </a:rPr>
              <a:t>grunn som er i overensstemmelse med lovene (men se §86C). Ved rundpass skal det ikke gis om (se §22A).</a:t>
            </a:r>
            <a:endParaRPr b="1"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5" name="PlaceHolder 2"/>
          <p:cNvSpPr>
            <a:spLocks noGrp="1"/>
          </p:cNvSpPr>
          <p:nvPr>
            <p:ph/>
          </p:nvPr>
        </p:nvSpPr>
        <p:spPr>
          <a:xfrm>
            <a:off x="743040" y="1981080"/>
            <a:ext cx="85024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E</a:t>
            </a:r>
            <a:r>
              <a:rPr b="1" lang="nb-NO" sz="2400" spc="-1" strike="noStrike">
                <a:solidFill>
                  <a:srgbClr val="000000"/>
                </a:solidFill>
                <a:latin typeface="Arial"/>
              </a:rPr>
              <a:t> TURNERINGSLEDER KAN VELGE HVORDAN DET SKAL STOKKES OG GIS</a:t>
            </a:r>
            <a:endParaRPr b="1" lang="en-US" sz="24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V SPILLERN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stokkes og gis ved hvert bord         umiddelbart før spillet begynner.</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V TURNERINGSLEDEREN</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selv stokke og gi kortene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AV ASSISTENTER ELLER HJELPERE</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la sine assistenter eller andre utpekte hjelpere foreta stokking og giv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4.</a:t>
            </a:r>
            <a:r>
              <a:rPr b="1" lang="nb-NO" sz="1800" spc="-1" strike="noStrike">
                <a:solidFill>
                  <a:srgbClr val="000000"/>
                </a:solidFill>
                <a:latin typeface="Arial"/>
              </a:rPr>
              <a:t>	</a:t>
            </a:r>
            <a:r>
              <a:rPr b="1" lang="nb-NO" sz="1800" spc="-1" strike="noStrike">
                <a:solidFill>
                  <a:srgbClr val="000000"/>
                </a:solidFill>
                <a:latin typeface="Arial"/>
              </a:rPr>
              <a:t>ANDRE METODER FOR Å GI, EVENTUELT PÅ FORHÅND</a:t>
            </a:r>
            <a:endParaRPr b="1" lang="en-US" sz="1800" spc="-1" strike="noStrike">
              <a:solidFill>
                <a:srgbClr val="000000"/>
              </a:solidFill>
              <a:latin typeface="Arial"/>
            </a:endParaRPr>
          </a:p>
          <a:p>
            <a:pPr lvl="1" marL="685800" indent="-228600">
              <a:lnSpc>
                <a:spcPct val="90000"/>
              </a:lnSpc>
              <a:spcBef>
                <a:spcPts val="675"/>
              </a:spcBef>
              <a:spcAft>
                <a:spcPts val="224"/>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kan bestemme at det skal gis på andre måter, eventuelt på forhånd.</a:t>
            </a:r>
            <a:endParaRPr b="1"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6. STOKKING OG GIV </a:t>
            </a:r>
            <a:endParaRPr b="1" i="1" lang="en-US" sz="2800" spc="-1" strike="noStrike">
              <a:solidFill>
                <a:srgbClr val="808000"/>
              </a:solidFill>
              <a:latin typeface="Arial"/>
            </a:endParaRPr>
          </a:p>
        </p:txBody>
      </p:sp>
      <p:sp>
        <p:nvSpPr>
          <p:cNvPr id="11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F</a:t>
            </a:r>
            <a:r>
              <a:rPr b="1" lang="nb-NO" sz="2400" spc="-1" strike="noStrike">
                <a:solidFill>
                  <a:srgbClr val="000000"/>
                </a:solidFill>
                <a:latin typeface="Arial"/>
              </a:rPr>
              <a:t> DUBLERING AV MAPP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forutsetningen for spillet krever det, kan det lages én eller flere dubletter av alle opprinnelige giver i samsvar med turneringslederens instrukser.</a:t>
            </a:r>
            <a:endParaRPr b="1"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a:t>
            </a:r>
            <a:endParaRPr b="1" i="1" lang="en-US" sz="2800" spc="-1" strike="noStrike">
              <a:solidFill>
                <a:srgbClr val="808000"/>
              </a:solidFill>
              <a:latin typeface="Arial"/>
            </a:endParaRPr>
          </a:p>
        </p:txBody>
      </p:sp>
      <p:sp>
        <p:nvSpPr>
          <p:cNvPr id="119" name="PlaceHolder 2"/>
          <p:cNvSpPr>
            <a:spLocks noGrp="1"/>
          </p:cNvSpPr>
          <p:nvPr>
            <p:ph/>
          </p:nvPr>
        </p:nvSpPr>
        <p:spPr>
          <a:xfrm>
            <a:off x="577800" y="1828800"/>
            <a:ext cx="8832960" cy="4572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LASSERING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mappe skal spilles, blir den plassert midt på bordet og ligger der til spillet er fullfør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KORTENE TAS UT AV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er spiller tar ut av mappen den hånd som svarer til denne spillerens retning.</a:t>
            </a:r>
            <a:endParaRPr b="1" lang="en-US" sz="18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KORTENE PÅ HÅNDEN TELLES FØR SPILLET</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Hver spiller skal telle sine kort med fremsiden ned for å forvisse seg om at antall kort er nøyaktig 13. Deretter må spilleren vurdere sine kort før noen melding avgis.</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KONTROLL AV SPILLERENS HÅND</a:t>
            </a:r>
            <a:endParaRPr b="1" lang="en-US" sz="1600" spc="-1" strike="noStrike">
              <a:solidFill>
                <a:srgbClr val="000000"/>
              </a:solidFill>
              <a:latin typeface="Arial"/>
            </a:endParaRPr>
          </a:p>
          <a:p>
            <a:pPr lvl="1" marL="685800" indent="-228600">
              <a:lnSpc>
                <a:spcPct val="90000"/>
              </a:lnSpc>
              <a:spcBef>
                <a:spcPts val="601"/>
              </a:spcBef>
              <a:spcAft>
                <a:spcPts val="201"/>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Under spille skal hver av spillerne føre kontroll med sine egne kort og ikke la dem bli blandet med kortene til andre spillere. Ingen av spillerne skal røre ved andre kort enn sine egne (men spilleføreren kan spille blindemanns kort i samsvar med §45) under eller etter spillet, unntatt med turneringslederens godkjennelse.</a:t>
            </a:r>
            <a:endParaRPr b="1" lang="en-US" sz="16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7. KONTROLL AV MAPPER OG KORT  forts.</a:t>
            </a:r>
            <a:endParaRPr b="1" i="1" lang="en-US" sz="2800" spc="-1" strike="noStrike">
              <a:solidFill>
                <a:srgbClr val="808000"/>
              </a:solidFill>
              <a:latin typeface="Arial"/>
            </a:endParaRPr>
          </a:p>
        </p:txBody>
      </p:sp>
      <p:sp>
        <p:nvSpPr>
          <p:cNvPr id="12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KORTENE LEGGES TILBAKE I MAPP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er av spillerne skal legge sine 13 opprinnelige kort tilbake i den lommen som svarer til sin kompassretning. Deretter skal ingen av hendene fjernes fra mappen med mindre en spiller fra hver side, eller turneringslederen, er til stede.</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ANSVAR FOR FREMGANGSMÅT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re som sitter i ro ved et bord i en hel omgang har hovedansvar for at det er korrekte spilleforhold ved bordet.</a:t>
            </a:r>
            <a:endParaRPr b="1"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33cc"/>
                </a:solidFill>
                <a:latin typeface="Arial"/>
              </a:rPr>
              <a:t>A</a:t>
            </a:r>
            <a:r>
              <a:rPr b="1" lang="nb-NO" sz="2400" spc="-1" strike="noStrike">
                <a:solidFill>
                  <a:srgbClr val="000000"/>
                </a:solidFill>
                <a:latin typeface="Arial"/>
              </a:rPr>
              <a:t> FLYTTING AV MAPPER OG SPILL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URNERINGSLEDERENS INSTRUKS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gir spillerne instrukser om den korrekte flytting av mapper og bevegelse av deltager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NSVARET FOR FLYTTING AV MAPP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hvert bord er Nord ansvarlig for å flytte mappene når de er ferdigspilt ved bordet og sørge for at de kommer til riktig bord før neste runde, med mindre TL har bestemt noe annet.</a:t>
            </a:r>
            <a:endParaRPr b="1"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VSLUTNING AV RUNDEN</a:t>
            </a:r>
            <a:br>
              <a:rPr sz="2400"/>
            </a:br>
            <a:br>
              <a:rPr sz="2400"/>
            </a:br>
            <a:r>
              <a:rPr b="1" lang="nb-NO" sz="1800" spc="-1" strike="noStrike">
                <a:solidFill>
                  <a:srgbClr val="000000"/>
                </a:solidFill>
                <a:latin typeface="Arial"/>
              </a:rPr>
              <a:t>I alminnelighet avsluttes en runde når TL gir signal om at neste runde starter. Men hvis et bord ikke har avsluttet spillet til denne tid, fortsetter runden ved dette bordet helt til spillet er fullført og spillerne har forflyttet seg  ** .</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nb-NO" sz="1600" spc="-1" strike="noStrike">
                <a:solidFill>
                  <a:srgbClr val="000000"/>
                </a:solidFill>
                <a:latin typeface="CG Times"/>
              </a:rPr>
              <a:t>** </a:t>
            </a:r>
            <a:r>
              <a:rPr b="0" lang="nb-NO" sz="1800" spc="-1" strike="noStrike">
                <a:solidFill>
                  <a:srgbClr val="000000"/>
                </a:solidFill>
                <a:latin typeface="CG Times"/>
              </a:rPr>
              <a:t>Hvis spillet ved ett eller flere bord går svært langsomt, og man innen en frist som TL bestemmer, ikke har påbegynt meldingsforløpet på en eller flere mapper, kan TL bestemme at mappen(e) ikke blir spilt. Begge par får i slike tilfeller middels på mappen, men TL kan ilegge straff i henhold til §90B2 (langsomt spill).</a:t>
            </a:r>
            <a:endParaRPr b="1"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8. AVVIKLING AV RUNDENE</a:t>
            </a:r>
            <a:endParaRPr b="1" i="1" lang="en-US" sz="2800" spc="-1" strike="noStrike">
              <a:solidFill>
                <a:srgbClr val="808000"/>
              </a:solidFill>
              <a:latin typeface="Arial"/>
            </a:endParaRPr>
          </a:p>
        </p:txBody>
      </p:sp>
      <p:sp>
        <p:nvSpPr>
          <p:cNvPr id="1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AVSLUTNING AV SISTE RUNDE OG SELVE OMGANGEN</a:t>
            </a:r>
            <a:br>
              <a:rPr sz="2400"/>
            </a:br>
            <a:br>
              <a:rPr sz="2400"/>
            </a:br>
            <a:r>
              <a:rPr b="1" lang="nb-NO" sz="1800" spc="-1" strike="noStrike">
                <a:solidFill>
                  <a:srgbClr val="000000"/>
                </a:solidFill>
                <a:latin typeface="Arial"/>
              </a:rPr>
              <a:t>Siste runde i en omgang samt selve omgangen avsluttes ved hvert bord når alle mapper som er oppsatt for vedkommende bord er fullført, og når alle scorer er ført på riktige skjemaer uten umiddelbare innvending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29" name="PlaceHolder 2"/>
          <p:cNvSpPr>
            <a:spLocks noGrp="1"/>
          </p:cNvSpPr>
          <p:nvPr>
            <p:ph/>
          </p:nvPr>
        </p:nvSpPr>
        <p:spPr>
          <a:xfrm>
            <a:off x="609480" y="1828440"/>
            <a:ext cx="8686800" cy="42670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PÅTALE AV UREGELMESSIGHE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hver spiller kan påtale en uregelmessighet under meldingsforløpet, uansett om det er spillerens tur til å melde eller ikke,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S FORLØ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SPILLEFØRER ELLER MOTSPILLERNE</a:t>
            </a:r>
            <a:br>
              <a:rPr sz="1800"/>
            </a:br>
            <a:r>
              <a:rPr b="0" lang="nb-NO" sz="1800" spc="-1" strike="noStrike">
                <a:solidFill>
                  <a:srgbClr val="000000"/>
                </a:solidFill>
                <a:latin typeface="Arial"/>
              </a:rPr>
              <a:t>Spilleføreren og begge motspillerne kan påtale en uregelmessighet som skjer under spillets forløp, med mindre loven sier noe a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BLINDEMANN </a:t>
            </a:r>
            <a:r>
              <a:rPr b="0" i="1" lang="nb-NO" sz="1800" spc="-1" strike="noStrike">
                <a:solidFill>
                  <a:srgbClr val="000000"/>
                </a:solidFill>
                <a:latin typeface="Arial"/>
              </a:rPr>
              <a:t>(Blindemanns rettigheter er definert i §§42 og 4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Blindemann kan ikke påtale en uregelmessighet som skjer under spillets forløp, men kan gjøre det etter at hånden er ferdigspi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Blindemann kan forsøke å hindre at spilleføreren begår en uregelmessighet (§ 41 B2).</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lindemann</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førerens makker. Denne blir blindemann når åpningsutspillet er foretatt.</a:t>
            </a:r>
            <a:endParaRPr b="1" lang="en-US" sz="18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tene til spilleførerens makker, etter at de er lagt ned på bordet etter åpningsutspillet.</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onus</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poeng som vinnes utover trekkpoengene (se §77).</a:t>
            </a:r>
            <a:endParaRPr b="1" lang="en-US" sz="1800" spc="-1" strike="noStrike">
              <a:solidFill>
                <a:srgbClr val="000000"/>
              </a:solidFill>
              <a:latin typeface="Arial"/>
            </a:endParaRPr>
          </a:p>
          <a:p>
            <a:pPr marL="274320" indent="-274320">
              <a:lnSpc>
                <a:spcPct val="95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ud</a:t>
            </a:r>
            <a:endParaRPr b="1" lang="en-US" sz="2400" spc="-1" strike="noStrike">
              <a:solidFill>
                <a:srgbClr val="000000"/>
              </a:solidFill>
              <a:latin typeface="Arial"/>
            </a:endParaRPr>
          </a:p>
          <a:p>
            <a:pPr lvl="1" marL="658080" indent="-219240">
              <a:lnSpc>
                <a:spcPct val="95000"/>
              </a:lnSpc>
              <a:spcBef>
                <a:spcPts val="1576"/>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til å vinne minst et spesifisert antall trekk i en angitt farge eller grand (se også melding).</a:t>
            </a:r>
            <a:endParaRPr b="1"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1"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UREGELMESSIGHET ER PÅTA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TILKALLING AV TURNERINGSLED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NÅR SKAL TURNERINGSLEDER TILKALL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L må tilkalles med en gang når en uregelmessighet er påtal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EM KAN TILKALLE TURNERINGSLEDER?</a:t>
            </a:r>
            <a:br>
              <a:rPr sz="1800"/>
            </a:br>
            <a:r>
              <a:rPr b="0" lang="nb-NO" sz="1800" spc="-1" strike="noStrike">
                <a:solidFill>
                  <a:srgbClr val="000000"/>
                </a:solidFill>
                <a:latin typeface="Arial"/>
              </a:rPr>
              <a:t>Enhver spiller, inkludert blindemann ** , kan tilkalle TL etter at en uregelmessighet er påtalt.</a:t>
            </a:r>
            <a:br>
              <a:rPr sz="1800"/>
            </a:br>
            <a:r>
              <a:rPr b="0" lang="nb-NO" sz="1600" spc="-1" strike="noStrike">
                <a:solidFill>
                  <a:srgbClr val="000000"/>
                </a:solidFill>
                <a:latin typeface="Arial"/>
              </a:rPr>
              <a:t>** Blindemann kan ikke påtale en uregelmessighet mens spillet pågår, men han kan tilkalle TL etter at en annen spiller har påtalt en uregelmessighet</a:t>
            </a:r>
            <a:r>
              <a:rPr b="0" lang="nb-NO" sz="1400" spc="-1" strike="noStrike">
                <a:solidFill>
                  <a:srgbClr val="000000"/>
                </a:solidFill>
                <a:latin typeface="Arial"/>
              </a:rPr>
              <a:t>.</a:t>
            </a:r>
            <a:br>
              <a:rPr sz="1400"/>
            </a:br>
            <a:r>
              <a:rPr b="0" lang="nb-NO" sz="1400" spc="-1" strike="noStrike">
                <a:solidFill>
                  <a:srgbClr val="000000"/>
                </a:solidFill>
                <a:latin typeface="Arial"/>
              </a:rPr>
              <a:t> </a:t>
            </a:r>
            <a:endParaRPr b="1" lang="en-US" sz="1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c)</a:t>
            </a:r>
            <a:r>
              <a:rPr b="0" lang="nb-NO" sz="1800" spc="-1" strike="noStrike">
                <a:solidFill>
                  <a:srgbClr val="000000"/>
                </a:solidFill>
                <a:latin typeface="Arial"/>
              </a:rPr>
              <a:t>	</a:t>
            </a:r>
            <a:r>
              <a:rPr b="0" lang="nb-NO" sz="1800" spc="-1" strike="noStrike">
                <a:solidFill>
                  <a:srgbClr val="000000"/>
                </a:solidFill>
                <a:latin typeface="Arial"/>
              </a:rPr>
              <a:t>RETTIGHETENE BEHOLD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å tilkalle TL mister ikke spilleren noen av de rettigheter han ellers måtte ha.</a:t>
            </a:r>
            <a:endParaRPr b="1"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9. FREMGANGSMÅTEN ETTER EN UREGELMESSIGHET</a:t>
            </a:r>
            <a:endParaRPr b="1" i="1" lang="en-US" sz="2800" spc="-1" strike="noStrike">
              <a:solidFill>
                <a:srgbClr val="808000"/>
              </a:solidFill>
              <a:latin typeface="Arial"/>
            </a:endParaRPr>
          </a:p>
        </p:txBody>
      </p:sp>
      <p:sp>
        <p:nvSpPr>
          <p:cNvPr id="133"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a:t>
            </a:r>
            <a:r>
              <a:rPr b="0" lang="nb-NO" sz="1800" spc="-1" strike="noStrike">
                <a:solidFill>
                  <a:srgbClr val="000000"/>
                </a:solidFill>
                <a:latin typeface="Arial"/>
              </a:rPr>
              <a:t>	</a:t>
            </a:r>
            <a:r>
              <a:rPr b="0" lang="nb-NO" sz="1800" spc="-1" strike="noStrike">
                <a:solidFill>
                  <a:srgbClr val="000000"/>
                </a:solidFill>
                <a:latin typeface="Arial"/>
              </a:rPr>
              <a:t>MOTSTANDERNES RETT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Dersom en spiller påtaler en uregelmessighet som er begått av egen side, påvirker ikke dette motstandernes rettighet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IDERE MELDINGER ELLER 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Ingen spiller skal foreta seg noe før turneringslederen har forklart alt som har med korrigering og med ileggelse av straff å gjø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EN UREGELMESSIGHET KORRIGERES I UTID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feilende spiller korrigerer en uregelmessighet i utide, kan det påføre spilleren ytterligere straff (se §26 om utspillsbegrensninger).</a:t>
            </a:r>
            <a:endParaRPr b="1"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5"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TILDELE STRAFF</a:t>
            </a:r>
            <a:br>
              <a:rPr sz="2400"/>
            </a:br>
            <a:r>
              <a:rPr b="1" lang="nb-NO" sz="2400" spc="-1" strike="noStrike">
                <a:solidFill>
                  <a:srgbClr val="000000"/>
                </a:solidFill>
                <a:latin typeface="Arial"/>
              </a:rPr>
              <a:t>	</a:t>
            </a:r>
            <a:r>
              <a:rPr b="1" lang="nb-NO" sz="1800" spc="-1" strike="noStrike">
                <a:solidFill>
                  <a:srgbClr val="000000"/>
                </a:solidFill>
                <a:latin typeface="Arial"/>
              </a:rPr>
              <a:t>Det er utelukkende turneringslederen som har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straff når straff kan tildeles. Spillerne har ikke rett til å tildele </a:t>
            </a:r>
            <a:r>
              <a:rPr b="1" lang="nb-NO" sz="1800" spc="-1" strike="noStrike">
                <a:solidFill>
                  <a:srgbClr val="000000"/>
                </a:solidFill>
                <a:latin typeface="Arial"/>
              </a:rPr>
              <a:t>	</a:t>
            </a:r>
            <a:r>
              <a:rPr b="1" lang="nb-NO" sz="1800" spc="-1" strike="noStrike">
                <a:solidFill>
                  <a:srgbClr val="000000"/>
                </a:solidFill>
                <a:latin typeface="Arial"/>
              </a:rPr>
              <a:t>	</a:t>
            </a:r>
            <a:r>
              <a:rPr b="1" lang="nb-NO" sz="1800" spc="-1" strike="noStrike">
                <a:solidFill>
                  <a:srgbClr val="000000"/>
                </a:solidFill>
                <a:latin typeface="Arial"/>
              </a:rPr>
              <a:t>(eller gi avkall på) straff på eget initiativ.</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STRAFF ELLER AVKALL PÅ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godkjenne eller oppheve enhver tildeling av straff eller avkall på straff som spillerne har foretatt uten å være instruert av TL.</a:t>
            </a:r>
            <a:endParaRPr b="1"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0. TILDELING AV STRAFF</a:t>
            </a:r>
            <a:endParaRPr b="1" i="1" lang="en-US" sz="2800" spc="-1" strike="noStrike">
              <a:solidFill>
                <a:srgbClr val="808000"/>
              </a:solidFill>
              <a:latin typeface="Arial"/>
            </a:endParaRPr>
          </a:p>
        </p:txBody>
      </p:sp>
      <p:sp>
        <p:nvSpPr>
          <p:cNvPr id="137"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VALGMULIGHETER ETTER UREGELMESSIGHETER</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FORKLARING AV VALG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lovene gir en valgmulighet etter at en uregelmessighet er skjedd, skal turneringslederen forklare alle valgmuligheter som står til rådighet.</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ALG MELLOM FLERE MULIGHET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har flere valgmuligheter etter at det er skjedd en uregelmessighet, må spilleren gjøre sitt valg uten å rådføre seg med sin makker.</a:t>
            </a:r>
            <a:endParaRPr b="1"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VED TILTAK AV DEN IKKE-FEILENDE SID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etten til å få ilagt straff for en uregelmessighet kan forspilles hvis en av spillerne på den ikke-feilende side gjør noe som helst før turneringslederen er tilkalt. TL skal dømme at retten til straff er forspilt når den ikke-feilende side kan ha fått en gevinst ved noe motstanderne senere har gjort i uvitenhet om straffen.</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UREGELMESSIGHETEN BLIR PÅTALT AV EN TILSKU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IKKE-FEILENDE SI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få ilagt straff for en uregelmessighet kan forspilles hvis uregelmessigheten først blir påtalt av en tilskuer hvis nærvær ved bordet er det ikkefeilende sides ansvar.</a:t>
            </a:r>
            <a:endParaRPr b="1"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1. FORSPILLELSE AV RETTEN TIL STRAFF</a:t>
            </a:r>
            <a:endParaRPr b="1" i="1" lang="en-US" sz="2800" spc="-1" strike="noStrike">
              <a:solidFill>
                <a:srgbClr val="808000"/>
              </a:solidFill>
              <a:latin typeface="Arial"/>
            </a:endParaRPr>
          </a:p>
        </p:txBody>
      </p:sp>
      <p:sp>
        <p:nvSpPr>
          <p:cNvPr id="14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ANSVARET FOR TILSKUEREN LIGGER HOS DEN 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Retten til å korrigere en uregelmessighet kan forspilles hvis uregelmessigheten først blir påtalt av en tilskuer hvis nærvær ved bordet er den feilende sides ansva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STRAFF ETTER AT RETTEN TIL STRAFF ER FORSPIL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Også etter at retten til å få ilagt straff er forspilt ifølge loven, kan turneringslederen tildele en straff i form av disiplinærstraff (se §90).</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3" name="PlaceHolder 2"/>
          <p:cNvSpPr>
            <a:spLocks noGrp="1"/>
          </p:cNvSpPr>
          <p:nvPr>
            <p:ph/>
          </p:nvPr>
        </p:nvSpPr>
        <p:spPr>
          <a:xfrm>
            <a:off x="609480" y="1981080"/>
            <a:ext cx="87631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RETTEN TIL Å FASTSETTE ET JUSTERT RESULT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fastsette et justert resultat (korrigert score eller fastsette poeng direkte), enten på eget initiativ eller på anmodning av en spiller, men bare når loven gir ham myndighet til det - ell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NÅR LOVENE IKKE HAR FASTSATT NOEN ERSTATN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korrigert resultat når denne finner at lovene ikke har fastsatt noen erstatning til den ikke-feilende deltager for et gitt lovbrudd begått av en motstand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ER UMULIG Å SPILLE MAPPEN PÅ NORMAL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poeng direkte hvis det ikke er mulig å foreta noen korrigering som kan føre til normalt spill av mappen (se §88).</a:t>
            </a:r>
            <a:endParaRPr b="1"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5" name="PlaceHolder 2"/>
          <p:cNvSpPr>
            <a:spLocks noGrp="1"/>
          </p:cNvSpPr>
          <p:nvPr>
            <p:ph/>
          </p:nvPr>
        </p:nvSpPr>
        <p:spPr>
          <a:xfrm>
            <a:off x="533520" y="2286000"/>
            <a:ext cx="91440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SONET EN UKORREKT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fastsette et justert resultat hvis det er sonet en ukorrekt straff.</a:t>
            </a:r>
            <a:br>
              <a:rPr sz="1800"/>
            </a:b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INGEN KORRIGERING VED URIMELIG STRENG STRAF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kan ikke fastsette et justert resultat med den begrunnelse at straffen som er fastsatt i lovene, enten er urimelig streng eller fordelaktig for den ene eller andre siden.</a:t>
            </a:r>
            <a:endParaRPr b="1"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ASTSETTELSE AV JUSTERT RESULTAT</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1.</a:t>
            </a:r>
            <a:r>
              <a:rPr b="1" lang="nb-NO" sz="2000" spc="-1" strike="noStrike">
                <a:solidFill>
                  <a:srgbClr val="000000"/>
                </a:solidFill>
                <a:latin typeface="Arial"/>
              </a:rPr>
              <a:t>	</a:t>
            </a:r>
            <a:r>
              <a:rPr b="1" lang="nb-NO" sz="2000" spc="-1" strike="noStrike">
                <a:solidFill>
                  <a:srgbClr val="000000"/>
                </a:solidFill>
                <a:latin typeface="Arial"/>
              </a:rPr>
              <a:t>DIREKTE FASTSETTELSE AV POENG</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det på grunn av en uregelmessighet ikke kan oppnås noen score, tildeler TL poeng i samsvar med ansvaret for uregelmessigheten: middels minus (høyst 40% av det samlede antall poeng som skal tildeles i parturnering) til en deltager som har gjort en direkte feil; middels (50% i parturnering) til en deltager som bare delvis har gjort feil; middels pluss (minst 60% i parturnering) til en deltager som overhodet ikke har gjort feil     (se §86 når det gjelder lagturnering og §88 når det gjelder parturnering).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Poengene som er tildelt de to sidene, behøver ikke å balansere hverandre</a:t>
            </a:r>
            <a:endParaRPr b="1" lang="en-US" sz="2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2. TURNERINGSLEDERENS MYNDIGHET TIL Å ANVENDE SKJØNN</a:t>
            </a:r>
            <a:endParaRPr b="1" i="1" lang="en-US" sz="2800" spc="-1" strike="noStrike">
              <a:solidFill>
                <a:srgbClr val="808000"/>
              </a:solidFill>
              <a:latin typeface="Arial"/>
            </a:endParaRPr>
          </a:p>
        </p:txBody>
      </p:sp>
      <p:sp>
        <p:nvSpPr>
          <p:cNvPr id="1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IGERING AV SCORE</a:t>
            </a:r>
            <a:br>
              <a:rPr sz="1800"/>
            </a:br>
            <a:r>
              <a:rPr b="0" lang="nb-NO" sz="1800" spc="-1" strike="noStrike">
                <a:solidFill>
                  <a:srgbClr val="000000"/>
                </a:solidFill>
                <a:latin typeface="Arial"/>
              </a:rPr>
              <a:t>Når TL fastsetter en korrigert score i stedet for den score som faktisk er oppnådd etter en uregelmessighe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er scoren for den ikke-feilende side den gunstigste score som ville vært rimelig dersom uregelmessigheten ikke hadde skjed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1800" spc="-1" strike="noStrike">
                <a:solidFill>
                  <a:srgbClr val="000000"/>
                </a:solidFill>
                <a:latin typeface="Arial"/>
              </a:rPr>
              <a:t>- og for den feilende side den mest ugunstige score som i det hele tatt ville være sannsynlig.</a:t>
            </a: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coren som tildeles de to sidene, behøver ikke å balansere hverandre.</a:t>
            </a:r>
            <a:br>
              <a:rPr sz="1800"/>
            </a:br>
            <a:br>
              <a:rPr sz="1800"/>
            </a:br>
            <a:r>
              <a:rPr b="1" lang="nb-NO" sz="1800" spc="-1" strike="noStrike">
                <a:solidFill>
                  <a:srgbClr val="000000"/>
                </a:solidFill>
                <a:latin typeface="Arial"/>
              </a:rPr>
              <a:t>3</a:t>
            </a:r>
            <a:r>
              <a:rPr b="0" lang="nb-NO" sz="1800" spc="-1" strike="noStrike">
                <a:solidFill>
                  <a:srgbClr val="000000"/>
                </a:solidFill>
                <a:latin typeface="Arial"/>
              </a:rPr>
              <a:t>.</a:t>
            </a:r>
            <a:r>
              <a:rPr b="0" lang="nb-NO" sz="1800" spc="-1" strike="noStrike">
                <a:solidFill>
                  <a:srgbClr val="000000"/>
                </a:solidFill>
                <a:latin typeface="Arial"/>
              </a:rPr>
              <a:t>	</a:t>
            </a:r>
            <a:r>
              <a:rPr b="0" lang="nb-NO" sz="1800" spc="-1" strike="noStrike">
                <a:solidFill>
                  <a:srgbClr val="000000"/>
                </a:solidFill>
                <a:latin typeface="Arial"/>
              </a:rPr>
              <a:t>Med mindre de forskjellige soneorganisasjonene i WBF be-stemmer noe annet, kan en appellkomité endre en korrigert score for å oppnå et mer rettferdig resultat.</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1" name="PlaceHolder 2"/>
          <p:cNvSpPr>
            <a:spLocks noGrp="1"/>
          </p:cNvSpPr>
          <p:nvPr>
            <p:ph/>
          </p:nvPr>
        </p:nvSpPr>
        <p:spPr>
          <a:xfrm>
            <a:off x="1072800" y="1981080"/>
            <a:ext cx="7759800" cy="419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kontrak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kontrakt hvor summen av trekkverdier er mindre enn 100.</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elta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singelturnering: én spill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parturnering: to spillere som er makkere gjennom hele turnering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I en lagturnering: fire eller flere spillere som spiller på samme lag.</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obl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etter et bud av en motstander. Doblingen øker scoren på kontrakten enten den vinnes eller betes (se §§19 og 77).</a:t>
            </a:r>
            <a:endParaRPr b="1" lang="en-US" sz="18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1"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 én eller flere lommer i mappen har inneholdt et ukorrekt antall kort*, og en spiller med en ukorrekt hånd har avgitt en melding, kan TL dømme at given rettes opp og meldingene fortsetter uten korrigering, og at spillet spilles uten utskifting av spillere. Hvis han ikke dømmer slik, skal TL tildele poeng direkte, og kan også straffe en feilende spiller. Hvis det ikke er avgitt noen slik melding, skjer følgende:</a:t>
            </a:r>
            <a:br>
              <a:rPr sz="1800"/>
            </a:br>
            <a:r>
              <a:rPr b="0" lang="nb-NO" sz="1600" spc="-1" strike="noStrike">
                <a:solidFill>
                  <a:srgbClr val="000000"/>
                </a:solidFill>
                <a:latin typeface="Arial"/>
              </a:rPr>
              <a:t>*Hvis tre hender er korrekte og én hånd er mangelfull, kommer §14 til anvendelse i stedet for §13</a:t>
            </a:r>
            <a:r>
              <a:rPr b="0" lang="nb-NO" sz="1400" spc="-1" strike="noStrike">
                <a:solidFill>
                  <a:srgbClr val="000000"/>
                </a:solidFill>
                <a:latin typeface="Arial"/>
              </a:rPr>
              <a:t>.</a:t>
            </a:r>
            <a:br>
              <a:rPr sz="1400"/>
            </a:br>
            <a:br>
              <a:rPr sz="1400"/>
            </a:br>
            <a:r>
              <a:rPr b="1" lang="nb-NO" sz="2400" spc="-1" strike="noStrike">
                <a:solidFill>
                  <a:srgbClr val="000000"/>
                </a:solidFill>
                <a:latin typeface="Arial"/>
              </a:rPr>
              <a:t>A ING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Turneringslederen skal korrigere avvikelsen som angitt nedenfor, og hvis ingen av spillerne fremdeles ikke har sett noen annen spillers kort, skal TL forlange at mappen blir spilt på normal måte.</a:t>
            </a:r>
            <a:endParaRPr b="1"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OPPTEGNELSER AV HEND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finnes opptegnelser av hendene, skal turneringslederen fordele kortene i samsvar med opptegnelsen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RÅDFØRE SEG MED ANDRE SPILL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t ikke finnes opptegnelser av hendene, skal turneringslederen korrigere mappen ved å rådføre seg med spillere som har spilt den tidliger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LANGE OMGIV</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mappen er blitt gitt på en ukorrekt måte, skal turneringslederen forlange omgiv (§6).</a:t>
            </a:r>
            <a:endParaRPr b="1"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NÅR EN SPILLER HAR SETT EN ANNEN SPILLERS KO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L finne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én eller flere lommer i mappen har inneholdt et ukorrekt antall kort,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etter at mappen er rekonstruert i sin opprinnelige tilstand, viser seg at en spiller har sett ett eller flere kort av en annen spillers hånd,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urneringslederen kommer ti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ikke vil forstyrre normal budgivning eller spill, så kan turneringslederen - dersom alle fire spillere er enige i det - tillate at mappen blir spilt og scoret på normal måte.</a:t>
            </a:r>
            <a:endParaRPr b="1"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3. UKORREKT ANTALL KORT</a:t>
            </a:r>
            <a:endParaRPr b="1" i="1" lang="en-US" sz="2800" spc="-1" strike="noStrike">
              <a:solidFill>
                <a:srgbClr val="808000"/>
              </a:solidFill>
              <a:latin typeface="Arial"/>
            </a:endParaRPr>
          </a:p>
        </p:txBody>
      </p:sp>
      <p:sp>
        <p:nvSpPr>
          <p:cNvPr id="15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VESENTLIGE OPPLYSNINGER</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t opplysningene er vesentlig nok til å hindre normal budgivning eller spill - eller hvis noen spiller har innvendinger mot å spille mappen - skal turneringslederen fastsette poengene direkte, og TL kan også straffe en feilende spiller.</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NÅR SPILLET ER FULLFØR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man etter at spille er fullført finner at én av spillernes hender opprinnelig hadde mer enn 13 kort og en annen spillers hånd tilsvarende færre, må resultatet annulleres. </a:t>
            </a:r>
            <a:r>
              <a:rPr b="0" i="1" lang="nb-NO" sz="1800" spc="-1" strike="noStrike">
                <a:solidFill>
                  <a:srgbClr val="000000"/>
                </a:solidFill>
                <a:latin typeface="Arial"/>
              </a:rPr>
              <a:t>(Se også §90 om disiplinærstraff.)</a:t>
            </a:r>
            <a:endParaRPr b="1"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5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FULLSTENDIG HÅND OPPDAGES FØR SPILLET BEGYNN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før spillet begynner oppdager at den fjerde er mangelfull, ettersøker turneringslederen de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blir funnet, blir det satt tilbake i den mangelfulle hånde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alle manglende kort ikke kan finnes, rekonstruerer turneringslederen given så nær opptil dens opprinnelige form som mulig, ved å bytte ut den mangelfulle kortstokken med en ny.</a:t>
            </a:r>
            <a:endParaRPr b="1"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FULLSTENDIG HÅND OPPDAGET UNDER SPILL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tre av hendene er korrekte, og man under spillet oppdager at den fjerde er mangelfull, ettersøker turneringslederen det manglende kortet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ALLE KORT BLIR FUNN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blant de kortene som er spilt, kommer §67 til anvendelse.</a:t>
            </a:r>
            <a:br>
              <a:rPr sz="1800"/>
            </a:br>
            <a:r>
              <a:rPr b="0"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Hvis alle manglende kort blir funnet et annet sted, blir de satt tilbake i den mangelfulle hånden og det kan ilegges straff (se 3. nedenfor).</a:t>
            </a:r>
            <a:endParaRPr b="1" lang="en-US" sz="18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4. MANGLENDE KORT</a:t>
            </a:r>
            <a:endParaRPr b="1" i="1" lang="en-US" sz="2800" spc="-1" strike="noStrike">
              <a:solidFill>
                <a:srgbClr val="808000"/>
              </a:solidFill>
              <a:latin typeface="Arial"/>
            </a:endParaRPr>
          </a:p>
        </p:txBody>
      </p:sp>
      <p:sp>
        <p:nvSpPr>
          <p:cNvPr id="16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ALLE KORT BLIR IKKE FUNNET</a:t>
            </a:r>
            <a:br>
              <a:rPr sz="1800"/>
            </a:br>
            <a:br>
              <a:rPr sz="1800"/>
            </a:br>
            <a:r>
              <a:rPr b="0" lang="nb-NO" sz="1800" spc="-1" strike="noStrike">
                <a:solidFill>
                  <a:srgbClr val="000000"/>
                </a:solidFill>
                <a:latin typeface="Arial"/>
              </a:rPr>
              <a:t>Hvis alle manglende kort ikke blir funnet, blir given rekonstruert så nær den opprinnelige form som mulig ved å bytte ut den mangelfulle kortstokken med en ny, og det kan ilegges straff (se 3. nedenfo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MULIG STRAFF</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De kort som settes tilbake i en hånd under de betingelser som er beskrevet i seksjon B av denne paragraf, betraktes som å ha tilhørt den mangelfulle hånden hele tiden. De kan bli straffekort (§50), og unnlatelse av å ha spilt dem kan innebære revoke.</a:t>
            </a:r>
            <a:endParaRPr b="1"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SPILLERNE HAR IKKE SPILT SPILLET TIDLIGE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spillerne spiller et spill som de ikke skal spille i den aktuelle runde:</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ILLET SCORES PÅ VANLIG MÅ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ormalt tillater turneringslederen at scoren blir stående dersom ingen av de fire spillerne har spilt spillet tidligere.</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SETTES OPP ET SPILL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Turneringslederen kan kreve at de to parene spiller det riktige spillet mot hverandre senere.</a:t>
            </a:r>
            <a:endParaRPr b="1"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7" name="PlaceHolder 2"/>
          <p:cNvSpPr>
            <a:spLocks noGrp="1"/>
          </p:cNvSpPr>
          <p:nvPr>
            <p:ph/>
          </p:nvPr>
        </p:nvSpPr>
        <p:spPr>
          <a:xfrm>
            <a:off x="1066320" y="21333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SPILT SPILLET TIDLIGERE</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spiller et spill som vedkommende har spilt tidligere, enten mot riktige motstandere eller mot andre, blir score nummer to på dette spillet annullert for begge sider. TL skal i så fall fastsette poeng direkte for de deltagerne som på denne måte blir fratatt muligheten til å oppnå en gyldig score.</a:t>
            </a:r>
            <a:endParaRPr b="1"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5. SPILL AV FEIL MAPPE</a:t>
            </a:r>
            <a:endParaRPr b="1" i="1" lang="en-US" sz="2800" spc="-1" strike="noStrike">
              <a:solidFill>
                <a:srgbClr val="808000"/>
              </a:solidFill>
              <a:latin typeface="Arial"/>
            </a:endParaRPr>
          </a:p>
        </p:txBody>
      </p:sp>
      <p:sp>
        <p:nvSpPr>
          <p:cNvPr id="16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FEILEN OPPDAGES UNDER MELDINGS-FORLØPET</a:t>
            </a:r>
            <a:br>
              <a:rPr sz="2400"/>
            </a:br>
            <a:br>
              <a:rPr sz="2400"/>
            </a:br>
            <a:r>
              <a:rPr b="1" lang="nb-NO" sz="1800" spc="-1" strike="noStrike">
                <a:solidFill>
                  <a:srgbClr val="000000"/>
                </a:solidFill>
                <a:latin typeface="Arial"/>
              </a:rPr>
              <a:t>Hvis TL under meldingsforløpet oppdager at noen spiller et spill som vedkommende etter planen ikke skal spille i den aktuelle runde, skal TL annullere meldingsforløpet, forvisse seg om at deltagerne sitter på korrekt plass, og at de er informert om sine rettigheter såvel i den aktuelle som i de påfølgende runder. Et nytt meldingsforløp begynner. Spillerne må gjenta meldingene fra det første meldingsforløpet. Hvis noen melding avviker fra tilsvarende melding i første meldingsforløp, skal TL annullere spillet. Hvis ikke, fortsetter spillet på normal måte.</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3" name="PlaceHolder 2"/>
          <p:cNvSpPr>
            <a:spLocks noGrp="1"/>
          </p:cNvSpPr>
          <p:nvPr>
            <p:ph/>
          </p:nvPr>
        </p:nvSpPr>
        <p:spPr>
          <a:xfrm>
            <a:off x="1073160" y="1980720"/>
            <a:ext cx="8089920" cy="4343400"/>
          </a:xfrm>
          <a:prstGeom prst="rect">
            <a:avLst/>
          </a:prstGeom>
          <a:noFill/>
          <a:ln w="0">
            <a:noFill/>
          </a:ln>
        </p:spPr>
        <p:txBody>
          <a:bodyPr lIns="90360" rIns="90360" tIns="44280" bIns="44280" anchor="t">
            <a:normAutofit/>
          </a:bodyPr>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av fire forskjellige grupper av kort i stokken. Hver gruppe består av tretten kort og har et symbol som kjennetegn: Spar ( </a:t>
            </a:r>
            <a:r>
              <a:rPr b="0" lang="nb-NO" sz="1800" spc="-1" strike="noStrike">
                <a:solidFill>
                  <a:srgbClr val="000000"/>
                </a:solidFill>
                <a:latin typeface="Symbol"/>
                <a:ea typeface="Symbol"/>
              </a:rPr>
              <a:t></a:t>
            </a:r>
            <a:r>
              <a:rPr b="1" lang="nb-NO" sz="1800" spc="-1" strike="noStrike">
                <a:solidFill>
                  <a:srgbClr val="000000"/>
                </a:solidFill>
                <a:latin typeface="Arial"/>
              </a:rPr>
              <a:t>), hjerter ( </a:t>
            </a:r>
            <a:r>
              <a:rPr b="0" lang="nb-NO" sz="1800" spc="-1" strike="noStrike">
                <a:solidFill>
                  <a:srgbClr val="0033cc"/>
                </a:solidFill>
                <a:latin typeface="Symbol"/>
                <a:ea typeface="Symbol"/>
              </a:rPr>
              <a:t></a:t>
            </a:r>
            <a:r>
              <a:rPr b="1" lang="nb-NO" sz="1800" spc="-1" strike="noStrike">
                <a:solidFill>
                  <a:srgbClr val="000000"/>
                </a:solidFill>
                <a:latin typeface="Arial"/>
              </a:rPr>
              <a:t>), ruter ( </a:t>
            </a:r>
            <a:r>
              <a:rPr b="0" lang="nb-NO" sz="1800" spc="-1" strike="noStrike">
                <a:solidFill>
                  <a:srgbClr val="0033cc"/>
                </a:solidFill>
                <a:latin typeface="Symbol"/>
                <a:ea typeface="Symbol"/>
              </a:rPr>
              <a:t></a:t>
            </a:r>
            <a:r>
              <a:rPr b="1" lang="nb-NO" sz="1800" spc="-1" strike="noStrike">
                <a:solidFill>
                  <a:srgbClr val="000000"/>
                </a:solidFill>
                <a:latin typeface="Arial"/>
              </a:rPr>
              <a:t> ) og kløver (</a:t>
            </a:r>
            <a:r>
              <a:rPr b="0" lang="nb-NO" sz="1800" spc="-1" strike="noStrike">
                <a:solidFill>
                  <a:srgbClr val="000000"/>
                </a:solidFill>
                <a:latin typeface="Symbol"/>
                <a:ea typeface="Symbol"/>
              </a:rPr>
              <a:t></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ølge farge</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 et kort i samme farge som er spilt ut.</a:t>
            </a:r>
            <a:endParaRPr b="1" lang="en-US" sz="1800" spc="-1" strike="noStrike">
              <a:solidFill>
                <a:srgbClr val="000000"/>
              </a:solidFill>
              <a:latin typeface="Arial"/>
            </a:endParaRPr>
          </a:p>
          <a:p>
            <a:pPr marL="285840" indent="-285840">
              <a:lnSpc>
                <a:spcPct val="90000"/>
              </a:lnSpc>
              <a:spcBef>
                <a:spcPts val="901"/>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Giv</a:t>
            </a:r>
            <a:endParaRPr b="1" lang="en-US" sz="24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 fordeling av kortene i stokken slik at de danner spillernes fire hender.</a:t>
            </a:r>
            <a:endParaRPr b="1" lang="en-US" sz="1800" spc="-1" strike="noStrike">
              <a:solidFill>
                <a:srgbClr val="000000"/>
              </a:solidFill>
              <a:latin typeface="Arial"/>
            </a:endParaRPr>
          </a:p>
          <a:p>
            <a:pPr lvl="1" marL="685800" indent="-228600">
              <a:lnSpc>
                <a:spcPct val="90000"/>
              </a:lnSpc>
              <a:spcBef>
                <a:spcPts val="675"/>
              </a:spcBef>
              <a:spcAft>
                <a:spcPts val="788"/>
              </a:spcAft>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 bestemt kortfordeling innbefattet meldingsforløpet av og spillet av den, alt betraktet som en helhet.</a:t>
            </a:r>
            <a:endParaRPr b="1"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ne har rett til å basere sine handlinger på informasjon fra lovlige meldinger og spill, samt fra spesielle adferdstrekk hos motstanderne. Men å basere sine handlinger på annen, urettmessig informasjon kan være lovbrud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URETTMESSIG INFORMASJON FRA MAKK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t hender at en spiller gir sin makker urettmessig informasjon som kan antyde en bestemt melding eller et spill. Det kan for eksempel skje ved hjelp av en bemerkning, et spørsmål, svar på et spørsmål, eller ved markert nøling, unormal hastighet, spesielt ettertrykk, tonefall, gester, bevegelser eller andre spesielle adferdstrekk. I slike tilfeller kan makkeren ikke blant logiske alternative handlemåter velge en handlemåte som beviselig er blitt foreslått fremfor en annen ved hjelp av den urettmessige informasjonen.</a:t>
            </a:r>
            <a:endParaRPr b="1"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ER GITT URETTMESSIG INFORMASJON</a:t>
            </a:r>
            <a:br>
              <a:rPr sz="1800"/>
            </a:br>
            <a:br>
              <a:rPr sz="1800"/>
            </a:br>
            <a:r>
              <a:rPr b="1" lang="nb-NO" sz="1800" spc="-1" strike="noStrike">
                <a:solidFill>
                  <a:srgbClr val="000000"/>
                </a:solidFill>
                <a:latin typeface="Arial"/>
              </a:rPr>
              <a:t>Hvis en spiller mener at en motstander har gitt sin makker urettmessig informasjon, og at dette muligens kan skade spillerens side, kan han  - med mindre arrangørens bestemmelser forbyr det  - umiddelbart gjøre oppmerksom på at han reserverer seg rett til å tilkalle TL senere. Hvis motstanderne benekter at det kan ha vært formidlet urettmessig informasjon, bør de omgående tilkalle TL.</a:t>
            </a:r>
            <a:endParaRPr b="1"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NÅR DET BLIR VALGT ET ULOVLIG ALTERNATIV</a:t>
            </a:r>
            <a:br>
              <a:rPr sz="1800"/>
            </a:br>
            <a:br>
              <a:rPr sz="1800"/>
            </a:br>
            <a:r>
              <a:rPr b="1" lang="nb-NO" sz="1800" spc="-1" strike="noStrike">
                <a:solidFill>
                  <a:srgbClr val="000000"/>
                </a:solidFill>
                <a:latin typeface="Arial"/>
              </a:rPr>
              <a:t>Når en spiller har vektig grunn til å tro* at en motstander som hadde et logisk alternativ, har valgt en handlemåte som kan ha vært antydet ved urettmessig informasjon, bør denne straks tilkalle TL. TL skal forlange at meldingsforløpet og spillet fortsetter, om mulig bli ved bordet, og eventuelt tildele et justert resultat hvis han mener at det har skjedd et lovbrudd som har ført til skade.</a:t>
            </a:r>
            <a:br>
              <a:rPr sz="1800"/>
            </a:br>
            <a:br>
              <a:rPr sz="1800"/>
            </a:br>
            <a:r>
              <a:rPr b="1" lang="nb-NO" sz="1600" spc="-1" strike="noStrike">
                <a:solidFill>
                  <a:srgbClr val="000000"/>
                </a:solidFill>
                <a:latin typeface="Arial"/>
              </a:rPr>
              <a:t>*Når spillet er slutt, eller for blindemanns vedkommende når hånden blir lagt med fremsiden opp.</a:t>
            </a:r>
            <a:endParaRPr b="1" lang="en-US" sz="1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7" name="PlaceHolder 2"/>
          <p:cNvSpPr>
            <a:spLocks noGrp="1"/>
          </p:cNvSpPr>
          <p:nvPr>
            <p:ph/>
          </p:nvPr>
        </p:nvSpPr>
        <p:spPr>
          <a:xfrm>
            <a:off x="533160" y="1981080"/>
            <a:ext cx="883908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RETTMESSIG INFORMASJON FRA ANDRE KILDER</a:t>
            </a:r>
            <a:br>
              <a:rPr sz="2400"/>
            </a:br>
            <a:br>
              <a:rPr sz="2400"/>
            </a:br>
            <a:r>
              <a:rPr b="1" lang="nb-NO" sz="1800" spc="-1" strike="noStrike">
                <a:solidFill>
                  <a:srgbClr val="000000"/>
                </a:solidFill>
                <a:latin typeface="Arial"/>
              </a:rPr>
              <a:t>Hvis en spiller ved et tilfelle mottar urettmessig informasjon om en mappe han er i ferd med å spille eller ennå ikke har spilt, bør TL straks gjøres oppmerksom på det, og helst av den som har mottatt informasjonen. Den urettmessige informasjonen kan for eksempel være å se på en feil hånd, ved å overhøre meldinger, resultater eller bemerkninger, ved å se kort ved et annet bord, eller ved å se et kort som tilhører en annen spiller ved eget bord før meldingsforløpet begynner. Hvis TL mener at informasjonen kan hindre normalt spill, kan han velge mellom å:</a:t>
            </a:r>
            <a:endParaRPr b="1"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7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KORRIGERE POSISJONENE RUNDT BORDET</a:t>
            </a:r>
            <a:br>
              <a:rPr sz="1800"/>
            </a:br>
            <a:br>
              <a:rPr sz="1800"/>
            </a:br>
            <a:r>
              <a:rPr b="0" lang="nb-NO" sz="1800" spc="-1" strike="noStrike">
                <a:solidFill>
                  <a:srgbClr val="000000"/>
                </a:solidFill>
                <a:latin typeface="Arial"/>
              </a:rPr>
              <a:t>Hvis turneringsformen og utregningsmåten tillater det, og ingen andre har sett sine kort, kan TL korrigere spillernes posisjoner rundt bordet, slik at en spiller som har informasjon om en bestemt hånd, får denne hånden.</a:t>
            </a:r>
            <a:br>
              <a:rPr sz="1800"/>
            </a:br>
            <a:br>
              <a:rPr sz="1800"/>
            </a:b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TPEKE EN INNBYTTER</a:t>
            </a:r>
            <a:br>
              <a:rPr sz="1800"/>
            </a:br>
            <a:br>
              <a:rPr sz="1800"/>
            </a:br>
            <a:r>
              <a:rPr b="0" lang="nb-NO" sz="1800" spc="-1" strike="noStrike">
                <a:solidFill>
                  <a:srgbClr val="000000"/>
                </a:solidFill>
                <a:latin typeface="Arial"/>
              </a:rPr>
              <a:t>Hvis alle spillere er enige i det, kan TL utpeke en midlertidig innbytter for å erstatte den spilleren som mottok den urettmessige informasjon.</a:t>
            </a:r>
            <a:br>
              <a:rPr sz="1800"/>
            </a:br>
            <a:br>
              <a:rPr sz="1800"/>
            </a:b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ASTSETTE POENG DIREKTE</a:t>
            </a:r>
            <a:br>
              <a:rPr sz="1800"/>
            </a:br>
            <a:br>
              <a:rPr sz="1800"/>
            </a:br>
            <a:r>
              <a:rPr b="0" lang="nb-NO" sz="1800" spc="-1" strike="noStrike">
                <a:solidFill>
                  <a:srgbClr val="000000"/>
                </a:solidFill>
                <a:latin typeface="Arial"/>
              </a:rPr>
              <a:t>TL kan straks fastsette poeng direkte.</a:t>
            </a:r>
            <a:endParaRPr b="1"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INFORMASJON FRA MELDINGER OG SPILL SOM BLIR TRUKKET TILBAKE</a:t>
            </a:r>
            <a:endParaRPr b="1" lang="en-US" sz="24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1" lang="nb-NO" sz="1800" spc="-1" strike="noStrike">
                <a:solidFill>
                  <a:srgbClr val="000000"/>
                </a:solidFill>
                <a:latin typeface="Arial"/>
              </a:rPr>
              <a:t>En melding eller et spill kan bli trukket tilbake og erstattet med en annen melding eller spill - enten av en ikke-feilende side etter at en motstander har begått et lovbrudd, eller av en feilende side for å korrigere et lovbrudd.</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IKKE-FEILENDE SIDE</a:t>
            </a:r>
            <a:endParaRPr b="1" lang="en-US" sz="18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ll informasjon som oppstår ved at en melding, et utspill eller et påspill blir trukket tilbake, er lovlig for den ikke-feilende side, uansett om det er deres egen eller motstandernes handling.</a:t>
            </a:r>
            <a:endParaRPr b="1"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6. URETTMESSIG INFORMASJON</a:t>
            </a:r>
            <a:endParaRPr b="1" i="1" lang="en-US" sz="2800" spc="-1" strike="noStrike">
              <a:solidFill>
                <a:srgbClr val="808000"/>
              </a:solidFill>
              <a:latin typeface="Arial"/>
            </a:endParaRPr>
          </a:p>
        </p:txBody>
      </p:sp>
      <p:sp>
        <p:nvSpPr>
          <p:cNvPr id="18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EILENDE SI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nb-NO" sz="1800" spc="-1" strike="noStrike">
                <a:solidFill>
                  <a:srgbClr val="000000"/>
                </a:solidFill>
                <a:latin typeface="Arial"/>
              </a:rPr>
              <a:t>For den feilende side er informasjon som fremkommer ved egen tilbaketrukket handling eller fra tilbaketrukket handling fra motstanders side, urettmessig. En spiller fra den feilende side kan derfor ikke blant logiske alternativer velge et alternativ som på grunn av den urettmessige informasjonen </a:t>
            </a:r>
            <a:r>
              <a:rPr b="1" lang="nb-NO" sz="1800" spc="-1" strike="noStrike">
                <a:solidFill>
                  <a:srgbClr val="000000"/>
                </a:solidFill>
                <a:latin typeface="Arial"/>
              </a:rPr>
              <a:t>beviselig</a:t>
            </a:r>
            <a:r>
              <a:rPr b="0" lang="nb-NO" sz="1800" spc="-1" strike="noStrike">
                <a:solidFill>
                  <a:srgbClr val="000000"/>
                </a:solidFill>
                <a:latin typeface="Arial"/>
              </a:rPr>
              <a:t> kunne fremstå som mer gunstig enn et annet.</a:t>
            </a:r>
            <a:endParaRPr b="1"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SFORLØPET BEGYNNER</a:t>
            </a:r>
            <a:br>
              <a:rPr sz="2400"/>
            </a:br>
            <a:r>
              <a:rPr b="1" lang="nb-NO" sz="1800" spc="-1" strike="noStrike">
                <a:solidFill>
                  <a:srgbClr val="000000"/>
                </a:solidFill>
                <a:latin typeface="Arial"/>
              </a:rPr>
              <a:t>Meldingsforløpet for en side begynner når én fra                  makkerparet ser på fremsiden av kortene sine * * .</a:t>
            </a:r>
            <a:br>
              <a:rPr sz="1800"/>
            </a:br>
            <a:r>
              <a:rPr b="0" lang="nb-NO" sz="1400" spc="-1" strike="noStrike">
                <a:solidFill>
                  <a:srgbClr val="000000"/>
                </a:solidFill>
                <a:latin typeface="Arial"/>
              </a:rPr>
              <a:t>* *Dette er for å forhindre f.eks. en diskusjon om system etter at man har sett på kortene for neste giv.</a:t>
            </a:r>
            <a:endParaRPr b="1" lang="en-US" sz="1400" spc="-1" strike="noStrike">
              <a:solidFill>
                <a:srgbClr val="000000"/>
              </a:solidFill>
              <a:latin typeface="Arial"/>
            </a:endParaRPr>
          </a:p>
          <a:p>
            <a:pPr lvl="1" marL="685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DEN FØRSTE MEL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n første melding avgis av den spiller som på mappen er angitt som gi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PÅFØLGENDE MELDIN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Spilleren på giverens venstre side avgir neste melding, og deretter hver spiller i tur og orden med urviseren.</a:t>
            </a:r>
            <a:endParaRPr b="1"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  </a:t>
            </a:r>
            <a:endParaRPr b="1" i="1" lang="en-US" sz="2800" spc="-1" strike="noStrike">
              <a:solidFill>
                <a:srgbClr val="808000"/>
              </a:solidFill>
              <a:latin typeface="Arial"/>
            </a:endParaRPr>
          </a:p>
        </p:txBody>
      </p:sp>
      <p:sp>
        <p:nvSpPr>
          <p:cNvPr id="18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KORT FRA FEIL MAPPE</a:t>
            </a:r>
            <a:br>
              <a:rPr sz="2400"/>
            </a:br>
            <a:r>
              <a:rPr b="1" lang="nb-NO" sz="1800" spc="-1" strike="noStrike">
                <a:solidFill>
                  <a:srgbClr val="000000"/>
                </a:solidFill>
                <a:latin typeface="Arial"/>
              </a:rPr>
              <a:t>Hvis en spiller** som av vanvare har tatt opp kortene fra feil mappe avgir en melding, blir denne meldingen annullert. Hvis VM har rukket å melde etter meldingen som ble annullert, skal TL annullere spillet ved dette bordet og tildele justert score dersom den feilendes nye melding har vesentlig annen betydning enn den som ble annullert (disiplinærstraff - se §90).</a:t>
            </a:r>
            <a:br>
              <a:rPr sz="1800"/>
            </a:br>
            <a:br>
              <a:rPr sz="1800"/>
            </a:br>
            <a:r>
              <a:rPr b="1" lang="nb-NO" sz="1800" spc="-1" strike="noStrike">
                <a:solidFill>
                  <a:srgbClr val="000000"/>
                </a:solidFill>
                <a:latin typeface="Arial"/>
              </a:rPr>
              <a:t>Når spillet som den feilende tok opp kortene fra skal spilles, skal TL tillate at spillet spilles som normalt hvis den feilende gjentar sin opprinnelige melding. Hvis meldingen den feilende avgir avviker på noen måte, skal TL annullere spillet og tildele justert score (disiplinærstraff - se §90).</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Kun én spiller har tatt opp kortene fra feil mappe, de andre tre har tatt kortene fra riktig mappe.</a:t>
            </a:r>
            <a:endParaRPr b="1" lang="en-US" sz="14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7. MELDINGSFORLØPETS VARIGHET</a:t>
            </a:r>
            <a:endParaRPr b="1" i="1" lang="en-US" sz="2800" spc="-1" strike="noStrike">
              <a:solidFill>
                <a:srgbClr val="808000"/>
              </a:solidFill>
              <a:latin typeface="Arial"/>
            </a:endParaRPr>
          </a:p>
        </p:txBody>
      </p:sp>
      <p:sp>
        <p:nvSpPr>
          <p:cNvPr id="189" name="PlaceHolder 2"/>
          <p:cNvSpPr>
            <a:spLocks noGrp="1"/>
          </p:cNvSpPr>
          <p:nvPr>
            <p:ph/>
          </p:nvPr>
        </p:nvSpPr>
        <p:spPr>
          <a:xfrm>
            <a:off x="1072800" y="1981080"/>
            <a:ext cx="81471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AVSLUTNING AV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Meldingsforløpet avslutte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alle fire spillere passer eller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en gitt melding blir etterfulgt av tre passer i tur og orden,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og åpningsutspillet er snudd med billedsiden opp</a:t>
            </a: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når det gjelder en pass utenfor tur som er godtatt - se §34)</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5" name="PlaceHolder 2"/>
          <p:cNvSpPr>
            <a:spLocks noGrp="1"/>
          </p:cNvSpPr>
          <p:nvPr>
            <p:ph/>
          </p:nvPr>
        </p:nvSpPr>
        <p:spPr>
          <a:xfrm>
            <a:off x="990720" y="1981080"/>
            <a:ext cx="775944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M</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Forkortelse for motstanderen til høyre (Høyre Motstand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onnør</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ss, Konge, Dame, Knekt eller Tier.</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Hånd</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Den kortfordeling som opprinnelig er gitt til en spiller, eller den del av den som spilleren har igjen.</a:t>
            </a:r>
            <a:endParaRPr b="1" lang="en-US" sz="1600" spc="-1" strike="noStrike">
              <a:solidFill>
                <a:srgbClr val="000000"/>
              </a:solidFill>
              <a:latin typeface="Arial"/>
            </a:endParaRPr>
          </a:p>
          <a:p>
            <a:pPr marL="285840" indent="-28584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IMP (International Match Point)</a:t>
            </a:r>
            <a:endParaRPr b="1" lang="en-US" sz="2000" spc="-1" strike="noStrike">
              <a:solidFill>
                <a:srgbClr val="000000"/>
              </a:solidFill>
              <a:latin typeface="Arial"/>
            </a:endParaRPr>
          </a:p>
          <a:p>
            <a:pPr lvl="1" marL="685800" indent="-228600">
              <a:lnSpc>
                <a:spcPct val="90000"/>
              </a:lnSpc>
              <a:spcBef>
                <a:spcPts val="15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n scoringsenhet som tildeles i samsvar med et skjema som er definert i § 78 B.</a:t>
            </a:r>
            <a:endParaRPr b="1" lang="en-US" sz="1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KORREKT FOR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angir et antall trekk fra en til syv samt en benevnelse. </a:t>
            </a:r>
            <a:r>
              <a:rPr b="1" i="1" lang="nb-NO" sz="1800" spc="-1" strike="noStrike">
                <a:solidFill>
                  <a:srgbClr val="000000"/>
                </a:solidFill>
                <a:latin typeface="Arial"/>
              </a:rPr>
              <a:t>(Pass, dobler og redobler er meldinger, men ikke bu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OPPHEVELSE AV E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opphever et foregående bud hvis det angir samme antall trekk i en høyere rangerende benevnelse, eller et høyere antall trekk i en hvilken som helst benevn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opphever det umiddelbart foregående bud, er et tilstrekkelig bud.</a:t>
            </a:r>
            <a:endParaRPr b="1"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8. BUDENE</a:t>
            </a:r>
            <a:endParaRPr b="1" i="1" lang="en-US" sz="2800" spc="-1" strike="noStrike">
              <a:solidFill>
                <a:srgbClr val="808000"/>
              </a:solidFill>
              <a:latin typeface="Arial"/>
            </a:endParaRPr>
          </a:p>
        </p:txBody>
      </p:sp>
      <p:sp>
        <p:nvSpPr>
          <p:cNvPr id="19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 bud som ikke opphever det umiddelbart foregående bud, er et utilstrekke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RANGERING AV GRAND OG FARG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Rangeringen av grand og farger er i nedadstigende rekkefølge: grand, spar, hjerter, ruter, kløver.</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675"/>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CG Times"/>
              </a:rPr>
              <a:t>F </a:t>
            </a:r>
            <a:r>
              <a:rPr b="1" lang="nb-NO" sz="1800" spc="-1" strike="noStrike">
                <a:solidFill>
                  <a:srgbClr val="000000"/>
                </a:solidFill>
                <a:latin typeface="Arial"/>
              </a:rPr>
              <a:t>Organisasjonene i de forskjellige sonene i WBF kan tillate andre måter å melde på enn å melde muntlig, f.eks. ved at det kan benyttes meldebokser.</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5" name="PlaceHolder 2"/>
          <p:cNvSpPr>
            <a:spLocks noGrp="1"/>
          </p:cNvSpPr>
          <p:nvPr>
            <p:ph/>
          </p:nvPr>
        </p:nvSpPr>
        <p:spPr>
          <a:xfrm>
            <a:off x="685800" y="1981080"/>
            <a:ext cx="861048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doble det siste av foregående bud. Dette budet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dobler, skal ikke nevne antallet av trekk eller benevnelse. Den eneste korrekte form er å bruke det ene ordet "dobler” ** .</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 Ved bruk av meldebokser skal kortet for dobling legges på bordet når man 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dobler nevner et feilaktig bud, eller et feilaktig antall trekk eller en feilaktig benevnelse, blir det å betrakte som om han har 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  </a:t>
            </a:r>
            <a:endParaRPr b="1" i="1" lang="en-US" sz="2800" spc="-1" strike="noStrike">
              <a:solidFill>
                <a:srgbClr val="808000"/>
              </a:solidFill>
              <a:latin typeface="Arial"/>
            </a:endParaRPr>
          </a:p>
        </p:txBody>
      </p:sp>
      <p:sp>
        <p:nvSpPr>
          <p:cNvPr id="197" name="PlaceHolder 2"/>
          <p:cNvSpPr>
            <a:spLocks noGrp="1"/>
          </p:cNvSpPr>
          <p:nvPr>
            <p:ph/>
          </p:nvPr>
        </p:nvSpPr>
        <p:spPr>
          <a:xfrm>
            <a:off x="609120" y="1828800"/>
            <a:ext cx="861084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REDOBLING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LOVLIG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kan bare redoble den sist foregående dobling. Denne doblingen må være avgitt av en motstander, og det må ikke ha kommet andre meldinger enn pass imellom.</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KORREKT FORM FOR REDOBL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n spiller som redobler, skal ikke nevne antallet av trekk eller benevnelse. Den eneste korrekte form er å bruke det ene ordet "redob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Ved bruk av meldebokser skal kortet for redobling legges på bordet når man redobler.</a:t>
            </a:r>
            <a:endParaRPr b="1" lang="en-US" sz="1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REDOBLING AV FEILAKTIG ANGITT BUD</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en spiller som redobler, nevner det doblede bud på en feilaktig måte, eller nevner feilaktig antall trekk eller benevnelse, blir det å betrakte som om han har redoblet det faktisk avgitte bud. </a:t>
            </a:r>
            <a:r>
              <a:rPr b="0" i="1" lang="nb-NO" sz="1800" spc="-1" strike="noStrike">
                <a:solidFill>
                  <a:srgbClr val="000000"/>
                </a:solidFill>
                <a:latin typeface="Arial"/>
              </a:rPr>
              <a:t>(§16 om urettmessig informasjon kan komme til anvendelse.)</a:t>
            </a:r>
            <a:endParaRPr b="1"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19. DOBLINGER OG REDOBLINGER</a:t>
            </a:r>
            <a:endParaRPr b="1" i="1" lang="en-US" sz="2800" spc="-1" strike="noStrike">
              <a:solidFill>
                <a:srgbClr val="808000"/>
              </a:solidFill>
              <a:latin typeface="Arial"/>
            </a:endParaRPr>
          </a:p>
        </p:txBody>
      </p:sp>
      <p:sp>
        <p:nvSpPr>
          <p:cNvPr id="19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OPPHEVELSE AV DOBLING ELLER REDOBLING</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hver dobling eller redobling blir opphevet av et påfølgende lovlig bud.</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SCORING AV DOBLET ELLER REDOBLET KONTRAKT</a:t>
            </a:r>
            <a:br>
              <a:rPr sz="2400"/>
            </a:br>
            <a:r>
              <a:rPr b="1" lang="nb-NO"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doblet eller redoblet bud ikke blir opphevet av et påfølgende lovlig bud, forhøyes scoren som angitt i §77.</a:t>
            </a:r>
            <a:endParaRPr b="1"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NÅR MELDINGEN IKKE ER TYDELIG OPPFATT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som ikke hører en melding tydelig, kan straks forlange at den blir gjen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GJENTAGELSE AV MELDINGENE UNDER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har enhver spiller rett til å få alle* tidligere meldinger gjentatt når spilleren er i tur til å melde, med mindre spilleren ifølge lovene er nødt til å passe. Også alerter bør tas med i gjentagelsen.</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GJENTAGELSE ETTER AVSLUTTENDE PAS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SPØRSMÅL OM ÅPNINGSUTSPILL</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Etter den avsluttende pass har hver av motspillerne rett til å spørre om hvem som har åpningsutspillet</a:t>
            </a:r>
            <a:r>
              <a:rPr b="1" lang="nb-NO" sz="1800" spc="-1" strike="noStrike">
                <a:solidFill>
                  <a:srgbClr val="000000"/>
                </a:solidFill>
                <a:latin typeface="Arial"/>
              </a:rPr>
              <a:t> </a:t>
            </a:r>
            <a:r>
              <a:rPr b="0" i="1" lang="nb-NO" sz="1800" spc="-1" strike="noStrike">
                <a:solidFill>
                  <a:srgbClr val="000000"/>
                </a:solidFill>
                <a:latin typeface="Arial"/>
              </a:rPr>
              <a:t>(se §§47E og 41)</a:t>
            </a:r>
            <a:r>
              <a:rPr b="1" i="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GJENTAGELSE AV MELDINGEN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og hver av motspillerne kan, når det første gang er deres tur til å spille, be om at alle* foregående meldinger blir gjentatt</a:t>
            </a:r>
            <a:r>
              <a:rPr b="1" lang="nb-NO" sz="1800" spc="-1" strike="noStrike">
                <a:solidFill>
                  <a:srgbClr val="000000"/>
                </a:solidFill>
                <a:latin typeface="Arial"/>
              </a:rPr>
              <a:t> </a:t>
            </a:r>
            <a:r>
              <a:rPr b="0" i="1" lang="nb-NO" sz="1800" spc="-1" strike="noStrike">
                <a:solidFill>
                  <a:srgbClr val="000000"/>
                </a:solidFill>
                <a:latin typeface="Arial"/>
              </a:rPr>
              <a:t>(se §§41B og 41C)</a:t>
            </a:r>
            <a:r>
              <a:rPr b="1" lang="nb-NO" sz="1800" spc="-1" strike="noStrike">
                <a:solidFill>
                  <a:srgbClr val="000000"/>
                </a:solidFill>
                <a:latin typeface="Arial"/>
              </a:rPr>
              <a:t>.</a:t>
            </a:r>
            <a:endParaRPr b="1" lang="en-US" sz="18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spiller kan ikke be om en delvis gjentagelse av foregående meldinger, og kan heller ikke stanse gjentagelsen før den er fullført.</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D HVEM KAN GJENTA MELDINGSFORLØP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ber om å få gjentatt meldingene, er det bare motstanderne som skal svare.</a:t>
            </a:r>
            <a:endParaRPr b="1"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a:t>
            </a:r>
            <a:endParaRPr b="1" i="1" lang="en-US" sz="2800" spc="-1" strike="noStrike">
              <a:solidFill>
                <a:srgbClr val="808000"/>
              </a:solidFill>
              <a:latin typeface="Arial"/>
            </a:endParaRPr>
          </a:p>
        </p:txBody>
      </p:sp>
      <p:sp>
        <p:nvSpPr>
          <p:cNvPr id="205" name="PlaceHolder 2"/>
          <p:cNvSpPr>
            <a:spLocks noGrp="1"/>
          </p:cNvSpPr>
          <p:nvPr>
            <p:ph/>
          </p:nvPr>
        </p:nvSpPr>
        <p:spPr>
          <a:xfrm>
            <a:off x="838080" y="1981080"/>
            <a:ext cx="79250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KORRIGERING AV FEIL I GJENTAGELSE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Alle spillerne, også blindemann eller en spiller som ifølge lovene er nødt til å passe, er ansvarlig for at eventuelle feil i gjentagelsen blir rettet omgåend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b-NO" sz="1800" spc="-1" strike="noStrike">
                <a:solidFill>
                  <a:srgbClr val="000000"/>
                </a:solidFill>
                <a:latin typeface="Arial"/>
              </a:rPr>
              <a:t>(se §12C1 når en ukorrigert gjentagelse fører til ska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a:t>
            </a:r>
            <a:endParaRPr b="1" i="1" lang="en-US" sz="2800" spc="-1" strike="noStrike">
              <a:solidFill>
                <a:srgbClr val="808000"/>
              </a:solidFill>
              <a:latin typeface="Arial"/>
            </a:endParaRPr>
          </a:p>
        </p:txBody>
      </p:sp>
      <p:sp>
        <p:nvSpPr>
          <p:cNvPr id="207" name="PlaceHolder 2"/>
          <p:cNvSpPr>
            <a:spLocks noGrp="1"/>
          </p:cNvSpPr>
          <p:nvPr>
            <p:ph/>
          </p:nvPr>
        </p:nvSpPr>
        <p:spPr>
          <a:xfrm>
            <a:off x="609480" y="1981080"/>
            <a:ext cx="8686800" cy="411480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F FORKLARING AV MELDINGER</a:t>
            </a:r>
            <a:endParaRPr b="1" lang="en-US" sz="24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UNDER MELDINGSFORLØPET</a:t>
            </a:r>
            <a:endParaRPr b="1" lang="en-US" sz="1800" spc="-1" strike="noStrike">
              <a:solidFill>
                <a:srgbClr val="000000"/>
              </a:solidFill>
              <a:latin typeface="Arial"/>
            </a:endParaRPr>
          </a:p>
          <a:p>
            <a:pPr lvl="1" marL="658080" indent="-21924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Under meldingsforløpet og før den avsluttende pass kan enhver spiller, når det er hans tur til å melde, be* om en full forklaring på motstandernes meldinger (spørsmål kan stilles om avgitte meldinger eller om andre relevante meldinger som ikke er avgitt). Svaret bør normalt gis av makkeren til den spiller som har avgitt den melding det spørres om (se §75C**).</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br>
              <a:rPr sz="1600"/>
            </a:br>
            <a:r>
              <a:rPr b="0" lang="nb-NO" sz="1600" spc="-1" strike="noStrike">
                <a:solidFill>
                  <a:srgbClr val="000000"/>
                </a:solidFill>
                <a:latin typeface="Arial"/>
              </a:rPr>
              <a:t> </a:t>
            </a:r>
            <a:endParaRPr b="1" lang="en-US" sz="1600" spc="-1" strike="noStrike">
              <a:solidFill>
                <a:srgbClr val="000000"/>
              </a:solidFill>
              <a:latin typeface="Arial"/>
            </a:endParaRPr>
          </a:p>
          <a:p>
            <a:pPr lvl="1" marL="658080" indent="-21924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75C: Når en spiller som svar på spørsmål fra en motstander forklarer hva makkers melding eller spill betyr (se §20), skal han avdekke all den spesielle informasjon som han får ut av det gjennom en makkeravtale eller erfaring fra makkerskapet. Men han behøver ikke avsløre slutninger som kan trekkes på grunnlag av generelle kunnskaper og erfaring.</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0. GJENTAGELSE OG FORKLARING AV MELDINGER forts.</a:t>
            </a:r>
            <a:endParaRPr b="1" i="1" lang="en-US" sz="2800" spc="-1" strike="noStrike">
              <a:solidFill>
                <a:srgbClr val="808000"/>
              </a:solidFill>
              <a:latin typeface="Arial"/>
            </a:endParaRPr>
          </a:p>
        </p:txBody>
      </p:sp>
      <p:sp>
        <p:nvSpPr>
          <p:cNvPr id="20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UNDER SPILLE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den avsluttende pass og gjennom hele spillet kan hver av motspillerne be* om forklaring av motstandernes meldingsforløp når det er hans egen tur til å spille. Når det er spilleførers eller blindemanns tur å spille, kan spillefører be om forklaring på en motstanders melding eller på motstandernes motspillskonvensjon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228600">
              <a:lnSpc>
                <a:spcPct val="90000"/>
              </a:lnSpc>
              <a:spcBef>
                <a:spcPts val="60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16, som omhandler urettmessig informasjon, kan komme til anvendelse. Arrangøren kan også fastsette regler om skrevne forklaringer. (NBF har påbudt systemkort.)</a:t>
            </a:r>
            <a:endParaRPr b="1"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7" name="PlaceHolder 2"/>
          <p:cNvSpPr>
            <a:spLocks noGrp="1"/>
          </p:cNvSpPr>
          <p:nvPr>
            <p:ph/>
          </p:nvPr>
        </p:nvSpPr>
        <p:spPr>
          <a:xfrm>
            <a:off x="1072800" y="1980720"/>
            <a:ext cx="8255160" cy="4343400"/>
          </a:xfrm>
          <a:prstGeom prst="rect">
            <a:avLst/>
          </a:prstGeom>
          <a:noFill/>
          <a:ln w="0">
            <a:noFill/>
          </a:ln>
        </p:spPr>
        <p:txBody>
          <a:bodyPr lIns="90360" rIns="90360" tIns="44280" bIns="44280" anchor="t">
            <a:normAutofit/>
          </a:bodyPr>
          <a:p>
            <a:pPr marL="285840" indent="-28584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Justert resultat</a:t>
            </a:r>
            <a:endParaRPr b="1" lang="en-US" sz="20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Et resultat som fastsettes av turneringslederen etter skjønn (se §12), og som kan være enten en prosentvis tildeling av poeng eller en korrigert score.</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1.</a:t>
            </a:r>
            <a:r>
              <a:rPr b="1" lang="nb-NO" sz="1600" spc="-1" strike="noStrike">
                <a:solidFill>
                  <a:srgbClr val="000000"/>
                </a:solidFill>
                <a:latin typeface="Arial"/>
              </a:rPr>
              <a:t>	</a:t>
            </a:r>
            <a:r>
              <a:rPr b="1" lang="nb-NO" sz="1600" spc="-1" strike="noStrike">
                <a:solidFill>
                  <a:srgbClr val="000000"/>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000000"/>
              </a:solidFill>
              <a:latin typeface="Arial"/>
            </a:endParaRPr>
          </a:p>
          <a:p>
            <a:pPr lvl="1" marL="685800" indent="-228600">
              <a:lnSpc>
                <a:spcPct val="90000"/>
              </a:lnSpc>
              <a:spcBef>
                <a:spcPts val="119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600" spc="-1" strike="noStrike">
                <a:solidFill>
                  <a:srgbClr val="000000"/>
                </a:solidFill>
                <a:latin typeface="Arial"/>
              </a:rPr>
              <a:t>2.</a:t>
            </a:r>
            <a:r>
              <a:rPr b="1" lang="nb-NO" sz="1600" spc="-1" strike="noStrike">
                <a:solidFill>
                  <a:srgbClr val="000000"/>
                </a:solidFill>
                <a:latin typeface="Arial"/>
              </a:rPr>
              <a:t>	</a:t>
            </a:r>
            <a:r>
              <a:rPr b="1" lang="nb-NO" sz="1600" spc="-1" strike="noStrike">
                <a:solidFill>
                  <a:srgbClr val="000000"/>
                </a:solidFill>
                <a:latin typeface="Arial"/>
              </a:rPr>
              <a:t>En korrigert score er den score som tildeles en eller begge sider i stedet for det resultat som faktisk ble oppnådd etter en uregelmessighet.</a:t>
            </a:r>
            <a:endParaRPr b="1" lang="en-US" sz="1600" spc="-1" strike="noStrike">
              <a:solidFill>
                <a:srgbClr val="000000"/>
              </a:solidFill>
              <a:latin typeface="Arial"/>
            </a:endParaRPr>
          </a:p>
          <a:p>
            <a:pPr marL="285840" indent="-285840">
              <a:lnSpc>
                <a:spcPct val="9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trakt</a:t>
            </a:r>
            <a:endParaRPr b="1" lang="en-US" sz="2400" spc="-1" strike="noStrike">
              <a:solidFill>
                <a:srgbClr val="000000"/>
              </a:solidFill>
              <a:latin typeface="Arial"/>
            </a:endParaRPr>
          </a:p>
          <a:p>
            <a:pPr lvl="1" marL="685800" indent="-228600">
              <a:lnSpc>
                <a:spcPct val="90000"/>
              </a:lnSpc>
              <a:spcBef>
                <a:spcPts val="1349"/>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a:t>
            </a:r>
            <a:endParaRPr b="1" i="1" lang="en-US" sz="2800" spc="-1" strike="noStrike">
              <a:solidFill>
                <a:srgbClr val="808000"/>
              </a:solidFill>
              <a:latin typeface="Arial"/>
            </a:endParaRPr>
          </a:p>
        </p:txBody>
      </p:sp>
      <p:sp>
        <p:nvSpPr>
          <p:cNvPr id="211"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 BASERT PÅ EGEN MISFORSTÅELSE</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spiller kan ikke endre sin melding dersom meldingen er avgitt på grunnlag av egen misforståels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BASERT PÅ UKORREKTE OPPLYSNINGER FRA MOTSTANDER</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ENDRING AV MELDING</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elt til meldingsforløpet er avsluttet (se §17E) kan en spiller uten straff forandre en melding som det er sannsynlig at han har avgitt som følge av ukorrekte opplysninger fra en motstander </a:t>
            </a:r>
            <a:r>
              <a:rPr b="0" i="1" lang="nb-NO" sz="1800" spc="-1" strike="noStrike">
                <a:solidFill>
                  <a:srgbClr val="000000"/>
                </a:solidFill>
                <a:latin typeface="Arial"/>
              </a:rPr>
              <a:t>(unnlatelse av omgående å alertere en konvensjonell melding eller spesialavtale betraktes som ukorrekt opplysning hvis alertering forlanges av arrangøren)</a:t>
            </a:r>
            <a:r>
              <a:rPr b="0" lang="nb-NO" sz="1800" spc="-1" strike="noStrike">
                <a:solidFill>
                  <a:srgbClr val="000000"/>
                </a:solidFill>
                <a:latin typeface="Arial"/>
              </a:rPr>
              <a:t>. Forutsetningen for å rette en melding er imidlertid at spillerens makker ikke har avgitt noen påfølgende melding.</a:t>
            </a:r>
            <a:endParaRPr b="1"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1. MELDING BASERT PÅ UKORREKTE OPPLYSNINGER </a:t>
            </a:r>
            <a:endParaRPr b="1" i="1" lang="en-US" sz="2800" spc="-1" strike="noStrike">
              <a:solidFill>
                <a:srgbClr val="808000"/>
              </a:solidFill>
              <a:latin typeface="Arial"/>
            </a:endParaRPr>
          </a:p>
        </p:txBody>
      </p:sp>
      <p:sp>
        <p:nvSpPr>
          <p:cNvPr id="21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ENDRING AV MELDING HOS MOTSTANDEREN ETTER KORREKSJ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en spiller velger å forandre sin melding på grunn av ukorrekte opplysninger </a:t>
            </a:r>
            <a:r>
              <a:rPr b="0" i="1" lang="nb-NO" sz="1800" spc="-1" strike="noStrike">
                <a:solidFill>
                  <a:srgbClr val="000000"/>
                </a:solidFill>
                <a:latin typeface="Arial"/>
              </a:rPr>
              <a:t>(som under 1. ovenfor)</a:t>
            </a:r>
            <a:r>
              <a:rPr b="0" lang="nb-NO" sz="1800" spc="-1" strike="noStrike">
                <a:solidFill>
                  <a:srgbClr val="000000"/>
                </a:solidFill>
                <a:latin typeface="Arial"/>
              </a:rPr>
              <a:t>, kan denne spillers VM i sin tur forandre en eventuell påfølgende melding uten straff</a:t>
            </a:r>
            <a:r>
              <a:rPr b="1" lang="nb-NO" sz="1800" spc="-1" strike="noStrike">
                <a:solidFill>
                  <a:srgbClr val="000000"/>
                </a:solidFill>
                <a:latin typeface="Arial"/>
              </a:rPr>
              <a:t> </a:t>
            </a:r>
            <a:r>
              <a:rPr b="0" i="1" lang="nb-NO" sz="1800" spc="-1" strike="noStrike">
                <a:solidFill>
                  <a:srgbClr val="000000"/>
                </a:solidFill>
                <a:latin typeface="Arial"/>
              </a:rPr>
              <a:t>(med mindre motstanderens tilbaketrukne melding har formidlet så vesentlig informasjon at det skader den ikke-feilende side. I så fall kan turneringslederen tildele et justert resultat). (Når det gjelder urettmessig informasjon fra tilbaketrukne meldinger - se §16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NÅR DET ER FOR SENT Å FORANDRE EN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Når det er for sent å forandre en melding, kan turneringslederen tildele et justert resultat</a:t>
            </a:r>
            <a:r>
              <a:rPr b="1" lang="nb-NO" sz="1800" spc="-1" strike="noStrike">
                <a:solidFill>
                  <a:srgbClr val="000000"/>
                </a:solidFill>
                <a:latin typeface="Arial"/>
              </a:rPr>
              <a:t> </a:t>
            </a:r>
            <a:r>
              <a:rPr b="0" i="1" lang="nb-NO" sz="1800" spc="-1" strike="noStrike">
                <a:solidFill>
                  <a:srgbClr val="000000"/>
                </a:solidFill>
                <a:latin typeface="Arial"/>
              </a:rPr>
              <a:t>(§40C kan komme til anvendelse).</a:t>
            </a:r>
            <a:endParaRPr b="1" lang="en-US" sz="18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2. FREMGANGSMÅTEN ETTER AT MELDINGSFORLØPET ER AVSLUTTET</a:t>
            </a:r>
            <a:endParaRPr b="1" i="1" lang="en-US" sz="2800" spc="-1" strike="noStrike">
              <a:solidFill>
                <a:srgbClr val="808000"/>
              </a:solidFill>
              <a:latin typeface="Arial"/>
            </a:endParaRPr>
          </a:p>
        </p:txBody>
      </p:sp>
      <p:sp>
        <p:nvSpPr>
          <p:cNvPr id="215" name="PlaceHolder 2"/>
          <p:cNvSpPr>
            <a:spLocks noGrp="1"/>
          </p:cNvSpPr>
          <p:nvPr>
            <p:ph/>
          </p:nvPr>
        </p:nvSpPr>
        <p:spPr>
          <a:xfrm>
            <a:off x="1066320" y="2361960"/>
            <a:ext cx="7759800" cy="34290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INGEN AV SPILLERN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ter at meldingsforløpet er avsluttet uten at noen av spillerne har avgitt bud, legges hendene tilbake i mappen uten at det spilles. Det skal ikke gis om igjen.</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ÉN ELLER FLERE SPILLERE HAR AVGITT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noen av spillerne har avgitt bud, vil det avsluttende budet fastsette kontrakten, og spillet begynner.</a:t>
            </a:r>
            <a:endParaRPr b="1" lang="en-US" sz="18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3 NÅR DET FORVOLDES SKADE VED IRREGULÆR PASS</a:t>
            </a:r>
            <a:endParaRPr b="1" i="1" lang="en-US" sz="2800" spc="-1" strike="noStrike">
              <a:solidFill>
                <a:srgbClr val="808000"/>
              </a:solidFill>
              <a:latin typeface="Arial"/>
            </a:endParaRPr>
          </a:p>
        </p:txBody>
      </p:sp>
      <p:sp>
        <p:nvSpPr>
          <p:cNvPr id="217" name="PlaceHolder 2"/>
          <p:cNvSpPr>
            <a:spLocks noGrp="1"/>
          </p:cNvSpPr>
          <p:nvPr>
            <p:ph/>
          </p:nvPr>
        </p:nvSpPr>
        <p:spPr>
          <a:xfrm>
            <a:off x="1072800" y="1980720"/>
            <a:ext cx="7759800" cy="312444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I mange andre paragrafer som foreskriver straff for lovbrudd under meldingsforløpet, vil det bli vist til denne paragrafen.</a:t>
            </a:r>
            <a:br>
              <a:rPr sz="2400"/>
            </a:br>
            <a:br>
              <a:rPr sz="2400"/>
            </a:br>
            <a:r>
              <a:rPr b="1" lang="nb-NO" sz="2400" spc="-1" strike="noStrike">
                <a:solidFill>
                  <a:srgbClr val="000000"/>
                </a:solidFill>
                <a:latin typeface="Arial"/>
              </a:rPr>
              <a:t>Når straffen for en uregelmessighet vil tvinge den feilendes makker til å passe ved neste tur, og TL finner at den feilende på det tidspunkt da feilen ble begått kunne vite at den tvungne pass sannsynligvis ville skade den ikke-feilende side, skal han forlange at meldingene og spillet fortsetter og vurdere tildeling av justert score (se §72B1).</a:t>
            </a:r>
            <a:endParaRPr b="1" lang="en-US" sz="2400" spc="-1" strike="noStrike">
              <a:solidFill>
                <a:srgbClr val="000000"/>
              </a:solidFill>
              <a:latin typeface="Arial"/>
            </a:endParaRPr>
          </a:p>
          <a:p>
            <a:pPr marL="2426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1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Når turneringslederen finner at en spiller under meldingsforløpet har opptrådt slik at ett eller flere av spillerens kort er vist med fremsiden synlig for hans makker, skal TL forlange at kortet eller kortene blir lagt på bordet med fremsiden opp </a:t>
            </a:r>
            <a:r>
              <a:rPr b="1" i="1" lang="nb-NO" sz="2400" spc="-1" strike="noStrike">
                <a:solidFill>
                  <a:srgbClr val="000000"/>
                </a:solidFill>
                <a:latin typeface="Arial"/>
              </a:rPr>
              <a:t>og bli liggende slik til meldingsforløpet er avsluttet. hvis den feilende deretter blir motspiller, kan spillefører behandle kortet eller kortene som straffekort</a:t>
            </a:r>
            <a:r>
              <a:rPr b="1" lang="nb-NO" sz="2400" spc="-1" strike="noStrike">
                <a:solidFill>
                  <a:srgbClr val="000000"/>
                </a:solidFill>
                <a:latin typeface="Arial"/>
              </a:rPr>
              <a:t> (§50).</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Dessuten:</a:t>
            </a:r>
            <a:endParaRPr b="1"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4. KORT SOM ER VIST ELLER SPILT UT UNDER MELDINGSFORLØPET</a:t>
            </a:r>
            <a:endParaRPr b="1" i="1" lang="en-US" sz="2800" spc="-1" strike="noStrike">
              <a:solidFill>
                <a:srgbClr val="808000"/>
              </a:solidFill>
              <a:latin typeface="Arial"/>
            </a:endParaRPr>
          </a:p>
        </p:txBody>
      </p:sp>
      <p:sp>
        <p:nvSpPr>
          <p:cNvPr id="221" name="PlaceHolder 2"/>
          <p:cNvSpPr>
            <a:spLocks noGrp="1"/>
          </p:cNvSpPr>
          <p:nvPr>
            <p:ph/>
          </p:nvPr>
        </p:nvSpPr>
        <p:spPr>
          <a:xfrm>
            <a:off x="907560" y="1905120"/>
            <a:ext cx="775980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A LAVT KORT SOM IKKE ER SPILT UT FOR TIDLIG</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dreier seg om et enkelt kort med rang lavere enn honnør, og det ikke er spilt ut for tidlig, blir det ikke ytterligere straff.</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B ET ENKELT HONNØRKORT ELLER ET FOR TIDLIG UTSPILT KOR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t er et honnørkort som er vist eller et hvilket som helst kort som er spilt ut for tidlig, er straffen at den feilendes makker må passe neste gang det er hans tur til å melde </a:t>
            </a:r>
            <a:r>
              <a:rPr b="0" i="1" lang="nb-NO" sz="1800" spc="-1" strike="noStrike">
                <a:solidFill>
                  <a:srgbClr val="000000"/>
                </a:solidFill>
                <a:latin typeface="Arial"/>
              </a:rPr>
              <a:t>(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C TO ELLER FLERE KORT ER FREMVIST</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to eller flere kort er fremvist, er straffen at den feilendes makker må passe neste gang det er hans tur til å melde</a:t>
            </a:r>
            <a:r>
              <a:rPr b="0" i="1" lang="nb-NO" sz="1800" spc="-1" strike="noStrike">
                <a:solidFill>
                  <a:srgbClr val="000000"/>
                </a:solidFill>
                <a:latin typeface="Arial"/>
              </a:rPr>
              <a:t> (se §23 når det gjelder en pass som skader den ikke-feilende side)</a:t>
            </a:r>
            <a:r>
              <a:rPr b="1" lang="nb-NO" sz="1800" spc="-1" strike="noStrike">
                <a:solidFill>
                  <a:srgbClr val="000000"/>
                </a:solidFill>
                <a:latin typeface="Arial"/>
              </a:rPr>
              <a:t>.</a:t>
            </a:r>
            <a:endParaRPr b="1"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OMGÅENDE ENDRING AV MELDING</a:t>
            </a:r>
            <a:br>
              <a:rPr sz="2400"/>
            </a:br>
            <a:r>
              <a:rPr b="1" lang="nb-NO" sz="1800" spc="-1" strike="noStrike">
                <a:solidFill>
                  <a:srgbClr val="000000"/>
                </a:solidFill>
                <a:latin typeface="Arial"/>
              </a:rPr>
              <a:t>Helt til hans makker har avgitt en påfølgende melding, kan en spiller bytte ut en melding avgitt i vanvare med den melding spilleren hadde planlagt å avgi, men bare hvis han gjør det eller forsøker å gjøre det umiddelbart** ("i samme åndedrag"). Hvis den sist avgitte melding er lovlig, blir den stående uten straff.</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Ved bruk av meldebokser kan en spiller forandre sin melding hvis det er åpenbart at han ikke hadde til hensikt å avgi den melding som er lagt på bordet. Rettelsen kan ikke gjøres som følge av at spilleren har ombestemt seg.</a:t>
            </a:r>
            <a:endParaRPr b="1" lang="en-US" sz="18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FORSINKET ELLER OVERLAGT ENDRING</a:t>
            </a:r>
            <a:br>
              <a:rPr sz="2400"/>
            </a:br>
            <a:r>
              <a:rPr b="1" lang="nb-NO" sz="1800" spc="-1" strike="noStrike">
                <a:solidFill>
                  <a:srgbClr val="000000"/>
                </a:solidFill>
                <a:latin typeface="Arial"/>
              </a:rPr>
              <a:t>En melding kan endres før VM har meldt, men hvis den blir byttet ut på en måte som er i strid med pkt. A ovenfor skjer følgende:</a:t>
            </a:r>
            <a:br>
              <a:rPr sz="1800"/>
            </a:br>
            <a:br>
              <a:rPr sz="2400"/>
            </a:br>
            <a:r>
              <a:rPr b="1" lang="nb-NO" sz="1800" spc="-1" strike="noStrike">
                <a:solidFill>
                  <a:srgbClr val="000000"/>
                </a:solidFill>
                <a:latin typeface="CG Times"/>
              </a:rPr>
              <a:t>1. DEN SISTE AVGITTE MELDING KAN AKSEPTERES</a:t>
            </a:r>
            <a:br>
              <a:rPr sz="2400"/>
            </a:br>
            <a:r>
              <a:rPr b="0" lang="nb-NO" sz="1800" spc="-1" strike="noStrike">
                <a:solidFill>
                  <a:srgbClr val="000000"/>
                </a:solidFill>
                <a:latin typeface="Arial"/>
              </a:rPr>
              <a:t>Den sist avgitte melding kan bli akseptert (behandlet som lovlig) dersom den feilendes VM godtar den*. I så fall blir den stående, og meldingsforløpet fortsetter uten straff. Hvis den feilendes VM har meldt før lovbruddet er blitt påtalt, og TL finner at VM avga sin melding ut fra den feilendes opprinnelige melding, vil den feilendes sist avgitte melding bli stående uten straff, og VM kan trekke tilbake sin melding uten straff (men se §16C2).</a:t>
            </a:r>
            <a:endParaRPr b="1" lang="en-US" sz="1800" spc="-1" strike="noStrike">
              <a:solidFill>
                <a:srgbClr val="000000"/>
              </a:solidFill>
              <a:latin typeface="Arial"/>
            </a:endParaRPr>
          </a:p>
          <a:p>
            <a:pPr marL="28584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gn="just">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	</a:t>
            </a:r>
            <a:r>
              <a:rPr b="0" lang="nb-NO" sz="1400" spc="-1" strike="noStrike">
                <a:solidFill>
                  <a:srgbClr val="000000"/>
                </a:solidFill>
                <a:latin typeface="Arial"/>
              </a:rPr>
              <a:t>*Hvis det opprinnelige budet var utilstrekkelig anvendes §27.</a:t>
            </a:r>
            <a:endParaRPr b="1" lang="en-US" sz="1400" spc="-1" strike="noStrike">
              <a:solidFill>
                <a:srgbClr val="000000"/>
              </a:solidFill>
              <a:latin typeface="Arial"/>
            </a:endParaRPr>
          </a:p>
          <a:p>
            <a:pPr marL="2858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N SIST AVGITTE MELDING BLIR IKKE AKSEPTER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sist avgitte melding ikke blir akseptert, blir den annullert. Dessuten gjelder følgend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a:t>
            </a:r>
            <a:r>
              <a:rPr b="0" lang="nb-NO" sz="1800" spc="-1" strike="noStrike">
                <a:solidFill>
                  <a:srgbClr val="000000"/>
                </a:solidFill>
                <a:latin typeface="Arial"/>
              </a:rPr>
              <a:t>	</a:t>
            </a:r>
            <a:r>
              <a:rPr b="0" lang="nb-NO" sz="1800" spc="-1" strike="noStrike">
                <a:solidFill>
                  <a:srgbClr val="000000"/>
                </a:solidFill>
                <a:latin typeface="Arial"/>
              </a:rPr>
              <a:t>DEN FØRSTE MELDING VAR U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av ulovlig, blir den feilende straffet etter den paragraf som kommer til anvendelse for lovbruddet</a:t>
            </a:r>
            <a:r>
              <a:rPr b="0" i="1" lang="nb-NO" sz="1800" spc="-1" strike="noStrike">
                <a:solidFill>
                  <a:srgbClr val="000000"/>
                </a:solidFill>
                <a:latin typeface="Arial"/>
              </a:rPr>
              <a:t> (og bestemmelsene om utspillsstraff i §26 kan komme til anvendelse overfor den sist avgitte meld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a:t>
            </a:r>
            <a:r>
              <a:rPr b="0" lang="nb-NO" sz="1800" spc="-1" strike="noStrike">
                <a:solidFill>
                  <a:srgbClr val="000000"/>
                </a:solidFill>
                <a:latin typeface="Arial"/>
              </a:rPr>
              <a:t>	</a:t>
            </a:r>
            <a:r>
              <a:rPr b="0" lang="nb-NO" sz="1800" spc="-1" strike="noStrike">
                <a:solidFill>
                  <a:srgbClr val="000000"/>
                </a:solidFill>
                <a:latin typeface="Arial"/>
              </a:rPr>
              <a:t>DEN FØRSTE MELDING VAR LOVLI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ørst avgitte melding var lovlig, må den feilende enten:</a:t>
            </a:r>
            <a:endParaRPr b="1"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5. LOVLIGE OG ULOVLIGE ENDRINGER AV MELDING</a:t>
            </a:r>
            <a:endParaRPr b="1" i="1" lang="en-US" sz="2800" spc="-1" strike="noStrike">
              <a:solidFill>
                <a:srgbClr val="808000"/>
              </a:solidFill>
              <a:latin typeface="Arial"/>
            </a:endParaRPr>
          </a:p>
        </p:txBody>
      </p:sp>
      <p:sp>
        <p:nvSpPr>
          <p:cNvPr id="22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9000"/>
          </a:bodyPr>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LA DEN FØRSTE MELDING BLI STÅEND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La den først avgitte melding bli stående, og i så fall er straffen at den feilendes makker må passe neste gang denne er i tur til å melde </a:t>
            </a:r>
            <a:r>
              <a:rPr b="0" i="1" lang="nb-NO" sz="1800" spc="-1" strike="noStrike">
                <a:solidFill>
                  <a:srgbClr val="000000"/>
                </a:solidFill>
                <a:latin typeface="Arial"/>
              </a:rPr>
              <a:t>(se §23 når det gjelder pass som skader den ikke-feilende side)</a:t>
            </a:r>
            <a:r>
              <a:rPr b="0" lang="nb-NO" sz="1800" spc="-1" strike="noStrike">
                <a:solidFill>
                  <a:srgbClr val="000000"/>
                </a:solidFill>
                <a:latin typeface="Arial"/>
              </a:rPr>
              <a:t> - eller:</a:t>
            </a:r>
            <a:endParaRPr b="1" lang="en-US" sz="1800" spc="-1" strike="noStrike">
              <a:solidFill>
                <a:srgbClr val="000000"/>
              </a:solidFill>
              <a:latin typeface="Arial"/>
            </a:endParaRPr>
          </a:p>
          <a:p>
            <a:pPr lvl="1" marL="678600" indent="-22608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2)</a:t>
            </a:r>
            <a:r>
              <a:rPr b="0" lang="nb-NO" sz="1800" spc="-1" strike="noStrike">
                <a:solidFill>
                  <a:srgbClr val="000000"/>
                </a:solidFill>
                <a:latin typeface="Arial"/>
              </a:rPr>
              <a:t>	</a:t>
            </a:r>
            <a:r>
              <a:rPr b="0" lang="nb-NO" sz="1800" spc="-1" strike="noStrike">
                <a:solidFill>
                  <a:srgbClr val="000000"/>
                </a:solidFill>
                <a:latin typeface="Arial"/>
              </a:rPr>
              <a:t>AVGI EN ANNEN MELDING</a:t>
            </a:r>
            <a:br>
              <a:rPr sz="1800"/>
            </a:br>
            <a:r>
              <a:rPr b="0" lang="nb-NO" sz="1800" spc="-1" strike="noStrike">
                <a:solidFill>
                  <a:srgbClr val="000000"/>
                </a:solidFill>
                <a:latin typeface="Arial"/>
              </a:rPr>
              <a:t>Avgi en hvilken som helst annen lovlig melding, i så fall fortsetter budgivningen som normalt (men den feilendes makker kan ikke basere noen melding på informasjon fra den tilbaketrukne meldingen); den feilende side* kan ikke oppnå større score enn middels minus (se §12C1).</a:t>
            </a:r>
            <a:br>
              <a:rPr sz="1800"/>
            </a:br>
            <a:r>
              <a:rPr b="0" lang="nb-NO" sz="1400" spc="-1" strike="noStrike">
                <a:solidFill>
                  <a:srgbClr val="000000"/>
                </a:solidFill>
                <a:latin typeface="Arial"/>
              </a:rPr>
              <a:t>*Den ikke-feilende side får den scoren de oppnådde på spillet.</a:t>
            </a:r>
            <a:endParaRPr b="1" lang="en-US" sz="1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 UTSPILLSSTRAFF</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Både i tilfelle b1) og b2) ovenfor, vil den feilendes makker bli ilagt en utspillsstraff (se §26) hvis han blir motspiller.</a:t>
            </a:r>
            <a:endParaRPr b="1"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DEFINISJONER </a:t>
            </a:r>
            <a:endParaRPr b="1" i="1" lang="en-US" sz="2800" spc="-1" strike="noStrike">
              <a:solidFill>
                <a:srgbClr val="808000"/>
              </a:solidFill>
              <a:latin typeface="Arial"/>
            </a:endParaRPr>
          </a:p>
        </p:txBody>
      </p:sp>
      <p:sp>
        <p:nvSpPr>
          <p:cNvPr id="69" name="PlaceHolder 2"/>
          <p:cNvSpPr>
            <a:spLocks noGrp="1"/>
          </p:cNvSpPr>
          <p:nvPr>
            <p:ph/>
          </p:nvPr>
        </p:nvSpPr>
        <p:spPr>
          <a:xfrm>
            <a:off x="1072800" y="1828440"/>
            <a:ext cx="7759800" cy="4419720"/>
          </a:xfrm>
          <a:prstGeom prst="rect">
            <a:avLst/>
          </a:prstGeom>
          <a:noFill/>
          <a:ln w="0">
            <a:noFill/>
          </a:ln>
        </p:spPr>
        <p:txBody>
          <a:bodyPr lIns="90360" rIns="90360" tIns="44280" bIns="44280" anchor="t">
            <a:normAutofit/>
          </a:bodyPr>
          <a:p>
            <a:pPr marL="2858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Konvensj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1. En melding som i følge makkerskapsavtale formidler</a:t>
            </a:r>
            <a:br>
              <a:rPr sz="1800"/>
            </a:br>
            <a:r>
              <a:rPr b="1" lang="nb-NO" sz="1800" spc="-1" strike="noStrike">
                <a:solidFill>
                  <a:srgbClr val="000000"/>
                </a:solidFill>
                <a:latin typeface="Arial"/>
              </a:rPr>
              <a:t>    en annen betydning enn:</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 et ønske om å spille i angitte benevnelse </a:t>
            </a:r>
            <a:br>
              <a:rPr sz="1800"/>
            </a:br>
            <a:r>
              <a:rPr b="1" lang="nb-NO" sz="1800" spc="-1" strike="noStrike">
                <a:solidFill>
                  <a:srgbClr val="000000"/>
                </a:solidFill>
                <a:latin typeface="Arial"/>
              </a:rPr>
              <a:t>	</a:t>
            </a:r>
            <a:r>
              <a:rPr b="1" lang="nb-NO" sz="1800" spc="-1" strike="noStrike">
                <a:solidFill>
                  <a:srgbClr val="000000"/>
                </a:solidFill>
                <a:latin typeface="Arial"/>
              </a:rPr>
              <a:t>  (eller den sist angitte benevnelse)</a:t>
            </a:r>
            <a:br>
              <a:rPr sz="1800"/>
            </a:br>
            <a:r>
              <a:rPr b="1" lang="nb-NO" sz="1800" spc="-1" strike="noStrike">
                <a:solidFill>
                  <a:srgbClr val="000000"/>
                </a:solidFill>
                <a:latin typeface="Arial"/>
              </a:rPr>
              <a:t>	</a:t>
            </a:r>
            <a:r>
              <a:rPr b="1" lang="nb-NO" sz="1800" spc="-1" strike="noStrike">
                <a:solidFill>
                  <a:srgbClr val="000000"/>
                </a:solidFill>
                <a:latin typeface="Arial"/>
              </a:rPr>
              <a:t>* honnørstyrke i fargen</a:t>
            </a:r>
            <a:br>
              <a:rPr sz="1800"/>
            </a:br>
            <a:r>
              <a:rPr b="1" lang="nb-NO" sz="1800" spc="-1" strike="noStrike">
                <a:solidFill>
                  <a:srgbClr val="000000"/>
                </a:solidFill>
                <a:latin typeface="Arial"/>
              </a:rPr>
              <a:t>	</a:t>
            </a:r>
            <a:r>
              <a:rPr b="1" lang="nb-NO" sz="1800" spc="-1" strike="noStrike">
                <a:solidFill>
                  <a:srgbClr val="000000"/>
                </a:solidFill>
                <a:latin typeface="Arial"/>
              </a:rPr>
              <a:t>* lengde i fargen(minst 3 kort).</a:t>
            </a:r>
            <a:br>
              <a:rPr sz="1800"/>
            </a:br>
            <a:br>
              <a:rPr sz="1800"/>
            </a:br>
            <a:r>
              <a:rPr b="1" lang="nb-NO" sz="1800" spc="-1" strike="noStrike">
                <a:solidFill>
                  <a:srgbClr val="000000"/>
                </a:solidFill>
                <a:latin typeface="Arial"/>
              </a:rPr>
              <a:t>	</a:t>
            </a:r>
            <a:r>
              <a:rPr b="1" lang="nb-NO" sz="1800" spc="-1" strike="noStrike">
                <a:solidFill>
                  <a:srgbClr val="000000"/>
                </a:solidFill>
                <a:latin typeface="Arial"/>
              </a:rPr>
              <a:t>En avtale bare om generell styrke innebærer imidlertid</a:t>
            </a:r>
            <a:br>
              <a:rPr sz="1800"/>
            </a:br>
            <a:r>
              <a:rPr b="1" lang="nb-NO" sz="1800" spc="-1" strike="noStrike">
                <a:solidFill>
                  <a:srgbClr val="000000"/>
                </a:solidFill>
                <a:latin typeface="Arial"/>
              </a:rPr>
              <a:t>    ikke at et bud er konvensjonelt.</a:t>
            </a:r>
            <a:endParaRPr b="1" lang="en-US" sz="1800" spc="-1" strike="noStrike">
              <a:solidFill>
                <a:srgbClr val="000000"/>
              </a:solidFill>
              <a:latin typeface="Arial"/>
            </a:endParaRPr>
          </a:p>
          <a:p>
            <a:pPr lvl="1" marL="6858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 En makkeravtale om en motspillsmåte som har en</a:t>
            </a:r>
            <a:br>
              <a:rPr sz="1800"/>
            </a:br>
            <a:r>
              <a:rPr b="1" lang="nb-NO" sz="1800" spc="-1" strike="noStrike">
                <a:solidFill>
                  <a:srgbClr val="000000"/>
                </a:solidFill>
                <a:latin typeface="Arial"/>
              </a:rPr>
              <a:t>    betydning som må tolkes etter avtale snarere enn </a:t>
            </a:r>
            <a:br>
              <a:rPr sz="1800"/>
            </a:br>
            <a:r>
              <a:rPr b="1" lang="nb-NO" sz="1800" spc="-1" strike="noStrike">
                <a:solidFill>
                  <a:srgbClr val="000000"/>
                </a:solidFill>
                <a:latin typeface="Arial"/>
              </a:rPr>
              <a:t>    ved logisk slutning.</a:t>
            </a:r>
            <a:endParaRPr b="1" lang="en-US" sz="1800" spc="-1" strike="noStrike">
              <a:solidFill>
                <a:srgbClr val="000000"/>
              </a:solidFill>
              <a:latin typeface="Arial"/>
            </a:endParaRPr>
          </a:p>
          <a:p>
            <a:pPr lvl="3" marL="154296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1" name="PlaceHolder 2"/>
          <p:cNvSpPr>
            <a:spLocks noGrp="1"/>
          </p:cNvSpPr>
          <p:nvPr>
            <p:ph/>
          </p:nvPr>
        </p:nvSpPr>
        <p:spPr>
          <a:xfrm>
            <a:off x="1072800" y="1828800"/>
            <a:ext cx="7759800" cy="4114800"/>
          </a:xfrm>
          <a:prstGeom prst="rect">
            <a:avLst/>
          </a:prstGeom>
          <a:noFill/>
          <a:ln w="0">
            <a:noFill/>
          </a:ln>
        </p:spPr>
        <p:txBody>
          <a:bodyPr lIns="90360" rIns="90360" tIns="44280" bIns="44280" anchor="t">
            <a:normAutofit/>
          </a:bodyPr>
          <a:p>
            <a:pPr lvl="1" marL="685800" indent="-228600">
              <a:lnSpc>
                <a:spcPct val="90000"/>
              </a:lnSpc>
              <a:spcBef>
                <a:spcPts val="751"/>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000" spc="-1" strike="noStrike">
                <a:solidFill>
                  <a:srgbClr val="000000"/>
                </a:solidFill>
                <a:latin typeface="Arial"/>
              </a:rPr>
              <a:t>Når en feilende spiller trekker tilbake en melding og velger å avgi en annen* melding som sin endelige i denne tur, vil følgende skje dersom han blir motspiller:</a:t>
            </a:r>
            <a:endParaRPr b="1" lang="en-US" sz="2000" spc="-1" strike="noStrike">
              <a:solidFill>
                <a:srgbClr val="000000"/>
              </a:solidFill>
              <a:latin typeface="Arial"/>
            </a:endParaRPr>
          </a:p>
          <a:p>
            <a:pPr lvl="1" marL="685800" indent="-228600">
              <a:lnSpc>
                <a:spcPct val="90000"/>
              </a:lnSpc>
              <a:spcBef>
                <a:spcPts val="524"/>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400" spc="-1" strike="noStrike">
                <a:solidFill>
                  <a:srgbClr val="000000"/>
                </a:solidFill>
                <a:latin typeface="Arial"/>
              </a:rPr>
              <a:t>*En melding som gjentas med en helt annen betydning, skal betraktes som en annen melding.</a:t>
            </a:r>
            <a:endParaRPr b="1" lang="en-US" sz="1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MELDINGEN HENVISTE TIL EN BESTEMT FA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den tilbaketrukne melding henviste til en bestemt farge eller bestemte farger, o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a:t>
            </a:r>
            <a:r>
              <a:rPr b="0" lang="nb-NO" sz="1800" spc="-1" strike="noStrike">
                <a:solidFill>
                  <a:srgbClr val="000000"/>
                </a:solidFill>
                <a:latin typeface="Arial"/>
              </a:rPr>
              <a:t>	</a:t>
            </a:r>
            <a:r>
              <a:rPr b="0" lang="nb-NO" sz="1800" spc="-1" strike="noStrike">
                <a:solidFill>
                  <a:srgbClr val="000000"/>
                </a:solidFill>
                <a:latin typeface="Arial"/>
              </a:rPr>
              <a:t>FARGEN BLIR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blir vist senere i meldingsforløpet av samme spiller, blir det ingen utspillsstraff, men se §16C.</a:t>
            </a:r>
            <a:endParaRPr b="1"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FARGEN BLIR IKKE VIST SENER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ne fargen ikke blir vist senere i meldingsforløpet av samme spiller, kan spillefører enten</a:t>
            </a:r>
            <a:r>
              <a:rPr b="0" lang="nb-NO" sz="1800" spc="-1" strike="noStrike">
                <a:solidFill>
                  <a:srgbClr val="000000"/>
                </a:solidFill>
                <a:latin typeface="CG Times"/>
              </a:rPr>
              <a:t> </a:t>
            </a:r>
            <a:br>
              <a:rPr sz="1800"/>
            </a:br>
            <a:r>
              <a:rPr b="0" lang="nb-NO" sz="1800" spc="-1" strike="noStrike">
                <a:solidFill>
                  <a:srgbClr val="000000"/>
                </a:solidFill>
                <a:latin typeface="CG Times"/>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1) forlange, at den feilendes makker spiller ut denne fargen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eller hvis meldingen henviste til flere farger, én bestemt av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disse farger) første gang han har utspillet, innbefatt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åpningsutspillet; eller</a:t>
            </a:r>
            <a:br>
              <a:rPr sz="1800"/>
            </a:br>
            <a:br>
              <a:rPr sz="1800"/>
            </a:br>
            <a:r>
              <a:rPr b="0" lang="nb-NO" sz="1800" spc="-1" strike="noStrike">
                <a:solidFill>
                  <a:srgbClr val="000000"/>
                </a:solidFill>
                <a:latin typeface="Arial"/>
              </a:rPr>
              <a:t>2) forby den feilendes makker å spille ut denne farge (eller hvis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meldingen henviste til flere farger, én bestemt av disse farger)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ørste gang han har utspillet, innbefattet åpningsutspillet, og dette </a:t>
            </a:r>
            <a:r>
              <a:rPr b="0" lang="nb-NO" sz="1800" spc="-1" strike="noStrike">
                <a:solidFill>
                  <a:srgbClr val="000000"/>
                </a:solidFill>
                <a:latin typeface="Arial"/>
              </a:rPr>
              <a:t>	</a:t>
            </a:r>
            <a:r>
              <a:rPr b="0" lang="nb-NO" sz="1800" spc="-1" strike="noStrike">
                <a:solidFill>
                  <a:srgbClr val="000000"/>
                </a:solidFill>
                <a:latin typeface="Arial"/>
              </a:rPr>
              <a:t>forbudet gjelder så lenge han beholder utspille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6. TILBAKETRUKKET MELDING - UTSPILLSSTRAFF</a:t>
            </a:r>
            <a:endParaRPr b="1" i="1" lang="en-US" sz="2800" spc="-1" strike="noStrike">
              <a:solidFill>
                <a:srgbClr val="808000"/>
              </a:solidFill>
              <a:latin typeface="Arial"/>
            </a:endParaRPr>
          </a:p>
        </p:txBody>
      </p:sp>
      <p:sp>
        <p:nvSpPr>
          <p:cNvPr id="235" name="PlaceHolder 2"/>
          <p:cNvSpPr>
            <a:spLocks noGrp="1"/>
          </p:cNvSpPr>
          <p:nvPr>
            <p:ph/>
          </p:nvPr>
        </p:nvSpPr>
        <p:spPr>
          <a:xfrm>
            <a:off x="990720" y="1828800"/>
            <a:ext cx="775944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DRE MELDINGER SOM TREKKES TILBAK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Når det gjelder andre meldinger som blir trukket tilbake, kan spilleføreren forby den feilendes makker å spille ut én bestemt farge* første gang han skal spille ut, innbefattet åpningsutspillet, og et slikt forbud gjelder så lenge den feilendes makker beholder utspillet.</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Spilleføreren spesifiserer denne fargen første gang den feilendes makker får utspillet.</a:t>
            </a:r>
            <a:endParaRPr b="1" lang="en-US" sz="18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GODTAGELSE AV UTILSTREKKELIG BU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thvert utilstrekkelig bud kan bli godtatt </a:t>
            </a:r>
            <a:r>
              <a:rPr b="0" i="1" lang="nb-NO" sz="1800" spc="-1" strike="noStrike">
                <a:solidFill>
                  <a:srgbClr val="000000"/>
                </a:solidFill>
                <a:latin typeface="Arial"/>
              </a:rPr>
              <a:t>(behandlet som lovlig)</a:t>
            </a:r>
            <a:r>
              <a:rPr b="1" lang="nb-NO" sz="1800" spc="-1" strike="noStrike">
                <a:solidFill>
                  <a:srgbClr val="000000"/>
                </a:solidFill>
                <a:latin typeface="Arial"/>
              </a:rPr>
              <a:t> dersom den feilendes VM velger å gjøre det. Hvis denne spilleren melder, er det automatisk godtat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UTILSTREKKELIG BUD SOM IKKE BLIR GODTAT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t utilstrekkelig bud som er avgitt i riktig tur ikke blir godtatt, skal det rettes til et tilstrekkelig bud eller pass. </a:t>
            </a:r>
            <a:br>
              <a:rPr sz="1800"/>
            </a:br>
            <a:br>
              <a:rPr sz="1800"/>
            </a:br>
            <a:r>
              <a:rPr b="1" lang="nb-NO" sz="1800" spc="-1" strike="noStrike">
                <a:solidFill>
                  <a:srgbClr val="000000"/>
                </a:solidFill>
                <a:latin typeface="Arial"/>
              </a:rPr>
              <a:t>1.</a:t>
            </a:r>
            <a:r>
              <a:rPr b="1" lang="nb-NO" sz="1800" spc="-1" strike="noStrike">
                <a:solidFill>
                  <a:srgbClr val="000000"/>
                </a:solidFill>
                <a:latin typeface="Arial"/>
              </a:rPr>
              <a:t>	</a:t>
            </a:r>
            <a:r>
              <a:rPr b="1" lang="nb-NO" sz="1800" spc="-1" strike="noStrike">
                <a:solidFill>
                  <a:srgbClr val="000000"/>
                </a:solidFill>
                <a:latin typeface="Arial"/>
              </a:rPr>
              <a:t>DET UTILSTREKKELIGE BUD ER IKKE KON-VENSJONELT, OG BLIR ERSTATTET MED LAVESTE TILSTREKKELIGE MED SAMME BENEVNELSE</a:t>
            </a:r>
            <a:r>
              <a:rPr b="1" lang="nb-NO" sz="1800" spc="-1" strike="noStrike">
                <a:solidFill>
                  <a:srgbClr val="000000"/>
                </a:solidFill>
                <a:latin typeface="CG Times"/>
              </a:rPr>
              <a:t>	</a:t>
            </a:r>
            <a:endParaRPr b="1"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3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a) INGEN STRAFF</a:t>
            </a:r>
            <a:br>
              <a:rPr sz="1800"/>
            </a:br>
            <a:r>
              <a:rPr b="0" lang="nb-NO" sz="1800" spc="-1" strike="noStrike">
                <a:solidFill>
                  <a:srgbClr val="000000"/>
                </a:solidFill>
                <a:latin typeface="Arial"/>
              </a:rPr>
              <a:t>	</a:t>
            </a:r>
            <a:r>
              <a:rPr b="0" lang="nb-NO" sz="1800" spc="-1" strike="noStrike">
                <a:solidFill>
                  <a:srgbClr val="000000"/>
                </a:solidFill>
                <a:latin typeface="Arial"/>
              </a:rPr>
              <a:t>Hvis det viser seg helt uimotsigelig at både det utilstrekkelige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budet og det korrigerte budet ikke var konvensjonelt, og dersom </a:t>
            </a:r>
            <a:r>
              <a:rPr b="0" lang="nb-NO" sz="1800" spc="-1" strike="noStrike">
                <a:solidFill>
                  <a:srgbClr val="000000"/>
                </a:solidFill>
                <a:latin typeface="Arial"/>
              </a:rPr>
              <a:t>	</a:t>
            </a:r>
            <a:r>
              <a:rPr b="0" lang="nb-NO" sz="1800" spc="-1" strike="noStrike">
                <a:solidFill>
                  <a:srgbClr val="000000"/>
                </a:solidFill>
                <a:latin typeface="Arial"/>
              </a:rPr>
              <a:t>budet blir korrigert med lavest mulig tilstrekkelige bud med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samme  benevnelse, fortsetter meldingene som om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uregelmessigheten ikke var skjedd (§12C2 kommer ikke til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anvendelse i denne situasjonen, men se pkt. b) nedenfor).</a:t>
            </a:r>
            <a:br>
              <a:rPr sz="1800"/>
            </a:br>
            <a:br>
              <a:rPr sz="1800"/>
            </a:br>
            <a:r>
              <a:rPr b="0" lang="nb-NO" sz="1800" spc="-1" strike="noStrike">
                <a:solidFill>
                  <a:srgbClr val="000000"/>
                </a:solidFill>
                <a:latin typeface="Arial"/>
              </a:rPr>
              <a:t>b) TILDELING AV JUSTERT RESULTAT</a:t>
            </a:r>
            <a:br>
              <a:rPr sz="1800"/>
            </a:br>
            <a:r>
              <a:rPr b="0" lang="nb-NO" sz="2400" spc="-1" strike="noStrike">
                <a:solidFill>
                  <a:srgbClr val="000000"/>
                </a:solidFill>
                <a:latin typeface="Arial"/>
              </a:rPr>
              <a:t>	</a:t>
            </a:r>
            <a:r>
              <a:rPr b="0" lang="nb-NO" sz="1800" spc="-1" strike="noStrike">
                <a:solidFill>
                  <a:srgbClr val="000000"/>
                </a:solidFill>
                <a:latin typeface="Arial"/>
              </a:rPr>
              <a:t>Hvis turneringslederen dømmer at det utilstrekkelige budet </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ormidlet såpass vesentlig informasjon at det skadet den ikke-</a:t>
            </a:r>
            <a:r>
              <a:rPr b="0" lang="nb-NO" sz="1800" spc="-1" strike="noStrike">
                <a:solidFill>
                  <a:srgbClr val="000000"/>
                </a:solidFill>
                <a:latin typeface="Arial"/>
              </a:rPr>
              <a:t>	</a:t>
            </a:r>
            <a:r>
              <a:rPr b="0" lang="nb-NO" sz="1800" spc="-1" strike="noStrike">
                <a:solidFill>
                  <a:srgbClr val="000000"/>
                </a:solidFill>
                <a:latin typeface="Arial"/>
              </a:rPr>
              <a:t>	</a:t>
            </a:r>
            <a:r>
              <a:rPr b="0" lang="nb-NO" sz="1800" spc="-1" strike="noStrike">
                <a:solidFill>
                  <a:srgbClr val="000000"/>
                </a:solidFill>
                <a:latin typeface="Arial"/>
              </a:rPr>
              <a:t>feilende side, skal TL tildele et justert resultat.</a:t>
            </a:r>
            <a:endParaRPr b="1" lang="en-US" sz="18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1" name="PlaceHolder 2"/>
          <p:cNvSpPr>
            <a:spLocks noGrp="1"/>
          </p:cNvSpPr>
          <p:nvPr>
            <p:ph/>
          </p:nvPr>
        </p:nvSpPr>
        <p:spPr>
          <a:xfrm>
            <a:off x="990720" y="1905120"/>
            <a:ext cx="775944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2.</a:t>
            </a:r>
            <a:r>
              <a:rPr b="1" lang="nb-NO" sz="1800" spc="-1" strike="noStrike">
                <a:solidFill>
                  <a:srgbClr val="000000"/>
                </a:solidFill>
                <a:latin typeface="Arial"/>
              </a:rPr>
              <a:t>	</a:t>
            </a:r>
            <a:r>
              <a:rPr b="1" lang="nb-NO" sz="1800" spc="-1" strike="noStrike">
                <a:solidFill>
                  <a:srgbClr val="000000"/>
                </a:solidFill>
                <a:latin typeface="Arial"/>
              </a:rPr>
              <a:t>DET UTILSTREKKELIGE BUD VAR KONVENSJONELT, ELLER DET BLIR KORRIGERT MED ET HVILKET SOM HELST ANNET BUD ELLER MED PASS</a:t>
            </a:r>
            <a:br>
              <a:rPr sz="1800"/>
            </a:br>
            <a:br>
              <a:rPr sz="1800"/>
            </a:br>
            <a:r>
              <a:rPr b="0" lang="nb-NO" sz="1800" spc="-1" strike="noStrike">
                <a:solidFill>
                  <a:srgbClr val="000000"/>
                </a:solidFill>
                <a:latin typeface="Arial"/>
              </a:rPr>
              <a:t>Dersom enten det utilstrekkelige budet eller det lavest tilstrekkelig budet med samme benevnelse kan ha vært konvensjonelt, eller dersom budet blir korrigert med et hvilket som helst annet tilstrekkelig bud eller med pass, må den feilendes makker som straff passe hver gang det er hans tur til å melde (anvendt §10C1, og se §23 om pass som skader den ikke-feilende side; utspillsstraff ifølge §26 kan også komme til anvendelse).</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7. UTILSTREKKELIG BUD</a:t>
            </a:r>
            <a:endParaRPr b="1" i="1" lang="en-US" sz="2800" spc="-1" strike="noStrike">
              <a:solidFill>
                <a:srgbClr val="808000"/>
              </a:solidFill>
              <a:latin typeface="Arial"/>
            </a:endParaRPr>
          </a:p>
        </p:txBody>
      </p:sp>
      <p:sp>
        <p:nvSpPr>
          <p:cNvPr id="243"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3.</a:t>
            </a:r>
            <a:r>
              <a:rPr b="1" lang="nb-NO" sz="1800" spc="-1" strike="noStrike">
                <a:solidFill>
                  <a:srgbClr val="000000"/>
                </a:solidFill>
                <a:latin typeface="Arial"/>
              </a:rPr>
              <a:t>	</a:t>
            </a:r>
            <a:r>
              <a:rPr b="1" lang="nb-NO" sz="1800" spc="-1" strike="noStrike">
                <a:solidFill>
                  <a:srgbClr val="000000"/>
                </a:solidFill>
                <a:latin typeface="Arial"/>
              </a:rPr>
              <a:t>FORSØK PÅ Å KORRIGERE ET UTILSTREKKELIG BUD MED DOBLING ELLER REDOBLING</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1800" spc="-1" strike="noStrike">
                <a:solidFill>
                  <a:srgbClr val="000000"/>
                </a:solidFill>
                <a:latin typeface="Arial"/>
              </a:rPr>
              <a:t>Hvis den feilende forsøker å erstatte et utilstrekkelig bud med en dobling eller redobling, blir denne melding annullert. Som straff må den feilendes makker passe resten av meldingsforløpet. </a:t>
            </a:r>
            <a:r>
              <a:rPr b="0" i="1" lang="nb-NO" sz="1800" spc="-1" strike="noStrike">
                <a:solidFill>
                  <a:srgbClr val="000000"/>
                </a:solidFill>
                <a:latin typeface="Arial"/>
              </a:rPr>
              <a:t>(Se også §23 om pass som skader den ikke-feilende side. Utspillsstraff ifølge §26 kan også komme til anvendels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E UTILSTREKKELIG BUD UTENFOR TU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Hvis en spiller avgir et utilstrekkelig bud utenfor tur, kommer §31 til anvendelse.</a:t>
            </a:r>
            <a:endParaRPr b="1" lang="en-US" sz="18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8. MELDING BETRAKTES SOM AVGITT I TUR</a:t>
            </a:r>
            <a:endParaRPr b="1" i="1" lang="en-US" sz="2800" spc="-1" strike="noStrike">
              <a:solidFill>
                <a:srgbClr val="808000"/>
              </a:solidFill>
              <a:latin typeface="Arial"/>
            </a:endParaRPr>
          </a:p>
        </p:txBody>
      </p:sp>
      <p:sp>
        <p:nvSpPr>
          <p:cNvPr id="245"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VUNGEN PASS FRA HM</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en spiller melder når det er HMs tur til å melde, dersom denne motstander ifølge lovene er tvunget til å passe.</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MELDING AV SPILLER I TUR ANNULLERER MELDING UTENFOR TUR</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000000"/>
                </a:solidFill>
                <a:latin typeface="Arial"/>
              </a:rPr>
              <a:t>En melding blir betraktet som avgitt i rett tur når den avgis av den spiller som stod i tur til å melde før det er fastsatt straff for meldingen utenfor tur avgitt av en motstander. Ved å avgi en slik melding forspiller man retten til å få ilagt straff for uregelmessigheten, og meldingene fortsetter som om motstanderen ikke hadde meldt ved denne anledning. Meldingen utenfor tur annulleres, og den feilende kan, når han er i tur, melde hva han vil uten ytterligere straff enn eventuelt etter §16C2.</a:t>
            </a:r>
            <a:endParaRPr b="1" lang="en-US" sz="18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7"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A TAP AV RETT TIL Å FÅ ILAGT STRAFF</a:t>
            </a:r>
            <a:br>
              <a:rPr sz="2400"/>
            </a:br>
            <a:br>
              <a:rPr sz="2400"/>
            </a:br>
            <a:r>
              <a:rPr b="1" lang="nb-NO" sz="1800" spc="-1" strike="noStrike">
                <a:solidFill>
                  <a:srgbClr val="000000"/>
                </a:solidFill>
                <a:latin typeface="Arial"/>
              </a:rPr>
              <a:t>Etter en melding utenfor tur kan den feilendes VM velge å melde, og forspiller derved retten til å få ilagt straff.</a:t>
            </a:r>
            <a:br>
              <a:rPr sz="1800"/>
            </a:br>
            <a:r>
              <a:rPr b="1" lang="nb-NO" sz="1800" spc="-1" strike="noStrike">
                <a:solidFill>
                  <a:srgbClr val="000000"/>
                </a:solidFill>
                <a:latin typeface="Arial"/>
              </a:rPr>
              <a:t> </a:t>
            </a:r>
            <a:endParaRPr b="1" lang="en-US" sz="1800" spc="-1" strike="noStrike">
              <a:solidFill>
                <a:srgbClr val="000000"/>
              </a:solidFill>
              <a:latin typeface="Arial"/>
            </a:endParaRPr>
          </a:p>
          <a:p>
            <a:pPr marL="285840" indent="-285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B ANNULLERING AV MELDING UTENFOR TUR</a:t>
            </a:r>
            <a:br>
              <a:rPr sz="2400"/>
            </a:br>
            <a:br>
              <a:rPr sz="2400"/>
            </a:br>
            <a:r>
              <a:rPr b="1" lang="nb-NO" sz="1800" spc="-1" strike="noStrike">
                <a:solidFill>
                  <a:srgbClr val="000000"/>
                </a:solidFill>
                <a:latin typeface="Arial"/>
              </a:rPr>
              <a:t>En melding utenfor tur blir annullert (men se også pkt. A ovenfor), og meldingen går tilbake til den spiller som stod i tur til å melde. Den feilende kan avgi enhver lovlig melding i rett tur, men den feilendes side kan bli ilagt straff ifølge §§30, 31 eller 32**.</a:t>
            </a:r>
            <a:br>
              <a:rPr sz="2400"/>
            </a:br>
            <a:br>
              <a:rPr sz="2400"/>
            </a:br>
            <a:r>
              <a:rPr b="0" lang="nb-NO" sz="1400" spc="-1" strike="noStrike">
                <a:solidFill>
                  <a:srgbClr val="000000"/>
                </a:solidFill>
                <a:latin typeface="Arial"/>
              </a:rPr>
              <a:t>**§30 omhandler pass utenfor tur, §31 omhandler bud utenfor tur, §32 omhandler dobling eller redobling utenfor tur</a:t>
            </a:r>
            <a:endParaRPr b="1" lang="en-US" sz="1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980720" y="609120"/>
            <a:ext cx="68518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808000"/>
                </a:solidFill>
                <a:latin typeface="Arial"/>
              </a:rPr>
              <a:t>§29. FREMGANGSMÅTEN ETTER AT DET ER MELDT UTENFOR TUR</a:t>
            </a:r>
            <a:endParaRPr b="1" i="1" lang="en-US" sz="2800" spc="-1" strike="noStrike">
              <a:solidFill>
                <a:srgbClr val="808000"/>
              </a:solidFill>
              <a:latin typeface="Arial"/>
            </a:endParaRPr>
          </a:p>
        </p:txBody>
      </p:sp>
      <p:sp>
        <p:nvSpPr>
          <p:cNvPr id="249" name="PlaceHolder 2"/>
          <p:cNvSpPr>
            <a:spLocks noGrp="1"/>
          </p:cNvSpPr>
          <p:nvPr>
            <p:ph/>
          </p:nvPr>
        </p:nvSpPr>
        <p:spPr>
          <a:xfrm>
            <a:off x="1072800" y="1981080"/>
            <a:ext cx="7759800" cy="4114800"/>
          </a:xfrm>
          <a:prstGeom prst="rect">
            <a:avLst/>
          </a:prstGeom>
          <a:noFill/>
          <a:ln w="0">
            <a:noFill/>
          </a:ln>
        </p:spPr>
        <p:txBody>
          <a:bodyPr lIns="90360" rIns="90360" tIns="44280" bIns="442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000000"/>
                </a:solidFill>
                <a:latin typeface="Arial"/>
              </a:rPr>
              <a:t>C</a:t>
            </a:r>
            <a:r>
              <a:rPr b="1" lang="nb-NO" sz="2400" spc="-1" strike="noStrike">
                <a:solidFill>
                  <a:srgbClr val="000000"/>
                </a:solidFill>
                <a:latin typeface="Arial"/>
              </a:rPr>
              <a:t>	</a:t>
            </a:r>
            <a:r>
              <a:rPr b="1" lang="nb-NO" sz="2400" spc="-1" strike="noStrike">
                <a:solidFill>
                  <a:srgbClr val="000000"/>
                </a:solidFill>
                <a:latin typeface="Arial"/>
              </a:rPr>
              <a:t>KONVENSJONELT BUD</a:t>
            </a:r>
            <a:endParaRPr b="1" lang="en-US" sz="2400" spc="-1" strike="noStrike">
              <a:solidFill>
                <a:srgbClr val="000000"/>
              </a:solidFill>
              <a:latin typeface="Arial"/>
            </a:endParaRPr>
          </a:p>
          <a:p>
            <a:pPr marL="285840" indent="-28584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Arial"/>
              </a:rPr>
              <a:t>	</a:t>
            </a:r>
            <a:r>
              <a:rPr b="1" lang="nb-NO" sz="1800" spc="-1" strike="noStrike">
                <a:solidFill>
                  <a:srgbClr val="000000"/>
                </a:solidFill>
                <a:latin typeface="Arial"/>
              </a:rPr>
              <a:t>Dersom en melding utenfor tur er konvensjonell, skal bestemmelsene i §§30, 31 og 32 gjelde fargen (fargene) meldingen viser og ikke benevnelsen av meldingen.</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cp:lastPrinted>2001-01-27T09:57:10Z</cp:lastPrinted>
  <dcterms:modified xsi:type="dcterms:W3CDTF">2002-07-14T21:25:18Z</dcterms:modified>
  <cp:revision>8</cp:revision>
  <dc:subject/>
  <dc:title>FORORD TIL DEN NORSKE UTGAVEN</dc:title>
</cp:coreProperties>
</file>