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EDCE-08DC-4C12-8117-E64FE9E7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7907-0187-4EF1-A696-66CB54AC4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E644-8FB8-46B5-B45C-D8FD6F42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7D3-EC2E-40A6-8C20-0EC7DCFD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C6B3-6C21-4300-88EF-2C0C0C9FC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6620-F669-43E8-9454-E0D07FDF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54BB-2D93-4964-AADD-D241E351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05E05-77DB-4A49-9FE2-F64ADFA3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EEB8-6042-428F-A1C5-0AC21954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6ECB-6029-4A30-8D50-B53F6C13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F675-FFD4-444A-8636-07E4B324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ABE2-02B2-4ECD-8A0B-5AA16C74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8E29-2725-4FE8-B688-1C564716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9E12-D458-4F45-8D88-30460B92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2EE5-75BA-4063-A6F8-97ED3F53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A253-A43F-4E8B-B294-BCEB3FAF1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B0343-B8B2-4607-B001-32EE287E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127C-37C8-47B8-9AE7-78FBB03B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E2DB-44A8-408C-9B74-FA44343A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7864-3557-45A1-9709-D470FA0A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609120"/>
            <a:ext cx="6553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B8DE-04AA-49E1-BEEB-E5F4B685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749-42BC-47C5-9EA6-624B2562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49F-073B-4FA4-8C4E-184F5B0F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A1A-0115-4EDB-B18A-BFEA8D75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43AF8-579E-4A6D-A6D8-98ED215DD4E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9E7C-F531-40B2-814B-CE18982E8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863D-C4DA-4D26-9930-96B5D68EC9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C2161-8A99-441B-BEB0-2E83124C1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NBF2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91440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Symbol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Turneringsregnskap med D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Dataprogrammer som tilbys i Norge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g litt om bruken av dem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1A09-FA37-44F1-8AC1-B0A0F7126BF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437C73D-38B6-428E-9647-B4581D695784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Programpakker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Willy Browns programme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programmer under Window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Kan ha skriverproblem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ABC-Data sine program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tviklet i Microsoft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Turneringshjælperen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Dansk programpakke for DOS/Wind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løverdata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Windowsbasert for baromete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Jan Henriksens programm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Excelbaserte programmer for mindre turneri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AA4C-BDF6-4C05-BE46-9321687092F8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A4CCC0-ED88-42C7-8DDB-3A44323E7EFE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Bar , Laserbar,  Filbar, Blekkbar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erieturneri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ra 2 til 60 bord inklusive blindtarm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Fra 1 til 20 spill pr rund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Matchpoint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Butler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IMP across the field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kriver ut plansjer, slipper, resultatslipper, stensil HTML filer o.s.v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Monrad, Lasermon, Film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onradturnering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amme service som i barometerturneringen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29AE-C40F-4CF6-8A6D-442A2DB723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920C98-778D-45E8-B092-6C562A35D1F4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AR programmene (DOS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Lagturnering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Setter opp lagser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valitet beregnes som kvotient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Behersker Monrad med 1 eller flere mø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Kvalitet er summen av motstandernes poeng mot andre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Autoscore av vinnerpoe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2D84-74C7-47B4-BF03-2AE66C3799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8FB56-2754-4554-BEEC-B92C9AA1880F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BK 2000 </a:t>
            </a:r>
            <a:br>
              <a:rPr sz="4400"/>
            </a:b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(Bull-Gulbrandsen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Programpakke bygget i Microsoft Access som tar sikte på å bli en komplett pakke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Barometer, Monrad og frie oppset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edlemslister fra NBF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Mesterpoeng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coring fra grensesnitt pr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Neuberg’s formel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plittet sco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Fullført programpakken vil dekke alle behov innen turneringsregnskap og registrering av MP.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8A2F-AF12-4606-AAB6-F74ECADD8C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73784E-9D19-44FB-8C02-A0C123A3CCC2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663300"/>
                </a:solidFill>
                <a:latin typeface="Times New Roman"/>
              </a:rPr>
              <a:t>Turneringshjælperen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Thorvald Aagårds programpakke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DOS-basert og arbeider under 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Fleksibelt ved at operatøren setter opp alle aktuelle bevegel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Lag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Alle typer par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Mange aktuelle scoringsmetoder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ingelturnering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ff0000"/>
                </a:solidFill>
                <a:latin typeface="Times New Roman"/>
              </a:rPr>
              <a:t>Sven Pran har utviklet et program for oppsett av singelturneringer i programmet</a:t>
            </a:r>
            <a:endParaRPr b="0" lang="en-US" sz="1800" spc="-1" strike="noStrike">
              <a:solidFill>
                <a:srgbClr val="ff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333399"/>
                </a:solidFill>
                <a:latin typeface="Times New Roman"/>
              </a:rPr>
              <a:t>Denne gratis programpakken brukes til øvingsoppgavene i dette kurset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90D0-1D7A-4C03-8ED7-4A32DF00CD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B18DB-DA93-462D-BF2F-C39BFB053B8C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Firkløverdata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333399"/>
                </a:solidFill>
                <a:latin typeface="Times New Roman"/>
              </a:rPr>
              <a:t>Windowsbasert program for Barometerturneringer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Tasting fra flere mask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Times New Roman"/>
              </a:rPr>
              <a:t>Gode rutiner for korrig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46B2-7EED-439D-B817-3B1581D0D8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D7FBF-B684-443C-9B08-807F426EF9AD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Times New Roman"/>
              </a:rPr>
              <a:t>Jan Henriksen (Bridgehuset)</a:t>
            </a:r>
            <a:endParaRPr b="0" lang="en-US" sz="4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333399"/>
                </a:solidFill>
                <a:latin typeface="Times New Roman"/>
              </a:rPr>
              <a:t>Excelprogrammer som skriver på standard slipper</a:t>
            </a:r>
            <a:endParaRPr b="0" lang="en-US" sz="24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Lag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Tabelloppsett 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Utskrift som NBF siden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Barometer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5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6 spill pr runde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00"/>
                </a:solidFill>
                <a:latin typeface="Times New Roman"/>
              </a:rPr>
              <a:t>Howellturn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Inntil 12 bord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333399"/>
                </a:solidFill>
                <a:latin typeface="Times New Roman"/>
              </a:rPr>
              <a:t>Utskrift av slipper og plansjer</a:t>
            </a: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Mitchelltur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Opptil 15 bord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kriver ut plansjer og slipper</a:t>
            </a:r>
            <a:br>
              <a:rPr sz="2000"/>
            </a:b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00"/>
                </a:solidFill>
                <a:latin typeface="Times New Roman"/>
              </a:rPr>
              <a:t>Singelturn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Inntil 48 spillere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ff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333399"/>
                </a:solidFill>
                <a:latin typeface="Times New Roman"/>
              </a:rPr>
              <a:t>Spesialutgave med 48-120 spiller</a:t>
            </a: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C4A-B6D0-4B8F-A87C-81EF78068E5B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48D87-E45E-4ED9-AA09-9021A418647C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7T17:21:43Z</dcterms:created>
  <dc:creator>Per Nordland</dc:creator>
  <dc:description/>
  <dc:language>en-US</dc:language>
  <cp:lastModifiedBy>Per Nordland</cp:lastModifiedBy>
  <dcterms:modified xsi:type="dcterms:W3CDTF">2001-09-18T20:10:36Z</dcterms:modified>
  <cp:revision>5</cp:revision>
  <dc:subject/>
  <dc:title>Turneringsregnskap</dc:title>
</cp:coreProperties>
</file>