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9D04-13C6-4955-B980-D092834CD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5030-10EA-48CF-9344-9EEC84D9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403E-06AC-4723-8658-0C33C0FC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BFCD-96B3-4E32-93BA-C48074A2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C4A3-74CC-4982-A164-2F14CBAD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535D-C607-4E34-AF9B-8BEC2F4C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474F-CC98-4154-AE27-95CE84B80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49D6-226C-4D7F-A87F-F0AF714F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A85D-EF8A-4013-92D4-32BDB98A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4F0C-F2C0-4B0A-BCF1-0601E385D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E8FAE-DF59-49A1-A70C-305C32FF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46C-AE7F-40A7-8EE3-541BEC5B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E872-FE5C-4477-86EA-6EA4382C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67F1-82A6-4F9F-AA7D-FCEDDAA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7FF7-6522-42C1-8FA5-EB655663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EB38-EF3D-4F52-B7FF-52E1EE49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7631-BC42-4C21-BAD2-0D3360537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D2F4-77E7-40CF-9E9E-0B5F17550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925-F8BB-43EF-90E1-96EFE649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A051-3AE1-4B19-9420-55F4CDCC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12D1-810B-4D07-B65D-6E0C9AC77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6124-61EE-44E2-B868-92BCAEE5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4DC1-CC91-473A-9F9E-F23EF627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0B76-059C-4025-BCBF-7614CC60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8B6C-ECCD-4532-A9A1-822EA9C4B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1. januar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er Nordl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FF79-B082-4FFA-91AC-834B988BA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NBF - Turnerin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Windowsbasert parturnerings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Alle utregningsmåter 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ontakt med NBF medlemsreg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Monradturnering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ie oppsett av turnering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Benytter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Lager HTML fil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idgehuset 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 programserie i Excel 95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rien er basert på behovene i en klu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ell og seri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Bordplansjer og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til 16 Bor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abeller, oppsett, lister for forskjellige spillantal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ruke datasystem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figurere utstyr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kre at printer, program og maskin virker samm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uder bruksanvis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normalbruk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inn navn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Skrive ut plansjer og lis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age slipp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Legge ut resultater</a:t>
            </a:r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unne rettingsrutiner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Kjenne noen som kan hjelpe i en vanskelig situasjon</a:t>
            </a:r>
            <a:endParaRPr b="0" lang="en-US" sz="16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orbrukeren blir ”ekspe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a sikkerhetskop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orberedelser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nav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egge inn give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ge plansj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slipp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Gjennomfø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tart scoring når første bord er ferdi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krive ut og dele ut resultater etter hver ru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Korrigere fe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Offentliggjøre sluttresultat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1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Kan bare brukes ved et bord der ikke er et par som sitt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Et svansebord gir 2 ekstra sittep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Svansebordet og det andre deler spill i Howellturnering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647960" y="190512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638680" y="2362320"/>
            <a:ext cx="1295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362320"/>
            <a:ext cx="1524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2209680"/>
            <a:ext cx="914400" cy="99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2286000"/>
            <a:ext cx="106668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05520" y="2284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94520" y="1942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58160" y="3275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56280" y="2551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43760" y="2589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131880" y="2529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4648320"/>
            <a:ext cx="1143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(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934320" y="4648320"/>
            <a:ext cx="121896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(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920" y="426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19720" y="5637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1024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055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9132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86960" y="502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299360" y="4495680"/>
            <a:ext cx="54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164360" y="426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24480" y="5637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3800" y="380880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emp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Sett inn svansebord (2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ieturneringer der alle spiller samme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ringene i oppsettet angår bare de to bord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 Brow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bord     +1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dre antall sittepar  +2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Nye slipper og bordkort for 2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ellturne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ridgehuse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to bordene bytter spill i rund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Flytteanvisningen endres slik at de som skal til en plass der et par sitter fast går til tilsvarende plass på svansebordet, og deretter etter plane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848720" cy="4038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amarbeider med Sven Prans slip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Firkløverdata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Bar , Laserbar, Blekkba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Times New Roman"/>
              </a:rPr>
              <a:t>Serieturneri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Monrad, Lasermon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radturnering for inntil 80 (110) p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Greie trekningsrutin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lassering i neste runde på slipp og resultatlist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Skriver ut plansjer, slipper på eget format, resultatslipper, stensil HTML filer o.s.v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Willy Brown’s lagprogram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t enkelt og liketil lag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ppsett  Serie eller Mon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 eller uten automatisk V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gner kvoti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tter opp tab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ips om WB prog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Unngå lange filnavn med å legge programmet i mappe C:\BAR eller D:\BA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Kontroller at programmet virker sammen med printeren. Det styrer selv printerutskriften fra DO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Laserbar og Lasermon til Laserskriver. Det hender at programmet må kjøres fra DOS for å unngå problemer med urtskriften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ær nøyaktig ved inntasting i programmene.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kan arrangeres f.eks BoforsMitchell eller vanlig Mitchell ved å angi rett antall sittepar og la sitteparene være nummerert fra NS1 og oppov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skriver ut slipper i et eget formar på slipper i bane. NBF har gått over til perforerte slipper som skrives ut fra WB med Sven Prans program ”Slipper”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Laget av Thorvald Aagård i Danmar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pakken er skrevet på dansk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Programmene kan lastes ned gratis fra net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gel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g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er skrevet i DOS, men er i senere tid omarbeidet for bruk i Window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Ved oppsett av turnering legges startposisjoner for alle runder inn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tte gjør det mulig å arrangere turneringer med andre enn de tradisjonelle flyttemønstre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ingelprogrammet er godt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Mitchell og Howell er OK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rdplansjene inneholder flytteanvisning for hver rund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Det skriver ut slipper på vanlig papir som så må kuttes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t lager HTML mal og filer for utleggi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Jeg har for liten erfaring med programmet til å kunne gi en rettferdig beskrivelse.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Programmene anbefales for de som skal arrangere singel og spesielle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Windowsbasert parturneringsprogram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llater punching fra flere mask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kriver ut til tekstfiler m.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nytter NBF sine standardslipp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løpig kun serieturne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1-31T22:26:29Z</dcterms:modified>
  <cp:revision>5</cp:revision>
  <dc:subject/>
  <dc:title>Turneringsregnskap</dc:title>
</cp:coreProperties>
</file>