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C60-3B67-4A42-A496-0B1C02D5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A40-9CCC-45EF-8965-A271D71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866D-6323-439E-81B7-EE76D2E1B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270A-436E-4AFF-9F37-61F45B50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2573-1AFC-4741-B791-77ABC7347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51460-57B4-4ED7-B23A-F8E33800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1E72-CEDD-49DB-B96B-06DBDA83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2B68-8B53-48F2-BFE4-A690564D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A73F-5F49-4953-8233-0AB3BA5DC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8556F-E7FD-4501-95A0-07C3C60A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8C99-3A44-473C-9C4B-00BCC60B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BAF8-AD0B-4C35-9076-F850832A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BAD6-EECB-45CE-A728-C702A5FD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2C4D-4E86-4868-80A0-D7145A17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D301-D202-4D71-8BB9-AF8F513C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CF4E-F319-4D87-A64A-C0843F223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13AA5-2425-462B-B55C-57E879702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9D69-E6CF-45B9-B84F-6C38D96F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8D96-A504-4CD2-846C-BA7113AC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4058-3E32-44B0-8356-533DB2E9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3778-2B55-4F0C-B4E2-72C5DB1E1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933-A8D6-4BA7-9690-CD11825E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996-B91A-4A71-8F03-D2110379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84B1-8776-4613-8E2F-93FDDEC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6C94-87A2-4211-B5B4-D99298D68DB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1623-FF79-4C7B-B027-C51EF854B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E93A-7E56-44F2-8951-2C068DB9B59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9E8-5D6A-49BA-B914-0B260CBAA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ar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uligheter med dataprogramm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5B88-46AA-4C7C-8EE0-96F21D2FE4F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66DB6F0-1A24-43BA-A765-B40887FCFC5F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How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e spill må spilles i en sesjon (kan ta en kort pause) for å unngå fri flyt av urettmessig informasjo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ppsett for 4-12 bord (14-46 spill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est brukt er 4 – 7 bord med mindre enn 30 spil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Programmene kan bruke Blindtarm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4CF1-EEBC-41CB-9CE8-F9EDD66306F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D529AF-278C-4728-AE27-FB5738A880AF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rie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rometerturnering finnes i alle programme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neringer på en dag eller helg  med 2-4 spill pr. ru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tid med forhåndsdublerte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ubbturneringer med 8-12 spill pr run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Dublering etter at spillet er spilt første gang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nskapet føres pr.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B5C7-0160-4F45-9DCD-C77D0850F8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0D94F-9D7F-4C7B-886C-06DC3CCD6E37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onrad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beste møter de beste, kun ett mø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og BK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blerte spi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ør bruke minst 3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øte 25-50 % etter reglementet (helst ned mot 25%)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rolig er 30 runder alltid nok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tart med 2-3 runder som er forhåndstrukke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es pr b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5CB-9077-437F-A1C2-E46FFE0F84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AC447-CAC5-448C-80A3-DC2EE561D095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Mitchell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an settes opp i Turneringshjelper og Henriksens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tandard er er to rekker i hver sin ret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oppsett i Tävlingsledaren kan brukes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alanserte” turneringer med 4 eller flere grupper (rekker) som møter hverandre etter Howellprinsipper</a:t>
            </a:r>
            <a:br>
              <a:rPr sz="2400"/>
            </a:b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Regnskapet føres pr. sp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5F1F-5F73-48D1-9FB9-E48C979922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336EF-A59D-4836-9020-48FBADC08FDF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Andre ”parturneringer”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utlerscoring av lagkamp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utl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ammenligning av egen score mot Butl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utler = middelscore evt uten høyeste og laveste score(r)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regne IMP mot alle andre bord og bruke summ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le total IMP på antall sammenlign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B855-F11F-4C57-BF54-631FA62D53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B6ABF6-FA5A-4182-AF99-4E00BFEAEF4A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8T20:11:03Z</dcterms:created>
  <dc:creator>Per Nordland</dc:creator>
  <dc:description/>
  <dc:language>en-US</dc:language>
  <cp:lastModifiedBy>Per Nordland</cp:lastModifiedBy>
  <dcterms:modified xsi:type="dcterms:W3CDTF">2001-09-25T18:21:19Z</dcterms:modified>
  <cp:revision>6</cp:revision>
  <dc:subject/>
  <dc:title>Parturneringer</dc:title>
</cp:coreProperties>
</file>