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DAC0-B166-487B-918D-BFE7ED031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088D-4153-464D-8417-9D28DE65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CAAB-3244-4662-A5A4-E7D0A9EC3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10FF-6BC3-417D-909F-63CB7A741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B8EE-9C8F-4347-9F9C-CD8D67F31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178A4-5A7C-4819-A355-A8735359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66A0-9EBF-47B8-B6EA-4FAD5E6D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39F4-D062-4408-B41D-0211AE75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8E96-2AF0-4728-9FFF-040D9988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E2DB-67D1-4B09-88B5-A9494B04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A6BC-D568-4EFE-9492-8956D3C4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0DE0-EB7A-426F-B40A-8DC547401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828D-53ED-486B-9669-F2C0F3AC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8671-6364-414A-B4A9-8639D35F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3185E-965F-440A-BC52-7525B914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6720-0BF2-4AD3-89CD-0342CB1D3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6E6F-D095-4BB7-A1AC-5AEC6E6D1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3EC7-7630-4ACD-B95C-49FEEBE6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7F4B-087B-4261-9C63-0313AA2F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1E04-1B10-4313-AAE1-13DB7934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81E3-EE46-412D-875E-A1B03A59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48C9-F4F0-49E2-85F9-433E4CA4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448E-939E-4370-9CAE-1EEEB390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DBD3-974E-4F18-93FE-A2B0FF43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0D6A-8D56-4BD9-A97A-67FBD9686AA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56CB-B41A-49DC-A8AF-49EBD9BCF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7FA1-4327-4E07-8C4F-CE28FC6BF00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EEAE-32E9-4A37-884D-E358BAABE0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ingelturnering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Om aktuelle turneringsoppset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8C24-AEBC-4583-96A4-49967AA52E1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042BEB5-3877-4E4C-92BA-CD7F6A5CB5F8}" type="datetime1">
              <a:rPr lang="en-US"/>
              <a:t>07/28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Om singelturnering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Singelturneringer er ofte barometerturneringer der alle spiller alle spill før spillerne flytter mellom b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Tävlingsledaren har Howell og Mitchelloppsett for et stort  antall spillere.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Den sportslige verdien av slike turneringer er begre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Det er sterkt varierende styrke på spillerne innen makkerpar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9FE2-596B-44FE-93ED-AB6909A60E6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5B4D60-0E12-4854-B364-4151F4F5D587}" type="datetime1">
              <a:rPr lang="en-US"/>
              <a:t>07/28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Regnskapsprogramm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Turneringshjæl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Manuelt oppsett på fritt grunnla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Automatisk oppsett med Prans Ske.exe i en pulje med 8-54 spiller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Automatisk oppsett i like puljer inntil 40 bor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Henriksen (excelbaser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Oppsett i grupper for 48-120 spiller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Oppsett enkle for 8-54 spiller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Frie oppsett kan gjør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Scoreslipp i vanlig forma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1C1C-A5EC-4BA3-BAF9-D263D458E1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F48F8E-C53D-4F7D-9BA2-2F145BCFA229}" type="datetime1">
              <a:rPr lang="en-US"/>
              <a:t>07/28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Forventninger om program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BK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Serieoppsett  for 8-54 spiller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Puljevise oppsett for inntil 100 bor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Monradoppsett for inntil hundre bor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Tre runder på hvert bord (4-1, 2-3) (4-2, 1-3) (4-3, 1-2)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Runde 4-5-6 trekkes etter runde 2. Runde 7,8,9 trekkes etter runde 5 (Runde 10,11,12 trekkes etter runde 8)  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Velge antall møter fritt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228F-7720-4977-8631-0E2A236A5A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222E79-0F86-42F7-9A15-B27886AB6691}" type="datetime1">
              <a:rPr lang="en-US"/>
              <a:t>07/28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Aktuelle oppsettsmulighet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Serieoppset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Tabeller i Tävlingsledaren i en gruppe eller flere grupper (Henriksen for grupper 48-120 spillere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Browns program SINSTA</a:t>
            </a:r>
            <a:br>
              <a:rPr sz="2400"/>
            </a:b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Mitchelloppset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En rekke sitter rolig de tre andre beveger seg i utak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554B-C88E-4EEB-8E24-D33669656F2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2954FA-D9FC-4FA1-B0D0-07A3608247FC}" type="datetime1">
              <a:rPr lang="en-US"/>
              <a:t>07/28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5T14:42:54Z</dcterms:created>
  <dc:creator>Per Nordland</dc:creator>
  <dc:description/>
  <dc:language>en-US</dc:language>
  <cp:lastModifiedBy>Per Nordland</cp:lastModifiedBy>
  <dcterms:modified xsi:type="dcterms:W3CDTF">2002-01-20T22:21:16Z</dcterms:modified>
  <cp:revision>5</cp:revision>
  <dc:subject/>
  <dc:title>Singelturneringer</dc:title>
</cp:coreProperties>
</file>