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D48F-7C5E-42B5-ADED-19F9EB7CE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BAC2-E86A-48B5-B441-456D489E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E8FD-8C5B-4D40-B6FB-1C135E9EA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C184-4D61-4A41-9863-075BBD6DB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D7A5-66FF-4B67-999C-A2C561EE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4460F-8948-4738-9DAA-A51CF53C4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0750D-5BA1-4D70-B14B-FF7F15E4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AB756-5421-409A-B719-DCE3FB7E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6528-B4E5-46D7-AEC0-7E83CA2B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C684-3523-422C-AE52-8822E83F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AE37-DEF6-4C26-8421-A34566EA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C035-C505-44F0-944A-894F3FC9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6CC9-C2D3-477C-B61E-E3A9535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8C69-387B-4349-888E-7FED7E70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9178-5B83-4063-AA74-C9B2F2D59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CBE3-C018-4A71-8840-5CC46B5B7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4D39-8F99-40E7-9A08-FE00FED2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397A-51DC-4DF1-AC18-1AD6A0E1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3705-717C-4205-9F89-8E1E9206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FC30-DD38-45B0-8ABE-FCE7958A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02D-B8BF-462D-BE46-39969DAA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4CE5-0B09-48EC-B6B3-7C0941DF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2651-E968-4B27-BD5D-9F948ED1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926F-35B4-42E8-AF58-F7B5C457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9EF6-AFB3-4C2A-9C8E-2A28F515A07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689B-6261-41D7-8349-6A7BA7281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876C-3750-462C-949F-9538B03D851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5538-3510-41EF-A287-EE9BB6983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ne er man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537-1B3B-4E21-A3CB-548468B0B136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863D3ED-E9CA-4C4C-AFE1-AA9035EED4C9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oppsett for barometer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Høyest /lavest metoden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alanse oppnås ved at man ved noen bord setter paret med lavest parnummer 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te er beregnet i tabeller som finnes i den store boken om bevegelser ”Tävlingsledaren” av Hans Olof Hallén med medarbeidere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som følger med dataprogrammer skal settes opp etter denne tabellene i denne boken  (Tabellene i BAR er like gode, men de kan være litt endret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499-710C-4A7C-99C6-1B8938CC7B2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A26353-560B-4EAD-A104-495DCF12A1E6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Ekstra bord ”Blindtarm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rukes i Howellturneringer og Serie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 inn ett ekstra bord, og to nye par som sitter rolig. Parene som beveger seg beholder retningen s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14400" y="3809880"/>
          <a:ext cx="6858000" cy="2320920"/>
        </p:xfrm>
        <a:graphic>
          <a:graphicData uri="http://schemas.openxmlformats.org/drawingml/2006/table">
            <a:tbl>
              <a:tblPr/>
              <a:tblGrid>
                <a:gridCol w="914400"/>
                <a:gridCol w="990720"/>
                <a:gridCol w="990360"/>
                <a:gridCol w="990720"/>
                <a:gridCol w="990720"/>
                <a:gridCol w="99036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Bor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b-NO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ords How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 B + Blindt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 sit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40C1-9F48-47CE-BAD7-55E3E2CE227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55EC82-9640-408E-BEA1-BFB58C475026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n av ”blindtarm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ord kan settes inn ved bord der det ikke er et sittepar. Greit å ty til i barometerturneringer med ferdige plansjer og slipper.             Endring av plansjer og slipper angår kun dette bordet + ekstrabordet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alansen mellom sitteparene og de som beveger seg er go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 er nødvendig å endre retning i noen runder for å få noe balanse mellom sitteparene. Vi ser at en turnering med mange blindtarmer kan bli en turnering med 3 pulj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beveger se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De som sitter Ø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lindtarmene reduserer antall runder i turnering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9 bord uten blindtarmer &gt;&gt;&gt; 17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00"/>
                </a:solidFill>
                <a:latin typeface="Times New Roman"/>
              </a:rPr>
              <a:t>5 bord pluss 4 blindtarmer &gt;&gt;&gt; 9 run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Par med høyere startnummer enn NS bord 1 er si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BF7-8C3A-47E8-9A1D-3ED47C54862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AA814D-19AB-4ADE-B5D1-4C475F5ABE93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ne spilles i rekkefølge på alle bord og alle møter all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rter med laveste spillnummer på bord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runder som kan spilles er lik antall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ntall spill totalt blir da: Spill i runden x Flyttep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rne og spillene plasseres slik at dette er mulig.         </a:t>
            </a:r>
            <a:br>
              <a:rPr sz="2400"/>
            </a:b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(se tabeller hos Hallé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et finnes tabeller med høyest /lavest prinsipp og andre tabeller der spillerne går ”mer enn ett b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E704-76B9-4605-BB64-3700C937E3B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2ED7E-84D4-409C-A281-0C234DAE7D5E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Howell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o grupper kan spille de samme spill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bbel How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parallelle rekker spiller spillene samtidig og bord med samme nummer bytter spill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nvevd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To rekker spiller med en rundes forskyvning slik at bare noen få bord bytter spill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dusert Ho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e et lavere bordantall med flere blindtarmbord i stedet for full turnering. Blindtarmbord og opprinnelig bord deler spill Turneringen kan også være avbrut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4D78-ED46-4674-B37D-51DF3E997A9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2CBAC-8DBD-4322-BAB7-9E2148795F5C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tandardoppsett for Mitchel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en deles i puljer slik at antallet mulige runder i en omgang ikke er mye større enn antallet spilte rund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es ut i to resultatlister en for NS og en for ØV. Eventuelle puljer summeres sammen dersom de har spilt de samme spille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Ved et likt antall bord så flyttes det to bord etter runde N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Ekstra byttebord slik Hallén beskriver det mellom bord N/2 og og bord (N/2+1) brukes lite ute i verden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7EF-3DF9-49D4-9DC5-D4D5C001DC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69830-59DF-49F4-B3F5-98B9DD046C56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Spesielle Mitchell 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varierende retn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ingdansmitchell for turnering mellom klub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oforsmitchell for å balansere opp til en resultatliste på en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Mitchell med mange omga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Flere puljer (samme deltakere i pulj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 omgangene flyttes rekkene etter et barometeroppsett noe som gir god balanse i sluttresultat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78F3-AD17-47B2-8A2C-8AD1C8DBA14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DAF28-8519-454E-A0E6-C43F3720B6D2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eller flere par på la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spillere spiller sammen i hele turner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erne skifter makker etter hver ru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430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Serie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,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gruppe ulik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rekker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nere mø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1D63-7A47-42E7-94C5-C4C9EEA70164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799B4-0331-4194-99C8-446AB56420CB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Lagserier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esystemet i divi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etsser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ometerturneringer for 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M for p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Åpne 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mer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erieturnering i klub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lubbturnering over flere kvelder med et fast antall 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vanligste er 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BA59-000B-4494-AD39-7BEA47853C4D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4FA8C6-0E52-4E2B-8914-4AD2B14827D4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formene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møter al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ne flyttes et bord ned og spilles i rekkefølge på bor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resultatli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 (Swiss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e som er nært hverandre på resultatlisten møtes. Alle spiller samme spill i r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form der spillene leveres et bord ned og spilles i rekkefølge ved bordene (fra 1 &gt;&gt;N)</a:t>
            </a:r>
            <a:br>
              <a:rPr sz="2000"/>
            </a:b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pillerne deles i to  grup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En gruppe f.eks NS sitter rolig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Den andre gruppen går til det neste høyere bordet (fra N &gt;&gt;1)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7EDD-65A9-4C68-BDD8-EA01A34B76A0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A6B770-9906-49EE-B28D-73425CCF5553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nkurrans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å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st mulig poeng til egen side når resultatene sammenlig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beregnes s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rekkverdi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tgangsbonu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lill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nus for storeslem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ekkverdiene gies til det syvende stikket og oppov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for kløver og r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 for hjerter og spar og senere sti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 for første trekk i Gr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 4 dobler trekkverd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gang når meldt trekkverdi inklusive D eller RD er 100 eller 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9F77-CDDE-48AD-AE6E-31AA5D97AE0D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2B4582-ED02-45D1-BF88-36237AFD828D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oen turneringsbegrep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sgruppe i par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Alle par i gruppen som sitter i samme retning på et 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tchpoi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2 poeng for alle scorer i samme retning som er dårlig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1 poeng for alle lik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0 poeng for alle bedre scor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nternasjonale matchpoint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Forskjellen mellom to scorer avleses i en tab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/Datum etc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n gjennomsnittsscore (enten med alle eller uten topp og bunn) som score sammenlignes 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IMP across the fiel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ammenligning med alle bord evt. delt på antall sammenlign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1386-409F-4DB1-B8BB-8F3F1D1E76B0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14592-AA87-4AA7-B3B7-9D2C36F3DD13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ombinasjon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Oppse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eri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itchel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onra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coringsmet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MP  &gt;&gt;&gt; V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atchpoint mellom 2 bord brukes i ”Board a match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lle oppsettsmetoder kan kombineres med matchpoint eller med IMP (som butler eller across the f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andardoppsettene er serie (og matchpoint), men mye kan forsøk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FA9-7179-4CB3-B69D-4290FE90D9D9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A8CAE-475B-4015-92E2-3549A947584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ppsett av 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ltakeren med det høyeste nummeret sitter alltid på bord 1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 andre deltakerne flytter etter deltakeren med et nummer lavere (deltakeren med nest høyest nummer går etter nr 1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Høyest/lavest metod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I lagturnering og pa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1 (N)    – 1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2 (N-1) – 2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Bord 3 (N-2) – 3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erfekt balans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e i samme scoringsgruppe som et hvilket som helst annet par i halvparten av rund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alvparten hjemmekamper i lagturn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097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F975-FDDD-4A01-A4B6-C29FE4B16654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B924B-8F37-45A6-8EEE-EC1A63874245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andard lagserieoppset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Høyest / lavest metod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get som sitter på bord 1 har hjemmekamp i runde 1 til N/2 og bortekamp i resten av rund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dene spilles i rekkefølgen: 1, (n/2+1), 2, (n/2+2), 3, (n/2+3), 4, (n/2+4) …os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oppsettet gir at alle veksler mellom hjemmekamp og bortek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slik runde er en enkel serie og det er det vanlige i Bridgeturneri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4881-042D-4F54-9FB6-6FB30FCD5B2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846643-133F-49E3-977E-BDA4790598CC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21:50:37Z</dcterms:created>
  <dc:creator>Per Nordland</dc:creator>
  <dc:description/>
  <dc:language>en-US</dc:language>
  <cp:lastModifiedBy>Per Nordland</cp:lastModifiedBy>
  <dcterms:modified xsi:type="dcterms:W3CDTF">2002-06-02T07:46:51Z</dcterms:modified>
  <cp:revision>14</cp:revision>
  <dc:subject/>
  <dc:title>Turneringsformer</dc:title>
</cp:coreProperties>
</file>